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340-C092-4B22-8DAC-CAFFD61F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FDD-C7C1-4404-BEFC-15E15F0A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F64-ACAE-4B0E-AAF5-C9B90AC4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CA0-A285-48FE-892A-EB881E27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E06-83C3-4A66-A537-B17E8C26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699-5E3B-49E1-8858-35EFC0E5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450-0D7F-4A3F-88C6-178AC7D0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A75-A206-4A74-A266-FC77C740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8BC-087D-46CF-94B2-06D0061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186-64BB-4B18-8662-D229713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E76-6FB7-4BA5-BB38-07D8A1C3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F6E-DB14-44D7-A723-0D8D9BDE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3521-F80B-4C70-8E49-724700F5897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635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Calibri"/>
              </a:rPr>
              <a:t>点击输入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4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Calibri"/>
              </a:rPr>
              <a:t>公司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石油模板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石油模板石油模板石油模板石油模板石油模板石油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8:14:40Z</dcterms:created>
  <dc:creator>Admin</dc:creator>
  <dc:description/>
  <dc:language>en-US</dc:language>
  <cp:lastModifiedBy>Admin</cp:lastModifiedBy>
  <dcterms:modified xsi:type="dcterms:W3CDTF">2015-01-10T12:24:08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