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2D6FF-A096-483C-A9DF-8C9597102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0117A-1EB4-4CF6-B0BC-8242A4DB6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C67E4-D5C4-4324-B759-556F96214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02458-21B1-40A2-A868-0C790DB72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48224-F87E-4F64-A263-DCCC5CCB4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65C00-1259-4D28-9EB3-15040A01E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85BD8-64F2-4661-AC52-5D6E896E1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969CC-5185-4849-A435-24503A734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ED39C-F982-4B70-A5DC-5D2F4D556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A192A-D213-4B16-B300-F4E82AE6F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08B5B-3B34-4385-93FB-DEA434A7F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C10E8-DF6A-4F0C-B8A2-B5E330EE4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AA02B-4566-4419-BD01-359C560DC593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251F0-7E4F-49A5-8D1E-AC1EDB129205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Unicode MS"/>
              <a:ea typeface="Arial Unicode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6766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98989"/>
              </a:solidFill>
              <a:latin typeface="Arial Unicode MS"/>
              <a:ea typeface="Arial Unicode MS"/>
            </a:endParaRPr>
          </a:p>
        </p:txBody>
      </p:sp>
      <p:sp>
        <p:nvSpPr>
          <p:cNvPr id="43" name=""/>
          <p:cNvSpPr/>
          <p:nvPr/>
        </p:nvSpPr>
        <p:spPr>
          <a:xfrm>
            <a:off x="7156080" y="6310440"/>
            <a:ext cx="1831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28560" y="4104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Unicode MS"/>
              <a:ea typeface="Arial Unicode MS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85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hank you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322200" y="6383160"/>
            <a:ext cx="734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更多免费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PPT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9T02:59:00Z</dcterms:created>
  <dc:creator>Moyea Software</dc:creator>
  <dc:description>Made by Moyea Software. To find more free PowerPoint templates, please visit http://www.dvd-ppt-slideshow.com/powerpoint-knowledge/powerpoint-templates.html</dc:description>
  <cp:keywords>free PowerPoint template download PPT template PowerPoint templates slideshow template POT POTX Power Point template slide show template festival Market Market PowerPoint template</cp:keywords>
  <dc:language>en-US</dc:language>
  <cp:lastModifiedBy>Administrator</cp:lastModifiedBy>
  <dcterms:modified xsi:type="dcterms:W3CDTF">2015-01-10T12:37:49Z</dcterms:modified>
  <cp:revision>0</cp:revision>
  <dc:subject>PowerPoint template, Market</dc:subject>
  <dc:title>Moyea Free Market PowerPoint 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