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871-9751-4755-8EED-FC68A6F3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4E8-1151-4A68-824F-C3029ED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B5A-0888-4396-9F25-2BA23AB8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F5D-2F50-4E68-B9DA-00A19115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69F-8559-43A4-9AC6-2BD9E1EC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800-A3FF-46CA-95D0-318FDEF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8E6F-5EA6-4BDE-B4A7-E552E7A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3493-5CE5-4C41-BA2E-7A78DA4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BBC8-208F-48C1-BAEC-2C99533C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0631-CFE7-4445-90C9-2F16920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B98-8739-4865-9900-2F736DE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88F-AAB1-4BFD-86A5-3F5AB4F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DC59-E4FA-4644-9C3C-FFD27B9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16D1-F7D6-490D-AFAA-858091C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DAE8-A45E-4F50-B8A3-5D21240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6DE-2CA4-4F11-8D70-6BEBA573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8EA-760F-459C-9E80-92C83FED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C71-E135-4702-A779-C8BCDD4B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EAC-32D8-45F5-A651-9FB7B46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BEA-EE90-437E-AF2B-1EEFF6D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03D-EE1C-44A6-8DF5-A053A264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11A-ED08-4820-B585-07E27C4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8FF-6FA2-43BB-8178-CA73B52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92F-1AF6-494E-9383-87C7B8D1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跑道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5432-B345-4CC0-8352-4C42156360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跑道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838-0AFC-4B28-A52E-74BD701EC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Keep on walking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——</a:t>
            </a: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XXX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述职报告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"/>
          <p:cNvSpPr/>
          <p:nvPr/>
        </p:nvSpPr>
        <p:spPr>
          <a:xfrm>
            <a:off x="77486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82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2" autoRev="1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4" fill="hold">
                                          <p:stCondLst>
                                            <p:cond delay="34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2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模板中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，更换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权说明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此模板为免费模板，请不要用于任何形式的付费下载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1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3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3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1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50"/>
                            </p:stCondLst>
                            <p:childTnLst>
                              <p:par>
                                <p:cTn id="9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7">
                                  <p:stCondLst>
                                    <p:cond delay="6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37">
                                  <p:stCondLst>
                                    <p:cond delay="11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7">
                                  <p:stCondLst>
                                    <p:cond delay="15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7">
                                  <p:stCondLst>
                                    <p:cond delay="1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7">
                                  <p:stCondLst>
                                    <p:cond delay="2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7">
                                  <p:stCondLst>
                                    <p:cond delay="2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7">
                                  <p:stCondLst>
                                    <p:cond delay="3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7">
                                  <p:stCondLst>
                                    <p:cond delay="3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7">
                                  <p:stCondLst>
                                    <p:cond delay="4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细黑"/>
              </a:rPr>
              <a:t>感谢聆听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Thanks for your time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7:03Z</dcterms:created>
  <dc:creator/>
  <dc:description/>
  <dc:language>en-US</dc:language>
  <cp:lastModifiedBy>许多</cp:lastModifiedBy>
  <dcterms:modified xsi:type="dcterms:W3CDTF">2015-01-10T12:16:4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