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963525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11666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8000" y="3672720"/>
            <a:ext cx="11666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26520" y="160056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8000" y="367272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26520" y="367272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37566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880" y="1600560"/>
            <a:ext cx="37566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37760" y="1600560"/>
            <a:ext cx="37566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8000" y="3672720"/>
            <a:ext cx="37566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92880" y="3672720"/>
            <a:ext cx="37566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37760" y="3672720"/>
            <a:ext cx="37566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8000" y="1600560"/>
            <a:ext cx="11666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11666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569340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26520" y="1600560"/>
            <a:ext cx="569340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8000" y="272880"/>
            <a:ext cx="1166688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26520" y="1600560"/>
            <a:ext cx="569340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8000" y="367272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8000" y="1600560"/>
            <a:ext cx="11666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569340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26520" y="160056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26520" y="367272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26520" y="160056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8000" y="3672720"/>
            <a:ext cx="11666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11666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8000" y="3672720"/>
            <a:ext cx="11666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26520" y="160056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8000" y="367272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26520" y="367272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37566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2880" y="1600560"/>
            <a:ext cx="37566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37760" y="1600560"/>
            <a:ext cx="37566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8000" y="3672720"/>
            <a:ext cx="37566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92880" y="3672720"/>
            <a:ext cx="37566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37760" y="3672720"/>
            <a:ext cx="37566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11666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569340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26520" y="1600560"/>
            <a:ext cx="569340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8000" y="272880"/>
            <a:ext cx="1166688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26520" y="1600560"/>
            <a:ext cx="569340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8000" y="367272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569340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6520" y="160056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26520" y="367272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8000" y="160056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6520" y="1600560"/>
            <a:ext cx="56934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8000" y="3672720"/>
            <a:ext cx="116668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8000" y="1600560"/>
            <a:ext cx="11666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8000" y="272880"/>
            <a:ext cx="1166688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48000" y="1600560"/>
            <a:ext cx="11666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640" y="2125800"/>
            <a:ext cx="1101888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944360" y="3876480"/>
            <a:ext cx="9072360" cy="17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74520" y="6300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280" y="274680"/>
            <a:ext cx="116665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7280" y="1596600"/>
            <a:ext cx="116665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12001680" cy="6840360"/>
            <a:chOff x="0" y="0"/>
            <a:chExt cx="12001680" cy="6840360"/>
          </a:xfrm>
        </p:grpSpPr>
        <p:sp>
          <p:nvSpPr>
            <p:cNvPr id="82" name="矩形 4"/>
            <p:cNvSpPr/>
            <p:nvPr/>
          </p:nvSpPr>
          <p:spPr>
            <a:xfrm>
              <a:off x="222768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0000"/>
              <a:ext cx="12001680" cy="51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7"/>
            <p:cNvSpPr/>
            <p:nvPr/>
          </p:nvSpPr>
          <p:spPr>
            <a:xfrm rot="20926800">
              <a:off x="2664000" y="3567960"/>
              <a:ext cx="661608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08:21:24Z</dcterms:created>
  <dc:creator>qh003</dc:creator>
  <dc:description/>
  <dc:language>en-US</dc:language>
  <cp:lastModifiedBy>qh003</cp:lastModifiedBy>
  <dcterms:modified xsi:type="dcterms:W3CDTF">2015-01-10T12:46:39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