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ACA-D54B-48AF-A7FC-96232682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298-0815-4ED8-A4D3-BD4AEB66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BDD-9BB4-402F-9807-2E551F7E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B41-8704-4E4D-A708-68B7C3A5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CC73-2431-4726-8FEF-DFAF7B11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5B62-E9E1-4807-BDF0-5C35B8E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44D8-9760-4798-B8AF-F95693BD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C937-6AB1-4BC7-873C-452DF1E5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8626-C0C9-4109-B6D9-3F534487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B09F-0502-4963-B725-9BB9C379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BF4E-DA61-4162-9A3F-A50BDE65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6F6-2011-43AF-B1CB-8BAE29D7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ED93-FF6E-44C0-B1C1-772ED50F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C0DD-24CD-4298-992E-89D5840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D67-180F-4AD9-8A67-DE4D0198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D8C1-8497-4077-AD9E-B9763951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AC3A-59DE-468A-A026-0BB0D11C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EEE-88AD-4800-8D47-4AF95E5E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CA8-EC2C-4D90-B245-FD92D668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20E-E20B-4C57-A40C-38A85205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981-A4D2-459C-A051-ACC1F3ED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7F8-C2DE-4710-BF82-51AD1249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B01-E50C-4C4D-8E8F-D0EE796F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B39-6DCF-4ADC-8E95-BE81555D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6600"/>
            <a:ext cx="2133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c3e42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c3e42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6600"/>
            <a:ext cx="28958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76600"/>
            <a:ext cx="2133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c3e4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3B27-DD01-4403-B584-B1144B63978E}" type="slidenum">
              <a:rPr b="0" lang="en-US" sz="1100" spc="-1" strike="noStrike">
                <a:solidFill>
                  <a:srgbClr val="3c3e42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3e4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6892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c3e42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c3e42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6892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6892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c3e42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EE36-CC87-4BCC-8AC4-5D42DFEE2F65}" type="slidenum">
              <a:rPr b="0" lang="en-US" sz="1100" spc="-1" strike="noStrike">
                <a:solidFill>
                  <a:srgbClr val="3c3e42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4764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7f"/>
                </a:solidFill>
                <a:latin typeface="宋体"/>
                <a:ea typeface="宋体"/>
              </a:rPr>
              <a:t>跳动的旋律</a:t>
            </a:r>
            <a:r>
              <a:rPr b="0" lang="zh-CN" sz="3200" spc="-1" strike="noStrike">
                <a:solidFill>
                  <a:srgbClr val="42557f"/>
                </a:solidFill>
                <a:latin typeface="宋体"/>
                <a:ea typeface="宋体"/>
              </a:rPr>
              <a:t>音乐</a:t>
            </a:r>
            <a:r>
              <a:rPr b="0" lang="zh-CN" sz="3200" spc="-1" strike="noStrike">
                <a:solidFill>
                  <a:srgbClr val="42557f"/>
                </a:solidFill>
                <a:latin typeface="宋体"/>
                <a:ea typeface="宋体"/>
              </a:rPr>
              <a:t>PPT</a:t>
            </a:r>
            <a:r>
              <a:rPr b="0" lang="en-US" sz="3200" spc="-1" strike="noStrike">
                <a:solidFill>
                  <a:srgbClr val="42557f"/>
                </a:solidFill>
                <a:latin typeface="宋体"/>
                <a:ea typeface="宋体"/>
              </a:rPr>
              <a:t>模板</a:t>
            </a:r>
            <a:endParaRPr b="0" lang="en-US" sz="3200" spc="-1" strike="noStrike">
              <a:solidFill>
                <a:srgbClr val="3c3e42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755760" y="6165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75c01"/>
              </a:solidFill>
              <a:latin typeface="Verdana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d261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d261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d261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37:54Z</dcterms:created>
  <dc:creator/>
  <dc:description/>
  <dc:language>en-US</dc:language>
  <cp:lastModifiedBy/>
  <dcterms:modified xsi:type="dcterms:W3CDTF">2015-01-10T11:58:1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3626412052</vt:lpwstr>
  </property>
</Properties>
</file>