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B9B2-7BF3-4B77-88BE-CD3362DE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4D5A-476B-4E7B-A480-F36CC14B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7151-1483-41E9-8D75-E16FB40E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421E-FF4C-4D94-8FDD-75F66427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85721-FFDD-4408-9226-8FA5A587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2B25A-D173-4204-B838-90FE9E7D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DDF5F-71E7-4A24-BCCD-3BB96B25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59BCF-0853-418E-B1DD-AC1113F5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DC84C-8570-4605-8856-5644C29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3785E-0CA2-4864-BBBD-9B7483BB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04C3E-8E90-4D9D-B038-A4DF85DD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878FE-BD26-4FDE-BB72-527350C4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18E0E-12EB-4C9F-A378-F3D44EEC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E87AB-EC08-4C8B-B539-7D24D6BC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2389C-BD32-495B-9B45-1E5330BB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7B653-7931-4DB3-9AB1-0AFB8328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FF3BC-0927-4B00-8BC0-9202970B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05A51-4E22-4484-BBFE-1173B94BA2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60EB5-5557-4A4D-B9D3-D06689C7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CCB35-6EA9-4AE6-AD3D-8CB7FE8C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CD726-3ADC-4AD0-8E25-91B8A13A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E0FB7-79BC-4C31-B928-3C9E61FA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E641-C5D6-4DFA-9031-69382958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B73CB-669D-4980-924E-1C2584CD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6CF56-131F-4421-B60F-10CE2D8B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CD13F-F10C-4AB4-8997-92A06263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B7ED4-3324-4154-80C7-04B27936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F6E6A-ED6F-4E21-A4A5-8FBDF828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BB66E-8D08-453F-87DB-A8BED28F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738EC-A692-412E-BDB1-DA4FC52FA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AE22-C3A2-406D-B6B8-088F0022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1F14-1999-4154-A9B2-C90ECBEB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821D-97B0-4191-AD70-F5A844BD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971F-A54F-4D61-8077-497A228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3FD5-C404-42BC-843A-FD80760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08FD-13C3-4E2F-BC23-FC977B6D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7610-02DB-44F1-8FCE-DB9205364051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9DE0-3106-46FF-ABEF-BC9051F73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9265-607F-46D7-9192-09645341F61C}" type="slidenum">
              <a:rPr b="0" lang="en-US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标题 1" descr=""/>
          <p:cNvPicPr/>
          <p:nvPr/>
        </p:nvPicPr>
        <p:blipFill>
          <a:blip r:embed="rId2"/>
          <a:srcRect l="7507" t="20181" r="13690" b="9148"/>
          <a:stretch/>
        </p:blipFill>
        <p:spPr>
          <a:xfrm>
            <a:off x="755640" y="1919160"/>
            <a:ext cx="4905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9:33:35Z</dcterms:created>
  <dc:creator/>
  <dc:description/>
  <dc:language>en-US</dc:language>
  <cp:lastModifiedBy/>
  <dcterms:modified xsi:type="dcterms:W3CDTF">2015-01-11T13:59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