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7EE-0EE6-4420-B953-FAA846F0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73B-9DFE-4044-8E9A-8853B7E2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EC4-EC9B-42EB-92EF-FF261B9B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864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528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864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528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7EB-A807-426F-867C-4AB03962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CFD-0EF7-4E67-9E63-C8EC86D4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465-3F65-4582-A859-080ABA1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BB75-6E6A-464D-B50C-3530309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F66-0653-45B2-8176-0A03AEF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09B7-3103-4BF2-AD7A-0CF857B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89F9-A63D-411A-BEDF-26FE055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B83F-3EF2-4805-8533-C0F2242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61F-32D2-4014-A160-B29ABF00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E076-4330-413A-AF7F-2BAA65B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19A5-27A5-4C64-8D31-412C130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5007-AFA0-4927-8934-6E0CD2D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273-C2A9-4F1B-9AFA-4334E326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864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7528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864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7528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04F-4DBC-4EB8-8ECF-44B2C418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5D68-C7FB-4773-9945-F3B5EEDD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884C-F091-4928-B564-836A015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D0A4-65D9-4242-9A3F-1E97D00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093A-497D-4596-B030-BCA2E24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9B32-C485-4D4A-945D-A2B02D6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94C-0348-4FC7-81C7-589C0144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E474-6DCF-4425-A5A3-FE32F80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1763-F3D9-4FAB-B034-30F8E36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1742-2E6D-4A7B-BE70-41A4FFF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11C1-5CF4-4DC6-AEAF-C95AB237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89F3-F9DB-4C81-B37A-1E7310D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9398-F9E5-4307-8E15-B8D163D6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864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75280" y="160020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864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875280" y="3964320"/>
            <a:ext cx="30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0AFC-E310-44A9-B7E0-29281B67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3CB-1133-4790-A2BE-0C01832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A40-0872-4717-AFFF-AAB23D5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990-5BE3-4814-B47F-14DA139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F56-6325-4B70-9C88-70C802E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6280" y="396432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7B5-1043-40AC-9C83-9AE9688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6280" y="1600200"/>
            <a:ext cx="458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9F9-D34C-4443-9848-61855FDE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未标题-12" descr=""/>
          <p:cNvPicPr/>
          <p:nvPr/>
        </p:nvPicPr>
        <p:blipFill>
          <a:blip r:embed="rId2"/>
          <a:stretch/>
        </p:blipFill>
        <p:spPr>
          <a:xfrm>
            <a:off x="3240" y="0"/>
            <a:ext cx="104378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152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3731-621A-4DB0-9F15-9FD7AA8B0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未标题-13" descr=""/>
          <p:cNvPicPr/>
          <p:nvPr/>
        </p:nvPicPr>
        <p:blipFill>
          <a:blip r:embed="rId2"/>
          <a:stretch/>
        </p:blipFill>
        <p:spPr>
          <a:xfrm>
            <a:off x="1440" y="-20520"/>
            <a:ext cx="1043784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66880" y="6244920"/>
            <a:ext cx="330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8152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0A7E-30D9-4D9D-8904-53F40BED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0" r="7750" b="0"/>
          <a:stretch/>
        </p:blipFill>
        <p:spPr>
          <a:xfrm>
            <a:off x="3240" y="3240"/>
            <a:ext cx="10474200" cy="688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66880" y="6244920"/>
            <a:ext cx="330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48152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D720-B333-4C07-92C0-B0CC5339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172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3640" y="4149360"/>
            <a:ext cx="6210360" cy="11430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666360" cy="6858000"/>
            <a:chOff x="0" y="0"/>
            <a:chExt cx="9666360" cy="6858000"/>
          </a:xfrm>
        </p:grpSpPr>
        <p:sp>
          <p:nvSpPr>
            <p:cNvPr id="131" name="矩形 4"/>
            <p:cNvSpPr/>
            <p:nvPr/>
          </p:nvSpPr>
          <p:spPr>
            <a:xfrm>
              <a:off x="11383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66636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2191320" y="3572280"/>
              <a:ext cx="5328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9:07Z</dcterms:created>
  <dc:creator>Administrator</dc:creator>
  <dc:description/>
  <dc:language>en-US</dc:language>
  <cp:lastModifiedBy/>
  <dcterms:modified xsi:type="dcterms:W3CDTF">2015-01-10T11:57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