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7B7-130C-4936-B809-30072625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640" y="387576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484-75F1-457C-84CF-E4B50989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152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4F5-E849-46DB-96F8-8A4EA177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356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864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356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491-9911-4C97-B936-3C409BCB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F0B1-E4E3-4A3E-A202-E840966E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BC96-BA97-4580-ADE8-48FFDB17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DCE6-7C97-4147-A870-C6FF8E8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239D-6D52-4B95-B53D-7CB82CAD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D7C8-0586-4F5A-B85C-E6FA2421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773080" y="117360"/>
            <a:ext cx="614196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8F48-E0D9-4C34-8634-90AB43C5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C101-3065-40B3-B79A-70C3D68C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706-B5B2-490A-80DE-7D9C9B21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152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C892-5508-4D65-ABF2-A8592DD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B282-C939-4109-8CF9-E885EA86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640" y="387576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F4F8-195B-4483-994A-9812AE0B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152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1930-E416-407E-90B3-7E4A8E2E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92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356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864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92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356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0D34-00B2-43DB-8105-1CDD65F0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749-B347-4F5F-B899-41816F16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83B-11C0-4222-BD23-B6ACF162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0B5-5AD9-4747-A307-DCE8831B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73080" y="117360"/>
            <a:ext cx="614196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A0A-F555-459D-B419-CFBFF16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013-2BD1-45EA-887B-60FBBDF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152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CAF-C664-432D-9670-CA95E7F9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C81-3712-4956-86A4-85B6B45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矩形 6" descr=""/>
          <p:cNvPicPr/>
          <p:nvPr/>
        </p:nvPicPr>
        <p:blipFill>
          <a:blip r:embed="rId2"/>
          <a:stretch/>
        </p:blipFill>
        <p:spPr>
          <a:xfrm>
            <a:off x="-68400" y="-68400"/>
            <a:ext cx="9291600" cy="2482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F041-E2B5-45C0-AD12-DF7232924F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8" descr="1.png"/>
          <p:cNvPicPr/>
          <p:nvPr/>
        </p:nvPicPr>
        <p:blipFill>
          <a:blip r:embed="rId3"/>
          <a:stretch/>
        </p:blipFill>
        <p:spPr>
          <a:xfrm>
            <a:off x="-71280" y="-71280"/>
            <a:ext cx="2965320" cy="1271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68400" y="-184320"/>
            <a:ext cx="9291600" cy="3719520"/>
            <a:chOff x="-68400" y="-184320"/>
            <a:chExt cx="9291600" cy="3719520"/>
          </a:xfrm>
        </p:grpSpPr>
        <p:pic>
          <p:nvPicPr>
            <p:cNvPr id="44" name="矩形 7" descr=""/>
            <p:cNvPicPr/>
            <p:nvPr/>
          </p:nvPicPr>
          <p:blipFill>
            <a:blip r:embed="rId3"/>
            <a:stretch/>
          </p:blipFill>
          <p:spPr>
            <a:xfrm>
              <a:off x="-68400" y="-184320"/>
              <a:ext cx="9291600" cy="37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0440" y="-106560"/>
              <a:ext cx="9132840" cy="35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2966-E72C-48B1-B5DF-475780E0F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甜蜜爱情心型糖果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708048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黑体"/>
              </a:rPr>
              <a:t>感谢您的关注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9:03:33Z</dcterms:created>
  <dc:creator/>
  <dc:description/>
  <dc:language>en-US</dc:language>
  <cp:lastModifiedBy>dell</cp:lastModifiedBy>
  <dcterms:modified xsi:type="dcterms:W3CDTF">2015-01-10T09:09:53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