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927-85EE-4EAF-896E-8B0E0BBB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41F-8212-4DB3-AD2D-587038C1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608-3C79-4F04-A34C-170DC9E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99B-E5DC-46DE-BA06-5B426D50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D75-154C-43F6-9F19-FD3E262B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585-2D75-439A-AEE6-3CC7ABA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11F-FE9A-4D17-9628-F74D313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39F-1D83-4679-A921-2446F1D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AE2-5807-4DDA-A6FF-CCAA6273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893-E1E3-4A4E-AF31-C80CD99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E14-E1A6-45AE-82D6-B8FDE4C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E67-4629-4A69-B2A3-AA609499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0ff44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d0ff4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d0ff44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d0ff44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EAE-374F-46E4-A822-0B7D4465E253}" type="datetime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F02-C07D-4EB6-BD4E-6D7B3F5B7F46}" type="slidenum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221000"/>
            <a:ext cx="9144000" cy="18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661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898989"/>
              </a:solidFill>
              <a:latin typeface="Palatino Linotype"/>
            </a:endParaRPr>
          </a:p>
        </p:txBody>
      </p:sp>
      <p:sp>
        <p:nvSpPr>
          <p:cNvPr id="44" name=""/>
          <p:cNvSpPr/>
          <p:nvPr/>
        </p:nvSpPr>
        <p:spPr>
          <a:xfrm>
            <a:off x="6134760" y="64404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fff43"/>
              </a:buClr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48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55:00Z</dcterms:created>
  <dc:creator>果因PPT工作室</dc:creator>
  <dc:description/>
  <cp:keywords>XS-普屏 4：3;SC-淡绿色;BG-浅色;DH-静态</cp:keywords>
  <dc:language>en-US</dc:language>
  <cp:lastModifiedBy>田士庆</cp:lastModifiedBy>
  <dcterms:modified xsi:type="dcterms:W3CDTF">2015-01-11T13:55:27Z</dcterms:modified>
  <cp:revision>7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