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7BE-5F6B-4837-8B29-289D5285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E1D-5D83-4932-8A56-D0031EAC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4D2-B4D5-4272-857D-859B7512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460-FC21-4860-BEA0-DBE2BACF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0B5-380D-4467-990B-E592C514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254-D139-495C-BCA0-2569BE38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B9F-2AF3-49BB-8E41-C5D6ADFB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E35-A12E-4711-9F48-31789AF7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36E-A442-435A-9424-2C70DC07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3CD-B886-46BE-B7F6-767C2310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990-3618-4CDB-BE4D-C0D6C10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D2A-E0D7-4E37-8E8E-2ABBF6D8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52FF-1D84-4B70-A6C9-A81D7EDCED4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033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050960" y="62928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04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7050960" y="62928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2760" y="999720"/>
            <a:ext cx="62866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499840" y="2999880"/>
            <a:ext cx="618660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Adipiscing elit Viv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Adipiscing elit Viv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Consectetuer adipiscing e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onsectetuer adipiscing e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3:52:08Z</dcterms:created>
  <dc:creator/>
  <dc:description/>
  <dc:language>en-US</dc:language>
  <cp:lastModifiedBy>Éric Vadeboncoeur</cp:lastModifiedBy>
  <dcterms:modified xsi:type="dcterms:W3CDTF">2015-01-10T11:58:4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