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2831-3ED1-48F2-BE78-6478ADAEF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4FEB-E615-4057-B919-380172BAC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87C3-D479-42DF-A720-9EA13DFEA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E703-7334-4447-B095-FD4B31F03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0BE27-76A3-469F-A33E-094D08BFD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9E13A-00FB-4318-A317-C32914FDB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A803A-D263-4CD7-AD05-13F29F0A6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8112C-679D-4134-9A40-3691A1A51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B241E-60B7-42F3-97B7-BEBF1B84E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9ED53-FC50-4261-AC7B-6A5B4C0D3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99915-71F2-453E-9D9D-447AF3F90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CACF-14C8-4D67-B718-51891F550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6C69C-2CD9-4896-9445-87F59384B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D6256-E5ED-4185-8C91-BEABB008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8518B-2EED-47E0-85D0-07E27B1FD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E1662-5C46-46F4-8D1C-8B5980BCD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4206F-E433-406E-8713-99BAD4453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4DA7-78F9-4663-8AB7-F2B5029E7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79D4-D440-4D75-A41F-7600CD9C4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2BC9-4F8C-40E8-922C-68113C3AA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16DD-DA12-40DA-82D0-3C89E0272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86CE-9D7B-427A-B3D2-C48CF77B0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0474-B7AC-41AE-82A7-C5546296A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E77B-7964-4E17-9D04-96CB1AF43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C5342-9A95-4BE9-A911-4A5E3AA585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2CE46-0474-496A-B82E-E0577D36A8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roadway BT"/>
                <a:ea typeface="宋体"/>
              </a:rPr>
              <a:t>太阳公公</a:t>
            </a:r>
            <a:r>
              <a:rPr b="1" lang="zh-CN" sz="4400" spc="-1" strike="noStrike">
                <a:solidFill>
                  <a:srgbClr val="000000"/>
                </a:solidFill>
                <a:latin typeface="Broadway BT"/>
                <a:ea typeface="宋体"/>
              </a:rPr>
              <a:t>PPT</a:t>
            </a:r>
            <a:r>
              <a:rPr b="1" lang="en-US" sz="4400" spc="-1" strike="noStrike">
                <a:solidFill>
                  <a:srgbClr val="000000"/>
                </a:solidFill>
                <a:latin typeface="Broadway BT"/>
                <a:ea typeface="宋体"/>
              </a:rPr>
              <a:t>演示模板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9528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 BT"/>
                <a:ea typeface="宋体"/>
              </a:rPr>
              <a:t>Sub Title 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07400" y="63817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Slide P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-4752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----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EEPPT.COM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模板免费下载。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WWW.EEPPT.COM-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让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2T18:19:01Z</dcterms:created>
  <dc:creator/>
  <dc:description/>
  <dc:language>en-US</dc:language>
  <cp:lastModifiedBy>king</cp:lastModifiedBy>
  <dcterms:modified xsi:type="dcterms:W3CDTF">2015-01-10T08:52:14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