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C779-B334-4256-ACB9-C78EE01FD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52480" y="41166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6E55-B3AC-4103-B419-A34C31528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056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5630-B244-47EE-91D2-12C6455C0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716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184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5248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9716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184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ED29-274D-49C2-B21E-261B11328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5248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B77E-F821-413F-9AD0-59C993603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056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752480" y="41166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056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9716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184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75248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09716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4184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019E-ACD4-4157-8077-076E3369A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8D59-DD21-4BF4-9FEE-2BD096127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58DD-5003-4D5B-B2A2-E67918DB9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0027-5E8F-47E4-90D1-3FD2F0C25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BAA2-6460-430D-AB68-3DD9C7D73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056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96FB-7E71-4C8F-AD6D-11DCC3241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3955-C4CF-4C3A-A6AD-84FFEE544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Arial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292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007E-6552-4CAF-A9D7-0C3D5A259420}" type="slidenum"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75248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Arial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30240" y="4573440"/>
            <a:ext cx="50277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830240" y="5638680"/>
            <a:ext cx="5027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灯片编号占位符 3"/>
          <p:cNvSpPr/>
          <p:nvPr/>
        </p:nvSpPr>
        <p:spPr>
          <a:xfrm>
            <a:off x="6553080" y="6353280"/>
            <a:ext cx="2133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D6D0-B9D8-4D15-A09C-FAEC3188FE48}" type="slidenum"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8480" y="274320"/>
            <a:ext cx="66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040" y="175248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4" descr="http://www.elixirinteractive.com/LookFeel/elixirinteractive.com/images/headers/brand-awareness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9T05:14:25Z</dcterms:created>
  <dc:creator/>
  <dc:description/>
  <dc:language>en-US</dc:language>
  <cp:lastModifiedBy>guoyan</cp:lastModifiedBy>
  <dcterms:modified xsi:type="dcterms:W3CDTF">2015-01-11T14:03:02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