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D2E-BBFA-4163-AD85-6860193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419-516C-4E3B-BFCE-83261AA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A3B-DA12-4E05-A061-148CE997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7CF-0FC6-4414-A80E-E65B6114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E2F-86D4-4022-85DB-27D233B0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BBD0-7DFB-4C8E-8E64-7A95D1D3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F3DB-DA41-4DA8-8234-C2B66A34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C14B-3546-425E-B579-50AE57D2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BED2-9D5B-4E36-87BD-ECF757D2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10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A3A4-F7AD-4892-8991-AF104DAF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FD38-DCE4-4762-AE9A-51C25D4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C7D-A511-4B7D-882E-6FF8771B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831-15C5-4B55-9829-90635C6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6C5-7DB4-4FD3-A3BC-98F4BCFB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8CA-70F1-4927-814A-63A2AC4E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8C0-9272-44EB-838C-ECC7E40A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70CB-F5C1-471B-9A77-0E201202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A60-2B62-4778-AEF3-0B24B7D7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0DC-7C7C-4D09-BC70-2B2F09A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C1E-4313-4049-8AC1-15E66B76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10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CFF-B831-4E1C-900F-D59EE173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1A0-0143-42A3-8048-B6AA1F7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07D-8290-4F33-85C7-74CA754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EC2-DBD4-4D0B-B736-DC2D38C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7640"/>
            <a:ext cx="9144000" cy="1435320"/>
          </a:xfrm>
          <a:prstGeom prst="rect">
            <a:avLst/>
          </a:prstGeom>
          <a:solidFill>
            <a:srgbClr val="243a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840" y="6742080"/>
            <a:ext cx="9128160" cy="11592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-6480"/>
            <a:ext cx="9144000" cy="10656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3B3A-E4B7-4025-B56C-232A1FDF8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6E66-0ECD-485A-9391-6FC3BE8CA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通用模板之蓝色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75868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311880"/>
            <a:ext cx="62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2Z</dcterms:created>
  <dc:creator/>
  <dc:description/>
  <dc:language>en-US</dc:language>
  <cp:lastModifiedBy/>
  <dcterms:modified xsi:type="dcterms:W3CDTF">2015-01-10T11:55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