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E3B-35CF-4874-A5CA-E457788F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1F8-68AA-469E-BFDE-FC669FB2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9E4-93EB-40A9-BF33-E25B7797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DB8-16C9-49CA-8643-23A7111D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A32F-9BB1-4A79-8296-91513CD4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D8C1-14CF-4D0B-A227-A2B59C4F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E2A0-F972-4A09-A817-2717DB2A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B405-742A-4495-A091-AD96C78A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CC15-00C1-4CF1-B24B-4CB608D9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FAB6-73D5-43AB-ACFD-50BE80EF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2A68-170A-405C-8381-F70E4627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D8A-E94E-42E3-8669-639B7C37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1D93-09DA-42B9-9625-068C9EA4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6065-E9DA-4466-A203-DA41854B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50C2-E5B3-46F6-A981-D4F914AF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F945-1705-4448-8F87-2921C181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A460-9C98-4C28-9523-B77E5CDD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86D-BD46-48E0-8942-DDC99407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47B-5E3B-4322-A3A4-DAFEBFA3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5E1-E1C3-47F3-8193-7F77E117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6B6-6D1E-4C54-82E0-60C20AAE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356-7728-4676-8CFF-3E798515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03E-F295-4998-B0E3-7559F1F5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747-B9A4-4A2B-9BBD-58C7B693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Wave8.png"/>
          <p:cNvPicPr/>
          <p:nvPr/>
        </p:nvPicPr>
        <p:blipFill>
          <a:blip r:embed="rId2"/>
          <a:stretch/>
        </p:blipFill>
        <p:spPr>
          <a:xfrm>
            <a:off x="0" y="3292560"/>
            <a:ext cx="8461440" cy="3449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Wave11.png"/>
          <p:cNvPicPr/>
          <p:nvPr/>
        </p:nvPicPr>
        <p:blipFill>
          <a:blip r:embed="rId3"/>
          <a:stretch/>
        </p:blipFill>
        <p:spPr>
          <a:xfrm>
            <a:off x="2103480" y="3730680"/>
            <a:ext cx="7040520" cy="3139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Wave2.png"/>
          <p:cNvPicPr/>
          <p:nvPr/>
        </p:nvPicPr>
        <p:blipFill>
          <a:blip r:embed="rId4"/>
          <a:stretch/>
        </p:blipFill>
        <p:spPr>
          <a:xfrm>
            <a:off x="-7920" y="0"/>
            <a:ext cx="5365800" cy="646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6" descr="Wave1.png"/>
          <p:cNvPicPr/>
          <p:nvPr/>
        </p:nvPicPr>
        <p:blipFill>
          <a:blip r:embed="rId5"/>
          <a:stretch/>
        </p:blipFill>
        <p:spPr>
          <a:xfrm>
            <a:off x="-7920" y="-19080"/>
            <a:ext cx="5365800" cy="555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3" descr="Wave8.png"/>
          <p:cNvPicPr/>
          <p:nvPr/>
        </p:nvPicPr>
        <p:blipFill>
          <a:blip r:embed="rId6"/>
          <a:stretch/>
        </p:blipFill>
        <p:spPr>
          <a:xfrm>
            <a:off x="0" y="3187800"/>
            <a:ext cx="9144000" cy="363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Wave8.png"/>
          <p:cNvPicPr/>
          <p:nvPr/>
        </p:nvPicPr>
        <p:blipFill>
          <a:blip r:embed="rId7"/>
          <a:stretch/>
        </p:blipFill>
        <p:spPr>
          <a:xfrm>
            <a:off x="0" y="3236760"/>
            <a:ext cx="9144000" cy="363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Wave10.png"/>
          <p:cNvPicPr/>
          <p:nvPr/>
        </p:nvPicPr>
        <p:blipFill>
          <a:blip r:embed="rId8"/>
          <a:stretch/>
        </p:blipFill>
        <p:spPr>
          <a:xfrm>
            <a:off x="0" y="4479840"/>
            <a:ext cx="9144000" cy="2103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5" descr="Wave9.png"/>
          <p:cNvPicPr/>
          <p:nvPr/>
        </p:nvPicPr>
        <p:blipFill>
          <a:blip r:embed="rId9"/>
          <a:stretch/>
        </p:blipFill>
        <p:spPr>
          <a:xfrm>
            <a:off x="5827680" y="3591000"/>
            <a:ext cx="3316320" cy="13413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6" descr="Wave6.png"/>
          <p:cNvPicPr/>
          <p:nvPr/>
        </p:nvPicPr>
        <p:blipFill>
          <a:blip r:embed="rId10"/>
          <a:stretch/>
        </p:blipFill>
        <p:spPr>
          <a:xfrm>
            <a:off x="-14400" y="4968720"/>
            <a:ext cx="4476960" cy="809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8" descr="Wave3.png"/>
          <p:cNvPicPr/>
          <p:nvPr/>
        </p:nvPicPr>
        <p:blipFill>
          <a:blip r:embed="rId11"/>
          <a:stretch/>
        </p:blipFill>
        <p:spPr>
          <a:xfrm>
            <a:off x="-160200" y="2852640"/>
            <a:ext cx="9566280" cy="2822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9" descr="Wave11.png"/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2590920" y="3260880"/>
            <a:ext cx="6553080" cy="36115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87FD-1512-44A0-BA3A-ED527D9C4CD2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Wave8.png"/>
          <p:cNvPicPr/>
          <p:nvPr/>
        </p:nvPicPr>
        <p:blipFill>
          <a:blip r:embed="rId2"/>
          <a:stretch/>
        </p:blipFill>
        <p:spPr>
          <a:xfrm>
            <a:off x="49320" y="0"/>
            <a:ext cx="112716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Wave8.png"/>
          <p:cNvPicPr/>
          <p:nvPr/>
        </p:nvPicPr>
        <p:blipFill>
          <a:blip r:embed="rId3"/>
          <a:stretch/>
        </p:blipFill>
        <p:spPr>
          <a:xfrm>
            <a:off x="-55440" y="0"/>
            <a:ext cx="11952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Wave8.png"/>
          <p:cNvPicPr/>
          <p:nvPr/>
        </p:nvPicPr>
        <p:blipFill>
          <a:blip r:embed="rId4"/>
          <a:stretch/>
        </p:blipFill>
        <p:spPr>
          <a:xfrm>
            <a:off x="-123840" y="0"/>
            <a:ext cx="1197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Wave10.png"/>
          <p:cNvPicPr/>
          <p:nvPr/>
        </p:nvPicPr>
        <p:blipFill>
          <a:blip r:embed="rId5"/>
          <a:stretch/>
        </p:blipFill>
        <p:spPr>
          <a:xfrm>
            <a:off x="-98280" y="0"/>
            <a:ext cx="9396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Wave11.png"/>
          <p:cNvPicPr/>
          <p:nvPr/>
        </p:nvPicPr>
        <p:blipFill>
          <a:blip r:embed="rId6"/>
          <a:stretch/>
        </p:blipFill>
        <p:spPr>
          <a:xfrm>
            <a:off x="-98280" y="5437080"/>
            <a:ext cx="9242280" cy="1433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EF04-E559-4B62-BD67-5FE2241DBA01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17160" y="2116080"/>
            <a:ext cx="86360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orbel"/>
              </a:rPr>
              <a:t>通用纹理之大气</a:t>
            </a:r>
            <a:r>
              <a:rPr b="0" lang="zh-CN" sz="3200" spc="-1" strike="noStrike">
                <a:solidFill>
                  <a:srgbClr val="17375e"/>
                </a:solidFill>
                <a:latin typeface="Corbel"/>
                <a:ea typeface="宋体"/>
              </a:rPr>
              <a:t>PPT</a:t>
            </a:r>
            <a:r>
              <a:rPr b="0" lang="en-US" sz="3200" spc="-1" strike="noStrike">
                <a:solidFill>
                  <a:srgbClr val="17375e"/>
                </a:solidFill>
                <a:latin typeface="Corbe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"/>
          <p:cNvSpPr/>
          <p:nvPr/>
        </p:nvSpPr>
        <p:spPr>
          <a:xfrm>
            <a:off x="6684120" y="630396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rbe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Corbel"/>
                <a:ea typeface="黑体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Corbe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Corbe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000080" y="274680"/>
            <a:ext cx="7686720" cy="1182600"/>
            <a:chOff x="1000080" y="274680"/>
            <a:chExt cx="7686720" cy="1182600"/>
          </a:xfrm>
        </p:grpSpPr>
        <p:pic>
          <p:nvPicPr>
            <p:cNvPr id="101" name="Title 1" descr=""/>
            <p:cNvPicPr/>
            <p:nvPr/>
          </p:nvPicPr>
          <p:blipFill>
            <a:blip r:embed="rId1"/>
            <a:stretch/>
          </p:blipFill>
          <p:spPr>
            <a:xfrm>
              <a:off x="1000080" y="274680"/>
              <a:ext cx="76867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1000080" y="274680"/>
              <a:ext cx="7686720" cy="11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1201680" y="1417320"/>
            <a:ext cx="74851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ubtex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pic>
          <p:nvPicPr>
            <p:cNvPr id="1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3:18:09Z</dcterms:created>
  <dc:creator>我爱PPT官方网 - 中文演示设计平台 www.iloveppt.org</dc:creator>
  <dc:description>我爱PPT官方网 - 中文演示设计平台 www.iloveppt.org</dc:description>
  <cp:keywords>我爱PPT官方网 - 中文演示设计平台 www.iloveppt.org</cp:keywords>
  <dc:language>en-US</dc:language>
  <cp:lastModifiedBy>rachel</cp:lastModifiedBy>
  <dcterms:modified xsi:type="dcterms:W3CDTF">2015-01-10T08:30:19Z</dcterms:modified>
  <cp:revision>1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300049909990</vt:lpwstr>
  </property>
</Properties>
</file>