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40374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0374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400" y="40374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800" y="16300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16300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40374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800" y="40374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40374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360" y="16300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360" y="40374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6300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400" y="40374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0374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360" y="40374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0374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400" y="40374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800" y="16300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33240" y="16300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60" y="40374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800" y="40374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33240" y="40374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40374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400" y="40374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300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40374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300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40000" y="4792680"/>
            <a:ext cx="6337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40000" y="5097240"/>
            <a:ext cx="63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284360" y="5877000"/>
            <a:ext cx="4390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97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300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5301720"/>
            <a:ext cx="63374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10T12:03:09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