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34E-80F2-4379-A183-6F593984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4E6-12BA-436B-BB34-851F3E9A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79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E93-A845-42CE-BCC4-B23C9DAD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33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58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333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58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263-8EFA-4B98-BA5A-BDB55B0D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3E4-1FB6-468B-A721-DE73BFED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6F32-117F-4686-9F38-DE3CE45D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C978-88AE-4C35-A8AE-8DFAF95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27B8-DE16-4A41-BE64-B3C1C59A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AE3D-E6AC-4135-86DA-A0AA7F2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AA7C-AE32-46CB-AC12-B0B2E9D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BC57-B966-4D58-BF92-510FEB4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ACC-D106-45D0-A50B-1B1085A9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679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E842-358B-476A-B7CC-44586572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2332-A7FE-4583-B03E-D03716E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92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0511-2AC3-424F-AD96-476839B5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679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8AF-F71D-4670-9682-2FA23ED5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333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58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092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333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158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3B4B-815B-4EB8-B93E-E16611BF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2355-425F-496B-B343-5EC0AFB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8B5C-6479-43C5-8329-914D2C4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349F-16AF-4412-8C6E-B2F8F553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5958-CD4D-482E-9364-F28255AB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355D-9800-4D20-9247-7D86DF1D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31E-1E0E-4EB2-A55B-79FF56FB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1D6A-63BF-4246-BCF4-C671748E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B730-DDCA-45E6-8837-5F78BF97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679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9A0A-88C9-4F9A-A0DA-D65C635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CEBE-E65D-4975-9ED3-6FA3033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092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D233-8F5E-40B7-B8E7-D9BEB716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4679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DA1D-AAA5-42B5-B6F7-3A3EECD9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333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158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092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0333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158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CFE0F-47D6-43AF-B5FF-98DC119D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F2A-B329-4F08-83ED-4D23A35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C94-38CB-4BEE-A074-5B00972E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AA2-6D3B-4FF6-B4BB-6EFFBD68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196-7B48-4392-AC43-19318E4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79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21C-69FB-47CF-A74A-76FFF4D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79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58A-FFAC-4FE4-AED1-5A7C7BA7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未标题-1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96B5-1782-4EB4-B9B4-D2604FF47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FAA7-398F-4A87-A42D-35BF7822B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F26-644C-4CCA-AE2A-7DB97123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6720" y="262080"/>
            <a:ext cx="8229600" cy="431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56840" y="64533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5:31:43Z</dcterms:created>
  <dc:creator>Administrator</dc:creator>
  <dc:description/>
  <dc:language>en-US</dc:language>
  <cp:lastModifiedBy/>
  <dcterms:modified xsi:type="dcterms:W3CDTF">2015-01-11T12:31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