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72C-D774-4860-9A85-8430C4A6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5D1-195B-45E6-805A-DEEC9989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830-B043-4C03-83F4-BDDFBB5E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DE0-D438-43BD-B103-E31D3148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2E84-2FA6-4B08-A8D8-576C0A43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FA4-046A-4389-9FA0-5DE719B1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1EC7-E8A6-4EBF-A524-DF209747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D6A9-C91C-4FAB-BD6A-6B645C9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BFBE-26CC-46A7-9B4E-E3DB2C9A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6040" y="3333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4CCE-C224-4200-A500-A8E17B19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90C9-8D9C-4D4F-9FDD-5CD0136C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C38-FFA7-4D7A-A966-31E75F25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8512-3783-402F-A8EE-AE7EB38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C4BB-C0A4-40C2-B1C9-403FF07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7D6B-224E-4006-978F-AC82350F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0668-059C-4439-8F96-16406EE5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73CF-D794-435B-AB5C-C744FC79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784-984E-461A-A716-6D04BAF9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C4B-C981-452E-9E99-26B0A722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D83-3F3F-4B29-9018-BFD2DD77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6040" y="3333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03B-6692-457B-9F00-70403F23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809-B93B-46F6-A473-F0D2D19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2EF-8716-4DB4-966B-D448356B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D96-0A91-41A0-ABB9-C5B5C8E3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设计素材\图片\通用纹理\1277274856789.jpg"/>
          <p:cNvPicPr/>
          <p:nvPr/>
        </p:nvPicPr>
        <p:blipFill>
          <a:blip r:embed="rId2"/>
          <a:srcRect l="21481" t="34045" r="21378" b="20434"/>
          <a:stretch/>
        </p:blipFill>
        <p:spPr>
          <a:xfrm>
            <a:off x="0" y="2305080"/>
            <a:ext cx="9144000" cy="4552920"/>
          </a:xfrm>
          <a:prstGeom prst="rect">
            <a:avLst/>
          </a:prstGeom>
          <a:ln w="0">
            <a:noFill/>
          </a:ln>
        </p:spPr>
      </p:pic>
      <p:sp>
        <p:nvSpPr>
          <p:cNvPr id="1" name="矩形 6"/>
          <p:cNvSpPr/>
          <p:nvPr/>
        </p:nvSpPr>
        <p:spPr>
          <a:xfrm>
            <a:off x="0" y="1916280"/>
            <a:ext cx="9144000" cy="252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2d1e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2" descr="E:\设计素材\图片\通用纹理\1277274856789.jpg"/>
          <p:cNvPicPr/>
          <p:nvPr/>
        </p:nvPicPr>
        <p:blipFill>
          <a:blip r:embed="rId3"/>
          <a:srcRect l="21378" t="0" r="21481" b="314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8AFE-3111-470C-BB2B-817D24E19891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小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B701-4ECE-46A9-A639-8D5C24EEE4A0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:\设计素材\图片\通用纹理\1277274856789.jpg"/>
          <p:cNvPicPr/>
          <p:nvPr/>
        </p:nvPicPr>
        <p:blipFill>
          <a:blip r:embed="rId2"/>
          <a:srcRect l="21481" t="34045" r="21378" b="20434"/>
          <a:stretch/>
        </p:blipFill>
        <p:spPr>
          <a:xfrm>
            <a:off x="0" y="2305080"/>
            <a:ext cx="9144000" cy="4552920"/>
          </a:xfrm>
          <a:prstGeom prst="rect">
            <a:avLst/>
          </a:prstGeom>
          <a:ln w="0">
            <a:noFill/>
          </a:ln>
        </p:spPr>
      </p:pic>
      <p:sp>
        <p:nvSpPr>
          <p:cNvPr id="45" name="矩形 6"/>
          <p:cNvSpPr/>
          <p:nvPr/>
        </p:nvSpPr>
        <p:spPr>
          <a:xfrm>
            <a:off x="0" y="1916280"/>
            <a:ext cx="9144000" cy="252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2d1e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51D3-CFB5-487A-8972-ADB0A7661449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小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2EC3-C235-40D1-BE59-529F165837A1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14936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3840" y="537336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8048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8137-F587-4D40-A01A-1653A250B996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50696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/>
  <dc:description/>
  <dc:language>en-US</dc:language>
  <cp:lastModifiedBy>微软用户</cp:lastModifiedBy>
  <cp:lastPrinted>1899-12-30T00:00:00Z</cp:lastPrinted>
  <dcterms:modified xsi:type="dcterms:W3CDTF">2014-05-14T06:15:39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