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205-4DD9-4827-8239-4CEBE064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4A9-649B-4E02-93D7-1970CFAD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1254-B04A-48C9-97C4-CE8E079C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676A-4932-4337-89D5-9188A8C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CCDE-3C8B-481E-A0B5-396CD915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67C-35C0-457B-BF22-D4CA98FB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68D-1291-4D29-8727-08292E7C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8F3-FF41-4815-B5B2-932EC762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584-D75C-4DBD-AFDE-55E37E8A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B182-D2D5-4FB9-988D-4D8364A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C0C-933E-4F58-BF8B-D9A304E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435C-6388-4F42-8612-C0EDDBD4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4CC-A44D-4B47-A352-E8F11AE3E299}" type="datetime">
              <a:rPr b="0" lang="zh-CN" sz="1200" spc="-1" strike="noStrike">
                <a:solidFill>
                  <a:srgbClr val="39575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1347-4D85-4248-99F0-F813B26482D3}" type="slidenum">
              <a:rPr b="0" lang="zh-CN" sz="1200" spc="-1" strike="noStrike">
                <a:solidFill>
                  <a:srgbClr val="3957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248440"/>
            <a:ext cx="685800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263a35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00" y="203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50560" y="2785680"/>
            <a:ext cx="867708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214200" y="107172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宋体"/>
                <a:ea typeface="宋体"/>
              </a:rPr>
              <a:t>单击此处添加文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043-45CB-4B7D-B2BC-CD7D595F5E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6000" y="225360"/>
            <a:ext cx="8712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571680" y="105552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072040" y="10555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55480" y="19321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4d1f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5067360" y="193212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4d1f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571680" y="396252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072040" y="396252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55480" y="48387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4d1f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5067360" y="483876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4d1f"/>
                </a:solidFill>
                <a:latin typeface="宋体"/>
                <a:ea typeface="宋体"/>
              </a:rPr>
              <a:t>单击此处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8A2F-8B6A-4E74-9F7B-C329B1DB39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506520" y="6321600"/>
            <a:ext cx="56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AC8-6257-47CC-85A1-5445F4D516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Verdana"/>
              </a:rPr>
              <a:t>使用规范说明</a:t>
            </a:r>
            <a:endParaRPr b="1" lang="en-US" sz="40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8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f7b61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50:00Z</dcterms:created>
  <dc:creator>Administrator</dc:creator>
  <dc:description/>
  <dc:language>en-US</dc:language>
  <cp:lastModifiedBy/>
  <dcterms:modified xsi:type="dcterms:W3CDTF">2015-01-11T12:32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010362663</vt:lpwstr>
  </property>
</Properties>
</file>