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31.png" ContentType="image/png"/>
  <Override PartName="/ppt/media/image24.png" ContentType="image/png"/>
  <Override PartName="/ppt/media/image77.png" ContentType="image/png"/>
  <Override PartName="/ppt/media/image126.jpeg" ContentType="image/jpe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02.png" ContentType="image/png"/>
  <Override PartName="/ppt/media/image95.png" ContentType="image/png"/>
  <Override PartName="/ppt/media/image103.png" ContentType="image/png"/>
  <Override PartName="/ppt/media/image96.png" ContentType="image/png"/>
  <Override PartName="/ppt/media/image116.png" ContentType="image/png"/>
  <Override PartName="/ppt/media/image72.png" ContentType="image/png"/>
  <Override PartName="/ppt/media/image125.png" ContentType="image/png"/>
  <Override PartName="/ppt/media/image113.png" ContentType="image/png"/>
  <Override PartName="/ppt/media/image124.png" ContentType="image/png"/>
  <Override PartName="/ppt/media/image112.png" ContentType="image/png"/>
  <Override PartName="/ppt/media/image123.png" ContentType="image/png"/>
  <Override PartName="/ppt/media/image89.png" ContentType="image/png"/>
  <Override PartName="/ppt/media/image111.png" ContentType="image/png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100.jpeg" ContentType="image/jpe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20.png" ContentType="image/png"/>
  <Override PartName="/ppt/media/image5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F6C4-CD15-44C0-BB6A-66CDE174E8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9EBE-254B-427F-849E-AAD772B839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DD22-9D60-4233-AD76-B937053B5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A01D-7E15-46C2-87B8-8550597E30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0E38-9551-4538-9902-F788F383D9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6C0A-B1FA-4B22-A2B9-F68E5EA0414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2B54-0AE4-4EBD-B0BC-AE83582CC2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54AA-03D0-4662-AE4F-6527ADF5EE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A1AF-F8B4-4010-AF65-4ECF86C0F2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D3B1-3158-4BA5-9A5D-C638DBFB0D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DD89-65AD-4BE6-95B8-D28DE045FD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E3B3-0FB8-4E08-8A2F-7601DA4D2F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9FBF-2153-4494-B515-DBCF148D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CF8B-48E6-4D5A-B535-7FC04E549D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944A-769B-4806-9B29-4A11F676B1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5390-88F7-43BF-A76F-CAF83291B1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55EF-3B03-4B41-8550-37F4FD89CD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6E66-FFDF-4852-8F7E-86AD9136A5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F7CF-264C-4715-9A30-FF02422796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6B55-7033-46A4-B3F6-5797CAFB486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0577-9545-4547-9D1F-AD1C6BBEC0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39B0-EAAC-403A-90AC-04A9FF728A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9485-A077-4453-895C-5EB036F42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783E-A171-4682-957A-DA4041B443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2D5-EE3C-4735-9348-B0ACFE28B6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C94-4745-4310-B1B3-A34A972227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D82-AF25-4E61-A056-CE8E076713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234-913A-4A36-9C58-A3AE44C030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31F-DD5E-42DE-AEA5-557CB11D05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589-9504-4CB9-9D1F-7C9D573C862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E24-847C-466D-89B4-1526265E3C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F08-41C5-4CB3-AFA9-2E62EB2FC4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CDE-1E43-48EB-915A-4804106F2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098-3851-40C2-8BB5-83544238A6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0EB-66FC-4FA8-992A-73497BDC77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0CA-A8A7-4CAC-A9CB-E66A00B9D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760" y="2622240"/>
            <a:ext cx="11049120" cy="2903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955880" y="5524200"/>
            <a:ext cx="9105840" cy="422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5000"/>
          </a:bodyPr>
          <a:p>
            <a:pPr marL="25704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1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2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3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4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5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6" marL="257040" indent="-257040" algn="ctr">
              <a:spcBef>
                <a:spcPts val="1100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1"/>
          </p:nvPr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A21-2184-4D62-85B1-0A4E305A696C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319-415E-4A59-A91A-8212418D7FF5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Num" idx="3"/>
          </p:nvPr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3A6A-22E7-425B-8E06-2530F8D2DD88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9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35.pn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1.png"/><Relationship Id="rId8" Type="http://schemas.openxmlformats.org/officeDocument/2006/relationships/image" Target="../media/image61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3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68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2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83.png"/><Relationship Id="rId20" Type="http://schemas.openxmlformats.org/officeDocument/2006/relationships/image" Target="../media/image84.png"/><Relationship Id="rId21" Type="http://schemas.openxmlformats.org/officeDocument/2006/relationships/image" Target="../media/image85.png"/><Relationship Id="rId22" Type="http://schemas.openxmlformats.org/officeDocument/2006/relationships/image" Target="../media/image86.png"/><Relationship Id="rId23" Type="http://schemas.openxmlformats.org/officeDocument/2006/relationships/image" Target="../media/image87.png"/><Relationship Id="rId24" Type="http://schemas.openxmlformats.org/officeDocument/2006/relationships/image" Target="../media/image88.png"/><Relationship Id="rId25" Type="http://schemas.openxmlformats.org/officeDocument/2006/relationships/image" Target="../media/image89.png"/><Relationship Id="rId26" Type="http://schemas.openxmlformats.org/officeDocument/2006/relationships/image" Target="../media/image88.png"/><Relationship Id="rId27" Type="http://schemas.openxmlformats.org/officeDocument/2006/relationships/image" Target="../media/image90.png"/><Relationship Id="rId28" Type="http://schemas.openxmlformats.org/officeDocument/2006/relationships/image" Target="../media/image91.png"/><Relationship Id="rId2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2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9.png"/><Relationship Id="rId3" Type="http://schemas.openxmlformats.org/officeDocument/2006/relationships/image" Target="../media/image100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1.png"/><Relationship Id="rId3" Type="http://schemas.openxmlformats.org/officeDocument/2006/relationships/image" Target="../media/image101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6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9.png"/><Relationship Id="rId3" Type="http://schemas.openxmlformats.org/officeDocument/2006/relationships/image" Target="../media/image111.png"/><Relationship Id="rId4" Type="http://schemas.openxmlformats.org/officeDocument/2006/relationships/hyperlink" Target="http://html5boilerplate.com/mobile" TargetMode="External"/><Relationship Id="rId5" Type="http://schemas.openxmlformats.org/officeDocument/2006/relationships/image" Target="../media/image112.png"/><Relationship Id="rId6" Type="http://schemas.openxmlformats.org/officeDocument/2006/relationships/image" Target="../media/image111.png"/><Relationship Id="rId7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3.png"/><Relationship Id="rId3" Type="http://schemas.openxmlformats.org/officeDocument/2006/relationships/hyperlink" Target="http://code.google.com/p/lazymobile/" TargetMode="External"/><Relationship Id="rId4" Type="http://schemas.openxmlformats.org/officeDocument/2006/relationships/image" Target="../media/image109.png"/><Relationship Id="rId5" Type="http://schemas.openxmlformats.org/officeDocument/2006/relationships/image" Target="../media/image114.png"/><Relationship Id="rId6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tqq.com/lazyrest/" TargetMode="External"/><Relationship Id="rId3" Type="http://schemas.openxmlformats.org/officeDocument/2006/relationships/image" Target="../media/image109.pn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8.png"/><Relationship Id="rId3" Type="http://schemas.openxmlformats.org/officeDocument/2006/relationships/hyperlink" Target="http://ftqq.com/2011/12/30/how-to-build-a-path-like-app-using-html5-and-phonegap/" TargetMode="External"/><Relationship Id="rId4" Type="http://schemas.openxmlformats.org/officeDocument/2006/relationships/image" Target="../media/image109.png"/><Relationship Id="rId5" Type="http://schemas.openxmlformats.org/officeDocument/2006/relationships/image" Target="../media/image114.png"/><Relationship Id="rId6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tqq.com/2012/04/18/build-a-weibo-client-using-phonegap/" TargetMode="External"/><Relationship Id="rId3" Type="http://schemas.openxmlformats.org/officeDocument/2006/relationships/image" Target="../media/image109.png"/><Relationship Id="rId4" Type="http://schemas.openxmlformats.org/officeDocument/2006/relationships/image" Target="../media/image114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ncubator.apache.org/cordova/" TargetMode="External"/><Relationship Id="rId3" Type="http://schemas.openxmlformats.org/officeDocument/2006/relationships/image" Target="../media/image120.png"/><Relationship Id="rId4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git-wip-us.apache.org/repos/asf" TargetMode="External"/><Relationship Id="rId3" Type="http://schemas.openxmlformats.org/officeDocument/2006/relationships/hyperlink" Target="http://sae.sina.com.cn/?m=devcenter&amp;catId=252" TargetMode="External"/><Relationship Id="rId4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-100080" y="-46080"/>
            <a:ext cx="13125600" cy="98442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8812440" y="1387800"/>
            <a:ext cx="3646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web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开发者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4408560" y="2533680"/>
            <a:ext cx="81658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如何开发手机应用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431120" y="7937640"/>
            <a:ext cx="55879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"/>
          <p:cNvSpPr/>
          <p:nvPr/>
        </p:nvSpPr>
        <p:spPr>
          <a:xfrm>
            <a:off x="10242000" y="8982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5486400" y="3949560"/>
            <a:ext cx="6908760" cy="584280"/>
            <a:chOff x="5486400" y="3949560"/>
            <a:chExt cx="6908760" cy="584280"/>
          </a:xfrm>
        </p:grpSpPr>
        <p:sp>
          <p:nvSpPr>
            <p:cNvPr id="361" name="Rectangle 2"/>
            <p:cNvSpPr/>
            <p:nvPr/>
          </p:nvSpPr>
          <p:spPr>
            <a:xfrm>
              <a:off x="5524560" y="3987720"/>
              <a:ext cx="6832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we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语言技术基于浏览器开发跨平台的应用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62" name="Picture 3" descr=""/>
            <p:cNvPicPr/>
            <p:nvPr/>
          </p:nvPicPr>
          <p:blipFill>
            <a:blip r:embed="rId2"/>
            <a:stretch/>
          </p:blipFill>
          <p:spPr>
            <a:xfrm>
              <a:off x="5486400" y="3949560"/>
              <a:ext cx="6908760" cy="58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3984480" y="5997600"/>
            <a:ext cx="1460520" cy="140976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2692440" y="127080"/>
            <a:ext cx="7645320" cy="1701720"/>
            <a:chOff x="2692440" y="127080"/>
            <a:chExt cx="7645320" cy="1701720"/>
          </a:xfrm>
        </p:grpSpPr>
        <p:sp>
          <p:nvSpPr>
            <p:cNvPr id="365" name="Rectangle 6"/>
            <p:cNvSpPr/>
            <p:nvPr/>
          </p:nvSpPr>
          <p:spPr>
            <a:xfrm>
              <a:off x="2895480" y="279360"/>
              <a:ext cx="7239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Web app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2692440" y="127080"/>
              <a:ext cx="7645320" cy="17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" name="Picture 9" descr=""/>
          <p:cNvPicPr/>
          <p:nvPr/>
        </p:nvPicPr>
        <p:blipFill>
          <a:blip r:embed="rId5"/>
          <a:stretch/>
        </p:blipFill>
        <p:spPr>
          <a:xfrm>
            <a:off x="3556080" y="3645000"/>
            <a:ext cx="1625400" cy="1803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0299240" y="9198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48240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ive app </a:t>
            </a:r>
            <a:r>
              <a:rPr b="1" lang="en-US" sz="7200" spc="-1" strike="noStrike">
                <a:solidFill>
                  <a:srgbClr val="ff2712"/>
                </a:solidFill>
                <a:latin typeface="Arial"/>
              </a:rPr>
              <a:t>VS.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b app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189000" y="2362320"/>
            <a:ext cx="1333440" cy="7110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sp>
        <p:nvSpPr>
          <p:cNvPr id="372" name="Rectangle 4"/>
          <p:cNvSpPr/>
          <p:nvPr/>
        </p:nvSpPr>
        <p:spPr>
          <a:xfrm>
            <a:off x="-668160" y="9042480"/>
            <a:ext cx="3093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本地能力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-668160" y="4444920"/>
            <a:ext cx="30938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成本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705040" y="455940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0b00"/>
                </a:solidFill>
                <a:latin typeface="Arial"/>
                <a:ea typeface="Heiti SC Medium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8039160" y="443232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dcc"/>
                </a:solidFill>
                <a:latin typeface="Arial"/>
                <a:ea typeface="Heiti SC Medium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-668160" y="5600880"/>
            <a:ext cx="3093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依赖性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755800" y="560088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0b00"/>
                </a:solidFill>
                <a:latin typeface="Arial"/>
                <a:ea typeface="Heiti SC Medium"/>
              </a:rPr>
              <a:t>基于平台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8039160" y="560088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4fe"/>
                </a:solidFill>
                <a:latin typeface="Arial"/>
                <a:ea typeface="Heiti SC Medium"/>
              </a:rPr>
              <a:t>浏览器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-668160" y="6743880"/>
            <a:ext cx="3093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性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755800" y="676908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4fe"/>
                </a:solidFill>
                <a:latin typeface="Arial"/>
                <a:ea typeface="Heiti SC Medium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Rectangle 13"/>
          <p:cNvSpPr/>
          <p:nvPr/>
        </p:nvSpPr>
        <p:spPr>
          <a:xfrm>
            <a:off x="8039160" y="6769080"/>
            <a:ext cx="3098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0b00"/>
                </a:solidFill>
                <a:latin typeface="Arial"/>
                <a:ea typeface="Heiti SC Medium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-668160" y="7899480"/>
            <a:ext cx="3093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发布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88920" y="3416400"/>
            <a:ext cx="1562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43434"/>
                </a:solidFill>
                <a:latin typeface="Arial"/>
                <a:ea typeface="Heiti SC Medium"/>
              </a:rPr>
              <a:t>更新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3517920" y="3416400"/>
            <a:ext cx="1562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0b00"/>
                </a:solidFill>
                <a:latin typeface="Arial"/>
                <a:ea typeface="Heiti SC Medium"/>
              </a:rPr>
              <a:t>build</a:t>
            </a:r>
            <a:r>
              <a:rPr b="1" lang="zh-CN" sz="2400" spc="-1" strike="noStrike">
                <a:solidFill>
                  <a:srgbClr val="d90b00"/>
                </a:solidFill>
                <a:latin typeface="Arial"/>
                <a:ea typeface="Heiti SC Medium"/>
              </a:rPr>
              <a:t>打包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8801280" y="3416400"/>
            <a:ext cx="1562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4fe"/>
                </a:solidFill>
                <a:latin typeface="Arial"/>
                <a:ea typeface="Heiti SC Medium"/>
              </a:rPr>
              <a:t>云端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6508800" y="2187720"/>
            <a:ext cx="9360" cy="7302240"/>
          </a:xfrm>
          <a:prstGeom prst="line">
            <a:avLst/>
          </a:prstGeom>
          <a:ln w="381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Rectangle 19"/>
          <p:cNvSpPr/>
          <p:nvPr/>
        </p:nvSpPr>
        <p:spPr>
          <a:xfrm>
            <a:off x="9249480" y="2124000"/>
            <a:ext cx="6728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4fe"/>
                </a:solidFill>
                <a:latin typeface="Arial"/>
                <a:ea typeface="宋体"/>
              </a:rPr>
              <a:t>✔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Rectangle 20"/>
          <p:cNvSpPr/>
          <p:nvPr/>
        </p:nvSpPr>
        <p:spPr>
          <a:xfrm>
            <a:off x="3971160" y="7556400"/>
            <a:ext cx="6728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4fe"/>
                </a:solidFill>
                <a:latin typeface="Arial"/>
                <a:ea typeface="宋体"/>
              </a:rPr>
              <a:t>✔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3920400" y="8623440"/>
            <a:ext cx="6728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4fe"/>
                </a:solidFill>
                <a:latin typeface="Arial"/>
                <a:ea typeface="宋体"/>
              </a:rPr>
              <a:t>✔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0" name="Picture 22" descr=""/>
          <p:cNvPicPr/>
          <p:nvPr/>
        </p:nvPicPr>
        <p:blipFill>
          <a:blip r:embed="rId3"/>
          <a:stretch/>
        </p:blipFill>
        <p:spPr>
          <a:xfrm>
            <a:off x="4051440" y="2577960"/>
            <a:ext cx="406440" cy="47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3" descr=""/>
          <p:cNvPicPr/>
          <p:nvPr/>
        </p:nvPicPr>
        <p:blipFill>
          <a:blip r:embed="rId4"/>
          <a:stretch/>
        </p:blipFill>
        <p:spPr>
          <a:xfrm>
            <a:off x="9385200" y="7785000"/>
            <a:ext cx="406440" cy="47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"/>
          <p:cNvPicPr/>
          <p:nvPr/>
        </p:nvPicPr>
        <p:blipFill>
          <a:blip r:embed="rId5"/>
          <a:stretch/>
        </p:blipFill>
        <p:spPr>
          <a:xfrm>
            <a:off x="9385200" y="8953560"/>
            <a:ext cx="406440" cy="46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2463840" y="2781360"/>
            <a:ext cx="2552760" cy="4178160"/>
            <a:chOff x="2463840" y="2781360"/>
            <a:chExt cx="2552760" cy="4178160"/>
          </a:xfrm>
        </p:grpSpPr>
        <p:sp>
          <p:nvSpPr>
            <p:cNvPr id="395" name="AutoShape 2"/>
            <p:cNvSpPr/>
            <p:nvPr/>
          </p:nvSpPr>
          <p:spPr>
            <a:xfrm>
              <a:off x="2463840" y="2781360"/>
              <a:ext cx="2552760" cy="4178160"/>
            </a:xfrm>
            <a:custGeom>
              <a:avLst/>
              <a:gdLst>
                <a:gd name="textAreaLeft" fmla="*/ 55440 w 2552760"/>
                <a:gd name="textAreaRight" fmla="*/ 2497320 w 2552760"/>
                <a:gd name="textAreaTop" fmla="*/ 55440 h 4178160"/>
                <a:gd name="textAreaBottom" fmla="*/ 4122720 h 4178160"/>
              </a:gdLst>
              <a:ahLst/>
              <a:rect l="textAreaLeft" t="textAreaTop" r="textAreaRight" b="textAreaBottom"/>
              <a:pathLst>
                <a:path w="21600" h="35351">
                  <a:moveTo>
                    <a:pt x="1611" y="0"/>
                  </a:moveTo>
                  <a:arcTo wR="1611" hR="1611" stAng="16200000" swAng="-5400000"/>
                  <a:lnTo>
                    <a:pt x="0" y="33740"/>
                  </a:lnTo>
                  <a:arcTo wR="1611" hR="1611" stAng="10800000" swAng="-5400000"/>
                  <a:lnTo>
                    <a:pt x="19989" y="35351"/>
                  </a:lnTo>
                  <a:arcTo wR="1611" hR="1611" stAng="5400000" swAng="-5400000"/>
                  <a:lnTo>
                    <a:pt x="21600" y="1611"/>
                  </a:lnTo>
                  <a:arcTo wR="1611" hR="1611" stAng="0" swAng="-5400000"/>
                  <a:close/>
                </a:path>
              </a:pathLst>
            </a:custGeom>
            <a:solidFill>
              <a:srgbClr val="cdcdc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Rectangle 3"/>
            <p:cNvSpPr/>
            <p:nvPr/>
          </p:nvSpPr>
          <p:spPr>
            <a:xfrm>
              <a:off x="2697120" y="3194280"/>
              <a:ext cx="2075040" cy="303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Oval 4"/>
            <p:cNvSpPr/>
            <p:nvPr/>
          </p:nvSpPr>
          <p:spPr>
            <a:xfrm>
              <a:off x="3592440" y="6516720"/>
              <a:ext cx="293760" cy="28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8292960" y="4260960"/>
            <a:ext cx="109224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48240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Hybrid app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635040" y="8064360"/>
            <a:ext cx="12179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ybrid app </a:t>
            </a:r>
            <a:r>
              <a:rPr b="0" lang="en-US" sz="7200" spc="-1" strike="noStrike">
                <a:solidFill>
                  <a:srgbClr val="d90b00"/>
                </a:solidFill>
                <a:latin typeface="Gill Sans"/>
              </a:rPr>
              <a:t>package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a web app into a native ap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612720" y="2563920"/>
            <a:ext cx="3327480" cy="124452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3" name="Picture 5" descr=""/>
          <p:cNvPicPr/>
          <p:nvPr/>
        </p:nvPicPr>
        <p:blipFill>
          <a:blip r:embed="rId3"/>
          <a:stretch/>
        </p:blipFill>
        <p:spPr>
          <a:xfrm>
            <a:off x="762120" y="4241880"/>
            <a:ext cx="3327120" cy="124452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4" name="Picture 6" descr=""/>
          <p:cNvPicPr/>
          <p:nvPr/>
        </p:nvPicPr>
        <p:blipFill>
          <a:blip r:embed="rId4"/>
          <a:stretch/>
        </p:blipFill>
        <p:spPr>
          <a:xfrm>
            <a:off x="762120" y="5956200"/>
            <a:ext cx="3327120" cy="124488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5" name="Picture 7" descr=""/>
          <p:cNvPicPr/>
          <p:nvPr/>
        </p:nvPicPr>
        <p:blipFill>
          <a:blip r:embed="rId5"/>
          <a:stretch/>
        </p:blipFill>
        <p:spPr>
          <a:xfrm>
            <a:off x="8674200" y="2600280"/>
            <a:ext cx="3556080" cy="124452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6" name="Picture 8" descr=""/>
          <p:cNvPicPr/>
          <p:nvPr/>
        </p:nvPicPr>
        <p:blipFill>
          <a:blip r:embed="rId6"/>
          <a:stretch/>
        </p:blipFill>
        <p:spPr>
          <a:xfrm>
            <a:off x="8128080" y="4280040"/>
            <a:ext cx="5029200" cy="124452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07" name="Picture 9" descr=""/>
          <p:cNvPicPr/>
          <p:nvPr/>
        </p:nvPicPr>
        <p:blipFill>
          <a:blip r:embed="rId7"/>
          <a:stretch/>
        </p:blipFill>
        <p:spPr>
          <a:xfrm>
            <a:off x="8128080" y="5956200"/>
            <a:ext cx="5029200" cy="124488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408" name=""/>
          <p:cNvGrpSpPr/>
          <p:nvPr/>
        </p:nvGrpSpPr>
        <p:grpSpPr>
          <a:xfrm>
            <a:off x="5219640" y="2959200"/>
            <a:ext cx="2552760" cy="4178160"/>
            <a:chOff x="5219640" y="2959200"/>
            <a:chExt cx="2552760" cy="4178160"/>
          </a:xfrm>
        </p:grpSpPr>
        <p:sp>
          <p:nvSpPr>
            <p:cNvPr id="409" name="AutoShape 10"/>
            <p:cNvSpPr/>
            <p:nvPr/>
          </p:nvSpPr>
          <p:spPr>
            <a:xfrm>
              <a:off x="5219640" y="2959200"/>
              <a:ext cx="2552760" cy="4178160"/>
            </a:xfrm>
            <a:custGeom>
              <a:avLst/>
              <a:gdLst>
                <a:gd name="textAreaLeft" fmla="*/ 55440 w 2552760"/>
                <a:gd name="textAreaRight" fmla="*/ 2497320 w 2552760"/>
                <a:gd name="textAreaTop" fmla="*/ 55440 h 4178160"/>
                <a:gd name="textAreaBottom" fmla="*/ 4122720 h 4178160"/>
              </a:gdLst>
              <a:ahLst/>
              <a:rect l="textAreaLeft" t="textAreaTop" r="textAreaRight" b="textAreaBottom"/>
              <a:pathLst>
                <a:path w="21600" h="35351">
                  <a:moveTo>
                    <a:pt x="1611" y="0"/>
                  </a:moveTo>
                  <a:arcTo wR="1611" hR="1611" stAng="16200000" swAng="-5400000"/>
                  <a:lnTo>
                    <a:pt x="0" y="33740"/>
                  </a:lnTo>
                  <a:arcTo wR="1611" hR="1611" stAng="10800000" swAng="-5400000"/>
                  <a:lnTo>
                    <a:pt x="19989" y="35351"/>
                  </a:lnTo>
                  <a:arcTo wR="1611" hR="1611" stAng="5400000" swAng="-5400000"/>
                  <a:lnTo>
                    <a:pt x="21600" y="1611"/>
                  </a:lnTo>
                  <a:arcTo wR="1611" hR="1611" stAng="0" swAng="-5400000"/>
                  <a:close/>
                </a:path>
              </a:pathLst>
            </a:custGeom>
            <a:solidFill>
              <a:srgbClr val="cdcdc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5452920" y="3372120"/>
              <a:ext cx="2075040" cy="303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6348240" y="6694560"/>
              <a:ext cx="293760" cy="28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412" name="Picture 14" descr=""/>
          <p:cNvPicPr/>
          <p:nvPr/>
        </p:nvPicPr>
        <p:blipFill>
          <a:blip r:embed="rId8"/>
          <a:stretch/>
        </p:blipFill>
        <p:spPr>
          <a:xfrm>
            <a:off x="5965920" y="4449600"/>
            <a:ext cx="1092240" cy="1211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5" descr=""/>
          <p:cNvPicPr/>
          <p:nvPr/>
        </p:nvPicPr>
        <p:blipFill>
          <a:blip r:embed="rId9"/>
          <a:stretch/>
        </p:blipFill>
        <p:spPr>
          <a:xfrm>
            <a:off x="5856120" y="4406760"/>
            <a:ext cx="131292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5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75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5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75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7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75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75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48240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吸引者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2629080" y="5338800"/>
            <a:ext cx="2057400" cy="3081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6388200" y="5243400"/>
            <a:ext cx="2031840" cy="32655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1239840" y="855360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&gt;15,000+ hybird app in the App Stor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9448920" y="2565360"/>
            <a:ext cx="965160" cy="87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/>
          <a:stretch/>
        </p:blipFill>
        <p:spPr>
          <a:xfrm>
            <a:off x="4381560" y="2463840"/>
            <a:ext cx="927000" cy="939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"/>
          <p:cNvPicPr/>
          <p:nvPr/>
        </p:nvPicPr>
        <p:blipFill>
          <a:blip r:embed="rId6"/>
          <a:stretch/>
        </p:blipFill>
        <p:spPr>
          <a:xfrm>
            <a:off x="11087280" y="25527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"/>
          <p:cNvPicPr/>
          <p:nvPr/>
        </p:nvPicPr>
        <p:blipFill>
          <a:blip r:embed="rId7"/>
          <a:stretch/>
        </p:blipFill>
        <p:spPr>
          <a:xfrm>
            <a:off x="5854680" y="256536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8"/>
          <a:stretch/>
        </p:blipFill>
        <p:spPr>
          <a:xfrm>
            <a:off x="7137360" y="2781360"/>
            <a:ext cx="1765440" cy="444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"/>
          <p:cNvPicPr/>
          <p:nvPr/>
        </p:nvPicPr>
        <p:blipFill>
          <a:blip r:embed="rId9"/>
          <a:stretch/>
        </p:blipFill>
        <p:spPr>
          <a:xfrm>
            <a:off x="2093760" y="2552760"/>
            <a:ext cx="1892520" cy="762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10"/>
          <a:stretch/>
        </p:blipFill>
        <p:spPr>
          <a:xfrm>
            <a:off x="3211560" y="4000680"/>
            <a:ext cx="1130400" cy="1130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" descr=""/>
          <p:cNvPicPr/>
          <p:nvPr/>
        </p:nvPicPr>
        <p:blipFill>
          <a:blip r:embed="rId11"/>
          <a:stretch/>
        </p:blipFill>
        <p:spPr>
          <a:xfrm>
            <a:off x="5486400" y="4199040"/>
            <a:ext cx="302256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2"/>
          <p:cNvSpPr/>
          <p:nvPr/>
        </p:nvSpPr>
        <p:spPr>
          <a:xfrm>
            <a:off x="609480" y="7861320"/>
            <a:ext cx="12433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ridging the </a:t>
            </a:r>
            <a:r>
              <a:rPr b="0" lang="en-US" sz="7200" spc="-1" strike="noStrike">
                <a:solidFill>
                  <a:srgbClr val="d90b00"/>
                </a:solidFill>
                <a:latin typeface="Gill Sans"/>
              </a:rPr>
              <a:t>gap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etween web and mobile device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4838760" y="762120"/>
            <a:ext cx="2590920" cy="812520"/>
          </a:xfrm>
          <a:prstGeom prst="roundRect">
            <a:avLst>
              <a:gd name="adj" fmla="val 23435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Gill Sans"/>
                <a:ea typeface="宋体"/>
              </a:rPr>
              <a:t>web app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"/>
          <p:cNvSpPr/>
          <p:nvPr/>
        </p:nvSpPr>
        <p:spPr>
          <a:xfrm flipH="1">
            <a:off x="5795640" y="1568520"/>
            <a:ext cx="12600" cy="2020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5"/>
          <p:cNvSpPr/>
          <p:nvPr/>
        </p:nvSpPr>
        <p:spPr>
          <a:xfrm flipH="1">
            <a:off x="6489360" y="1574640"/>
            <a:ext cx="12600" cy="201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017600" y="1875600"/>
            <a:ext cx="966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44fe"/>
                </a:solidFill>
                <a:latin typeface="Gill Sans"/>
              </a:rPr>
              <a:t>HTML5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353840" y="240120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0069"/>
                </a:solidFill>
                <a:latin typeface="Gill Sans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592800" y="2953800"/>
            <a:ext cx="139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9a00"/>
                </a:solidFill>
                <a:latin typeface="Gill Sans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Line 9"/>
          <p:cNvSpPr/>
          <p:nvPr/>
        </p:nvSpPr>
        <p:spPr>
          <a:xfrm flipV="1">
            <a:off x="2113920" y="4269960"/>
            <a:ext cx="3354120" cy="12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838080" y="5524560"/>
            <a:ext cx="1308240" cy="2247840"/>
          </a:xfrm>
          <a:custGeom>
            <a:avLst/>
            <a:gdLst>
              <a:gd name="textAreaLeft" fmla="*/ 55800 w 1308240"/>
              <a:gd name="textAreaRight" fmla="*/ 1252440 w 1308240"/>
              <a:gd name="textAreaTop" fmla="*/ 55800 h 2247840"/>
              <a:gd name="textAreaBottom" fmla="*/ 2192040 h 2247840"/>
            </a:gdLst>
            <a:ahLst/>
            <a:rect l="textAreaLeft" t="textAreaTop" r="textAreaRight" b="textAreaBottom"/>
            <a:pathLst>
              <a:path w="21600" h="37109">
                <a:moveTo>
                  <a:pt x="3145" y="0"/>
                </a:moveTo>
                <a:arcTo wR="3145" hR="3145" stAng="16200000" swAng="-5400000"/>
                <a:lnTo>
                  <a:pt x="0" y="33964"/>
                </a:lnTo>
                <a:arcTo wR="3145" hR="3145" stAng="10800000" swAng="-5400000"/>
                <a:lnTo>
                  <a:pt x="18455" y="37109"/>
                </a:lnTo>
                <a:arcTo wR="3145" hR="3145" stAng="5400000" swAng="-5400000"/>
                <a:lnTo>
                  <a:pt x="21600" y="3145"/>
                </a:lnTo>
                <a:arcTo wR="3145" hR="3145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990720" y="5740560"/>
            <a:ext cx="1003320" cy="163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cd4d"/>
                </a:solidFill>
                <a:latin typeface="Gill Sans"/>
              </a:rPr>
              <a:t>Androi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Oval 12"/>
          <p:cNvSpPr/>
          <p:nvPr/>
        </p:nvSpPr>
        <p:spPr>
          <a:xfrm>
            <a:off x="1371600" y="7480440"/>
            <a:ext cx="241200" cy="20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6626520" y="2394720"/>
            <a:ext cx="162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Gill Sans"/>
              </a:rPr>
              <a:t>Native AP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467160" y="5524560"/>
            <a:ext cx="1307880" cy="2247840"/>
          </a:xfrm>
          <a:custGeom>
            <a:avLst/>
            <a:gdLst>
              <a:gd name="textAreaLeft" fmla="*/ 55440 w 1307880"/>
              <a:gd name="textAreaRight" fmla="*/ 1252440 w 1307880"/>
              <a:gd name="textAreaTop" fmla="*/ 55440 h 2247840"/>
              <a:gd name="textAreaBottom" fmla="*/ 2192400 h 2247840"/>
            </a:gdLst>
            <a:ahLst/>
            <a:rect l="textAreaLeft" t="textAreaTop" r="textAreaRight" b="textAreaBottom"/>
            <a:pathLst>
              <a:path w="21600" h="37119">
                <a:moveTo>
                  <a:pt x="3145" y="0"/>
                </a:moveTo>
                <a:arcTo wR="3145" hR="3145" stAng="16200000" swAng="-5400000"/>
                <a:lnTo>
                  <a:pt x="0" y="33974"/>
                </a:lnTo>
                <a:arcTo wR="3145" hR="3145" stAng="10800000" swAng="-5400000"/>
                <a:lnTo>
                  <a:pt x="18455" y="37119"/>
                </a:lnTo>
                <a:arcTo wR="3145" hR="3145" stAng="5400000" swAng="-5400000"/>
                <a:lnTo>
                  <a:pt x="21600" y="3145"/>
                </a:lnTo>
                <a:arcTo wR="3145" hR="3145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3619440" y="5740560"/>
            <a:ext cx="1003320" cy="163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ymb</a:t>
            </a:r>
            <a:r>
              <a:rPr b="0" lang="en-US" sz="1800" spc="-1" strike="noStrike">
                <a:solidFill>
                  <a:srgbClr val="003dcc"/>
                </a:solidFill>
                <a:latin typeface="Gill San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00680" y="7480440"/>
            <a:ext cx="241200" cy="20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AutoShape 17"/>
          <p:cNvSpPr/>
          <p:nvPr/>
        </p:nvSpPr>
        <p:spPr>
          <a:xfrm>
            <a:off x="5715000" y="5524560"/>
            <a:ext cx="1308240" cy="2247840"/>
          </a:xfrm>
          <a:custGeom>
            <a:avLst/>
            <a:gdLst>
              <a:gd name="textAreaLeft" fmla="*/ 55800 w 1308240"/>
              <a:gd name="textAreaRight" fmla="*/ 1252440 w 1308240"/>
              <a:gd name="textAreaTop" fmla="*/ 55800 h 2247840"/>
              <a:gd name="textAreaBottom" fmla="*/ 2192040 h 2247840"/>
            </a:gdLst>
            <a:ahLst/>
            <a:rect l="textAreaLeft" t="textAreaTop" r="textAreaRight" b="textAreaBottom"/>
            <a:pathLst>
              <a:path w="21600" h="37109">
                <a:moveTo>
                  <a:pt x="3145" y="0"/>
                </a:moveTo>
                <a:arcTo wR="3145" hR="3145" stAng="16200000" swAng="-5400000"/>
                <a:lnTo>
                  <a:pt x="0" y="33964"/>
                </a:lnTo>
                <a:arcTo wR="3145" hR="3145" stAng="10800000" swAng="-5400000"/>
                <a:lnTo>
                  <a:pt x="18455" y="37109"/>
                </a:lnTo>
                <a:arcTo wR="3145" hR="3145" stAng="5400000" swAng="-5400000"/>
                <a:lnTo>
                  <a:pt x="21600" y="3145"/>
                </a:lnTo>
                <a:arcTo wR="3145" hR="3145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18"/>
          <p:cNvSpPr/>
          <p:nvPr/>
        </p:nvSpPr>
        <p:spPr>
          <a:xfrm>
            <a:off x="5867280" y="5740560"/>
            <a:ext cx="1003320" cy="163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"/>
                <a:ea typeface="宋体"/>
              </a:rPr>
              <a:t>i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Oval 19"/>
          <p:cNvSpPr/>
          <p:nvPr/>
        </p:nvSpPr>
        <p:spPr>
          <a:xfrm>
            <a:off x="6248520" y="7480440"/>
            <a:ext cx="241200" cy="20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AutoShape 20"/>
          <p:cNvSpPr/>
          <p:nvPr/>
        </p:nvSpPr>
        <p:spPr>
          <a:xfrm>
            <a:off x="8344080" y="5524560"/>
            <a:ext cx="1307880" cy="2247840"/>
          </a:xfrm>
          <a:custGeom>
            <a:avLst/>
            <a:gdLst>
              <a:gd name="textAreaLeft" fmla="*/ 55440 w 1307880"/>
              <a:gd name="textAreaRight" fmla="*/ 1252440 w 1307880"/>
              <a:gd name="textAreaTop" fmla="*/ 55440 h 2247840"/>
              <a:gd name="textAreaBottom" fmla="*/ 2192400 h 2247840"/>
            </a:gdLst>
            <a:ahLst/>
            <a:rect l="textAreaLeft" t="textAreaTop" r="textAreaRight" b="textAreaBottom"/>
            <a:pathLst>
              <a:path w="21600" h="37119">
                <a:moveTo>
                  <a:pt x="3145" y="0"/>
                </a:moveTo>
                <a:arcTo wR="3145" hR="3145" stAng="16200000" swAng="-5400000"/>
                <a:lnTo>
                  <a:pt x="0" y="33974"/>
                </a:lnTo>
                <a:arcTo wR="3145" hR="3145" stAng="10800000" swAng="-5400000"/>
                <a:lnTo>
                  <a:pt x="18455" y="37119"/>
                </a:lnTo>
                <a:arcTo wR="3145" hR="3145" stAng="5400000" swAng="-5400000"/>
                <a:lnTo>
                  <a:pt x="21600" y="3145"/>
                </a:lnTo>
                <a:arcTo wR="3145" hR="3145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21"/>
          <p:cNvSpPr/>
          <p:nvPr/>
        </p:nvSpPr>
        <p:spPr>
          <a:xfrm>
            <a:off x="8496360" y="5740560"/>
            <a:ext cx="1003320" cy="163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Gill Sans"/>
                <a:ea typeface="宋体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Gill Sans"/>
                <a:ea typeface="宋体"/>
              </a:rPr>
              <a:t>Berr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Oval 22"/>
          <p:cNvSpPr/>
          <p:nvPr/>
        </p:nvSpPr>
        <p:spPr>
          <a:xfrm>
            <a:off x="8877240" y="7480440"/>
            <a:ext cx="241200" cy="20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AutoShape 23"/>
          <p:cNvSpPr/>
          <p:nvPr/>
        </p:nvSpPr>
        <p:spPr>
          <a:xfrm>
            <a:off x="10820520" y="5524560"/>
            <a:ext cx="1307880" cy="2247840"/>
          </a:xfrm>
          <a:custGeom>
            <a:avLst/>
            <a:gdLst>
              <a:gd name="textAreaLeft" fmla="*/ 55440 w 1307880"/>
              <a:gd name="textAreaRight" fmla="*/ 1252440 w 1307880"/>
              <a:gd name="textAreaTop" fmla="*/ 55440 h 2247840"/>
              <a:gd name="textAreaBottom" fmla="*/ 2192400 h 2247840"/>
            </a:gdLst>
            <a:ahLst/>
            <a:rect l="textAreaLeft" t="textAreaTop" r="textAreaRight" b="textAreaBottom"/>
            <a:pathLst>
              <a:path w="21600" h="37119">
                <a:moveTo>
                  <a:pt x="3145" y="0"/>
                </a:moveTo>
                <a:arcTo wR="3145" hR="3145" stAng="16200000" swAng="-5400000"/>
                <a:lnTo>
                  <a:pt x="0" y="33974"/>
                </a:lnTo>
                <a:arcTo wR="3145" hR="3145" stAng="10800000" swAng="-5400000"/>
                <a:lnTo>
                  <a:pt x="18455" y="37119"/>
                </a:lnTo>
                <a:arcTo wR="3145" hR="3145" stAng="5400000" swAng="-5400000"/>
                <a:lnTo>
                  <a:pt x="21600" y="3145"/>
                </a:lnTo>
                <a:arcTo wR="3145" hR="3145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24"/>
          <p:cNvSpPr/>
          <p:nvPr/>
        </p:nvSpPr>
        <p:spPr>
          <a:xfrm>
            <a:off x="10972800" y="5740560"/>
            <a:ext cx="1003320" cy="163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Gill Sans"/>
                <a:ea typeface="宋体"/>
              </a:rPr>
              <a:t>web 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Oval 25"/>
          <p:cNvSpPr/>
          <p:nvPr/>
        </p:nvSpPr>
        <p:spPr>
          <a:xfrm>
            <a:off x="11353680" y="7480440"/>
            <a:ext cx="241560" cy="20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Line 26"/>
          <p:cNvSpPr/>
          <p:nvPr/>
        </p:nvSpPr>
        <p:spPr>
          <a:xfrm flipV="1">
            <a:off x="4421160" y="4456080"/>
            <a:ext cx="1085760" cy="103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Line 27"/>
          <p:cNvSpPr/>
          <p:nvPr/>
        </p:nvSpPr>
        <p:spPr>
          <a:xfrm flipV="1">
            <a:off x="6181560" y="4491000"/>
            <a:ext cx="20880" cy="10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Line 28"/>
          <p:cNvSpPr/>
          <p:nvPr/>
        </p:nvSpPr>
        <p:spPr>
          <a:xfrm flipH="1" flipV="1">
            <a:off x="6781680" y="4270320"/>
            <a:ext cx="1967040" cy="122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Line 29"/>
          <p:cNvSpPr/>
          <p:nvPr/>
        </p:nvSpPr>
        <p:spPr>
          <a:xfrm flipH="1" flipV="1">
            <a:off x="6778440" y="3862440"/>
            <a:ext cx="4560840" cy="1668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Line 30"/>
          <p:cNvSpPr/>
          <p:nvPr/>
        </p:nvSpPr>
        <p:spPr>
          <a:xfrm flipH="1" flipV="1">
            <a:off x="6768720" y="3720600"/>
            <a:ext cx="3954600" cy="12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10802160" y="3539160"/>
            <a:ext cx="50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Gill Sans"/>
                <a:ea typeface="宋体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8" name="Picture 32" descr=""/>
          <p:cNvPicPr/>
          <p:nvPr/>
        </p:nvPicPr>
        <p:blipFill>
          <a:blip r:embed="rId2"/>
          <a:stretch/>
        </p:blipFill>
        <p:spPr>
          <a:xfrm>
            <a:off x="5219640" y="31370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3" descr=""/>
          <p:cNvPicPr/>
          <p:nvPr/>
        </p:nvPicPr>
        <p:blipFill>
          <a:blip r:embed="rId3"/>
          <a:stretch/>
        </p:blipFill>
        <p:spPr>
          <a:xfrm>
            <a:off x="5587920" y="347976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83840" y="396216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1" lang="en-US" sz="7200" spc="-1" strike="noStrike">
                <a:solidFill>
                  <a:srgbClr val="d90b00"/>
                </a:solidFill>
                <a:latin typeface="Arial"/>
              </a:rPr>
              <a:t>Gap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3340080" y="4167360"/>
            <a:ext cx="1181160" cy="16635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"/>
          <p:cNvSpPr/>
          <p:nvPr/>
        </p:nvSpPr>
        <p:spPr>
          <a:xfrm>
            <a:off x="1282680" y="6261120"/>
            <a:ext cx="11480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使用</a:t>
            </a:r>
            <a:r>
              <a:rPr b="1" lang="en-US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HTML5</a:t>
            </a:r>
            <a:r>
              <a:rPr b="1" lang="zh-CN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、</a:t>
            </a:r>
            <a:r>
              <a:rPr b="1" lang="en-US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CSS3</a:t>
            </a:r>
            <a:r>
              <a:rPr b="1" lang="zh-CN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、</a:t>
            </a:r>
            <a:r>
              <a:rPr b="1" lang="en-US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JavaScript</a:t>
            </a: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技术构建</a:t>
            </a:r>
            <a:r>
              <a:rPr b="1" lang="zh-CN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跨平台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3"/>
          <a:stretch/>
        </p:blipFill>
        <p:spPr>
          <a:xfrm>
            <a:off x="7734240" y="4145040"/>
            <a:ext cx="1587600" cy="1765080"/>
          </a:xfrm>
          <a:prstGeom prst="rect">
            <a:avLst/>
          </a:prstGeom>
          <a:ln w="0">
            <a:noFill/>
          </a:ln>
        </p:spPr>
      </p:pic>
      <p:sp>
        <p:nvSpPr>
          <p:cNvPr id="466" name="Line 5"/>
          <p:cNvSpPr/>
          <p:nvPr/>
        </p:nvSpPr>
        <p:spPr>
          <a:xfrm flipH="1" flipV="1">
            <a:off x="4788000" y="5003280"/>
            <a:ext cx="3225600" cy="1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577960" y="12600"/>
            <a:ext cx="8889840" cy="1701720"/>
            <a:chOff x="2577960" y="12600"/>
            <a:chExt cx="8889840" cy="1701720"/>
          </a:xfrm>
        </p:grpSpPr>
        <p:sp>
          <p:nvSpPr>
            <p:cNvPr id="468" name="Rectangle 6"/>
            <p:cNvSpPr/>
            <p:nvPr/>
          </p:nvSpPr>
          <p:spPr>
            <a:xfrm>
              <a:off x="2781000" y="164880"/>
              <a:ext cx="84837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phoneGap </a:t>
              </a: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跨平台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69" name="Picture 7" descr=""/>
            <p:cNvPicPr/>
            <p:nvPr/>
          </p:nvPicPr>
          <p:blipFill>
            <a:blip r:embed="rId4"/>
            <a:stretch/>
          </p:blipFill>
          <p:spPr>
            <a:xfrm>
              <a:off x="2577960" y="12600"/>
              <a:ext cx="8889840" cy="17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1758960" y="4940280"/>
            <a:ext cx="1397160" cy="14986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3543480" y="5429160"/>
            <a:ext cx="66927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能够访问</a:t>
            </a:r>
            <a:r>
              <a:rPr b="1" lang="zh-CN" sz="4200" spc="-1" strike="noStrike">
                <a:solidFill>
                  <a:srgbClr val="0044fe"/>
                </a:solidFill>
                <a:latin typeface="Gill Sans"/>
                <a:ea typeface="Heiti SC Medium"/>
              </a:rPr>
              <a:t>本地功能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277200" y="3662280"/>
            <a:ext cx="1384200" cy="520560"/>
            <a:chOff x="9277200" y="3662280"/>
            <a:chExt cx="1384200" cy="520560"/>
          </a:xfrm>
        </p:grpSpPr>
        <p:sp>
          <p:nvSpPr>
            <p:cNvPr id="474" name="Rectangle 4"/>
            <p:cNvSpPr/>
            <p:nvPr/>
          </p:nvSpPr>
          <p:spPr>
            <a:xfrm>
              <a:off x="9289800" y="367488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摄像头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75" name="Picture 5" descr=""/>
            <p:cNvPicPr/>
            <p:nvPr/>
          </p:nvPicPr>
          <p:blipFill>
            <a:blip r:embed="rId3"/>
            <a:stretch/>
          </p:blipFill>
          <p:spPr>
            <a:xfrm>
              <a:off x="9277200" y="366228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9271080" y="4483080"/>
            <a:ext cx="1384200" cy="520560"/>
            <a:chOff x="9271080" y="4483080"/>
            <a:chExt cx="1384200" cy="520560"/>
          </a:xfrm>
        </p:grpSpPr>
        <p:sp>
          <p:nvSpPr>
            <p:cNvPr id="477" name="Rectangle 7"/>
            <p:cNvSpPr/>
            <p:nvPr/>
          </p:nvSpPr>
          <p:spPr>
            <a:xfrm>
              <a:off x="9283680" y="449568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重力感应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78" name="Picture 8" descr=""/>
            <p:cNvPicPr/>
            <p:nvPr/>
          </p:nvPicPr>
          <p:blipFill>
            <a:blip r:embed="rId4"/>
            <a:stretch/>
          </p:blipFill>
          <p:spPr>
            <a:xfrm>
              <a:off x="9271080" y="448308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9271080" y="5321160"/>
            <a:ext cx="1384200" cy="520560"/>
            <a:chOff x="9271080" y="5321160"/>
            <a:chExt cx="1384200" cy="520560"/>
          </a:xfrm>
        </p:grpSpPr>
        <p:sp>
          <p:nvSpPr>
            <p:cNvPr id="480" name="Rectangle 10"/>
            <p:cNvSpPr/>
            <p:nvPr/>
          </p:nvSpPr>
          <p:spPr>
            <a:xfrm>
              <a:off x="9283680" y="533376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elvetica Light"/>
                </a:rPr>
                <a:t>GP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81" name="Picture 11" descr=""/>
            <p:cNvPicPr/>
            <p:nvPr/>
          </p:nvPicPr>
          <p:blipFill>
            <a:blip r:embed="rId5"/>
            <a:stretch/>
          </p:blipFill>
          <p:spPr>
            <a:xfrm>
              <a:off x="9271080" y="532116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9271080" y="6159600"/>
            <a:ext cx="1384200" cy="520560"/>
            <a:chOff x="9271080" y="6159600"/>
            <a:chExt cx="1384200" cy="520560"/>
          </a:xfrm>
        </p:grpSpPr>
        <p:sp>
          <p:nvSpPr>
            <p:cNvPr id="483" name="Rectangle 13"/>
            <p:cNvSpPr/>
            <p:nvPr/>
          </p:nvSpPr>
          <p:spPr>
            <a:xfrm>
              <a:off x="9283680" y="617220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电话本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84" name="Picture 14" descr=""/>
            <p:cNvPicPr/>
            <p:nvPr/>
          </p:nvPicPr>
          <p:blipFill>
            <a:blip r:embed="rId6"/>
            <a:stretch/>
          </p:blipFill>
          <p:spPr>
            <a:xfrm>
              <a:off x="9271080" y="615960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"/>
          <p:cNvGrpSpPr/>
          <p:nvPr/>
        </p:nvGrpSpPr>
        <p:grpSpPr>
          <a:xfrm>
            <a:off x="9271080" y="6997680"/>
            <a:ext cx="1384200" cy="520560"/>
            <a:chOff x="9271080" y="6997680"/>
            <a:chExt cx="1384200" cy="520560"/>
          </a:xfrm>
        </p:grpSpPr>
        <p:sp>
          <p:nvSpPr>
            <p:cNvPr id="486" name="Rectangle 16"/>
            <p:cNvSpPr/>
            <p:nvPr/>
          </p:nvSpPr>
          <p:spPr>
            <a:xfrm>
              <a:off x="9283680" y="701028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照片库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87" name="Picture 17" descr=""/>
            <p:cNvPicPr/>
            <p:nvPr/>
          </p:nvPicPr>
          <p:blipFill>
            <a:blip r:embed="rId7"/>
            <a:stretch/>
          </p:blipFill>
          <p:spPr>
            <a:xfrm>
              <a:off x="9271080" y="699768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"/>
          <p:cNvGrpSpPr/>
          <p:nvPr/>
        </p:nvGrpSpPr>
        <p:grpSpPr>
          <a:xfrm>
            <a:off x="9271080" y="7937640"/>
            <a:ext cx="1384200" cy="520560"/>
            <a:chOff x="9271080" y="7937640"/>
            <a:chExt cx="1384200" cy="520560"/>
          </a:xfrm>
        </p:grpSpPr>
        <p:sp>
          <p:nvSpPr>
            <p:cNvPr id="489" name="Rectangle 19"/>
            <p:cNvSpPr/>
            <p:nvPr/>
          </p:nvSpPr>
          <p:spPr>
            <a:xfrm>
              <a:off x="9283680" y="795024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本地通知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90" name="Picture 20" descr=""/>
            <p:cNvPicPr/>
            <p:nvPr/>
          </p:nvPicPr>
          <p:blipFill>
            <a:blip r:embed="rId8"/>
            <a:stretch/>
          </p:blipFill>
          <p:spPr>
            <a:xfrm>
              <a:off x="9271080" y="793764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9271080" y="8775720"/>
            <a:ext cx="1384200" cy="520560"/>
            <a:chOff x="9271080" y="8775720"/>
            <a:chExt cx="1384200" cy="520560"/>
          </a:xfrm>
        </p:grpSpPr>
        <p:sp>
          <p:nvSpPr>
            <p:cNvPr id="492" name="Rectangle 22"/>
            <p:cNvSpPr/>
            <p:nvPr/>
          </p:nvSpPr>
          <p:spPr>
            <a:xfrm>
              <a:off x="9283680" y="8788320"/>
              <a:ext cx="135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设备信息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93" name="Picture 23" descr=""/>
            <p:cNvPicPr/>
            <p:nvPr/>
          </p:nvPicPr>
          <p:blipFill>
            <a:blip r:embed="rId9"/>
            <a:stretch/>
          </p:blipFill>
          <p:spPr>
            <a:xfrm>
              <a:off x="9271080" y="8775720"/>
              <a:ext cx="13842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Line 25"/>
          <p:cNvSpPr/>
          <p:nvPr/>
        </p:nvSpPr>
        <p:spPr>
          <a:xfrm flipH="1">
            <a:off x="7137360" y="4089240"/>
            <a:ext cx="2146320" cy="171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26"/>
          <p:cNvSpPr/>
          <p:nvPr/>
        </p:nvSpPr>
        <p:spPr>
          <a:xfrm flipH="1">
            <a:off x="7143840" y="4870440"/>
            <a:ext cx="21398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27"/>
          <p:cNvSpPr/>
          <p:nvPr/>
        </p:nvSpPr>
        <p:spPr>
          <a:xfrm flipH="1" flipV="1">
            <a:off x="7143840" y="5770080"/>
            <a:ext cx="2139840" cy="77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28"/>
          <p:cNvSpPr/>
          <p:nvPr/>
        </p:nvSpPr>
        <p:spPr>
          <a:xfrm flipH="1">
            <a:off x="7137360" y="5672160"/>
            <a:ext cx="2146320" cy="112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29"/>
          <p:cNvSpPr/>
          <p:nvPr/>
        </p:nvSpPr>
        <p:spPr>
          <a:xfrm flipH="1" flipV="1">
            <a:off x="7210080" y="5818320"/>
            <a:ext cx="2071800" cy="1444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30"/>
          <p:cNvSpPr/>
          <p:nvPr/>
        </p:nvSpPr>
        <p:spPr>
          <a:xfrm flipH="1" flipV="1">
            <a:off x="7213680" y="5815080"/>
            <a:ext cx="2031840" cy="2287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31"/>
          <p:cNvSpPr/>
          <p:nvPr/>
        </p:nvSpPr>
        <p:spPr>
          <a:xfrm flipH="1" flipV="1">
            <a:off x="7178760" y="5813280"/>
            <a:ext cx="2014560" cy="315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25760" y="12600"/>
            <a:ext cx="9740880" cy="1701720"/>
            <a:chOff x="1625760" y="12600"/>
            <a:chExt cx="9740880" cy="1701720"/>
          </a:xfrm>
        </p:grpSpPr>
        <p:sp>
          <p:nvSpPr>
            <p:cNvPr id="502" name="Rectangle 32"/>
            <p:cNvSpPr/>
            <p:nvPr/>
          </p:nvSpPr>
          <p:spPr>
            <a:xfrm>
              <a:off x="1828800" y="164880"/>
              <a:ext cx="9334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phoneGap </a:t>
              </a: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本地功能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03" name="Picture 33" descr=""/>
            <p:cNvPicPr/>
            <p:nvPr/>
          </p:nvPicPr>
          <p:blipFill>
            <a:blip r:embed="rId10"/>
            <a:stretch/>
          </p:blipFill>
          <p:spPr>
            <a:xfrm>
              <a:off x="1625760" y="12600"/>
              <a:ext cx="9740880" cy="17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Rectangle 35"/>
          <p:cNvSpPr/>
          <p:nvPr/>
        </p:nvSpPr>
        <p:spPr>
          <a:xfrm>
            <a:off x="1789560" y="5070960"/>
            <a:ext cx="39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Gill Sans"/>
              </a:rPr>
              <a:t>j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Rectangle 36"/>
          <p:cNvSpPr/>
          <p:nvPr/>
        </p:nvSpPr>
        <p:spPr>
          <a:xfrm>
            <a:off x="2268360" y="5794920"/>
            <a:ext cx="39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7038"/>
                </a:solidFill>
                <a:latin typeface="Gill Sans"/>
              </a:rPr>
              <a:t>j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Rectangle 37"/>
          <p:cNvSpPr/>
          <p:nvPr/>
        </p:nvSpPr>
        <p:spPr>
          <a:xfrm>
            <a:off x="2804400" y="5675400"/>
            <a:ext cx="337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79b"/>
                </a:solidFill>
                <a:latin typeface="Gill Sans"/>
              </a:rPr>
              <a:t>j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Rectangle 38"/>
          <p:cNvSpPr/>
          <p:nvPr/>
        </p:nvSpPr>
        <p:spPr>
          <a:xfrm>
            <a:off x="2268360" y="4753440"/>
            <a:ext cx="39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Gill Sans"/>
              </a:rPr>
              <a:t>j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Rectangle 39"/>
          <p:cNvSpPr/>
          <p:nvPr/>
        </p:nvSpPr>
        <p:spPr>
          <a:xfrm>
            <a:off x="2860200" y="5245920"/>
            <a:ext cx="22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7038"/>
                </a:solidFill>
                <a:latin typeface="Gill Sans"/>
              </a:rPr>
              <a:t>j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Rectangle 40"/>
          <p:cNvSpPr/>
          <p:nvPr/>
        </p:nvSpPr>
        <p:spPr>
          <a:xfrm>
            <a:off x="2417760" y="5520600"/>
            <a:ext cx="16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7038"/>
                </a:solidFill>
                <a:latin typeface="Gill Sans"/>
              </a:rPr>
              <a:t>j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Rectangle 41"/>
          <p:cNvSpPr/>
          <p:nvPr/>
        </p:nvSpPr>
        <p:spPr>
          <a:xfrm>
            <a:off x="1911960" y="580716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e7038"/>
                </a:solidFill>
                <a:latin typeface="Gill Sans"/>
              </a:rPr>
              <a:t>js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1930320" y="4267080"/>
            <a:ext cx="1549440" cy="16257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000680" y="4680000"/>
            <a:ext cx="6692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通过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0044fe"/>
                </a:solidFill>
                <a:latin typeface="Gill Sans"/>
              </a:rPr>
              <a:t>phoneGap build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25760" y="12600"/>
            <a:ext cx="9740880" cy="1701720"/>
            <a:chOff x="1625760" y="12600"/>
            <a:chExt cx="9740880" cy="1701720"/>
          </a:xfrm>
        </p:grpSpPr>
        <p:sp>
          <p:nvSpPr>
            <p:cNvPr id="515" name="Rectangle 4"/>
            <p:cNvSpPr/>
            <p:nvPr/>
          </p:nvSpPr>
          <p:spPr>
            <a:xfrm>
              <a:off x="1828800" y="164880"/>
              <a:ext cx="9334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phoneGap </a:t>
              </a: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打包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16" name="Picture 5" descr=""/>
            <p:cNvPicPr/>
            <p:nvPr/>
          </p:nvPicPr>
          <p:blipFill>
            <a:blip r:embed="rId3"/>
            <a:stretch/>
          </p:blipFill>
          <p:spPr>
            <a:xfrm>
              <a:off x="1625760" y="12600"/>
              <a:ext cx="9740880" cy="17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2320" y="419076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为什么要学习移动开发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1473120" y="3616200"/>
            <a:ext cx="10642680" cy="30132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1009800" y="1189800"/>
            <a:ext cx="4398120" cy="3177000"/>
            <a:chOff x="1009800" y="1189800"/>
            <a:chExt cx="4398120" cy="3177000"/>
          </a:xfrm>
        </p:grpSpPr>
        <p:sp>
          <p:nvSpPr>
            <p:cNvPr id="519" name="Rectangle 2"/>
            <p:cNvSpPr/>
            <p:nvPr/>
          </p:nvSpPr>
          <p:spPr>
            <a:xfrm rot="20447400">
              <a:off x="1288440" y="1961280"/>
              <a:ext cx="3839760" cy="16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不提供</a:t>
              </a:r>
              <a:r>
                <a:rPr b="1" lang="en-US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UI</a:t>
              </a: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设计解决方案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20" name="Picture 3" descr=""/>
            <p:cNvPicPr/>
            <p:nvPr/>
          </p:nvPicPr>
          <p:blipFill>
            <a:blip r:embed="rId2"/>
            <a:stretch/>
          </p:blipFill>
          <p:spPr>
            <a:xfrm rot="20447400">
              <a:off x="1225440" y="1787040"/>
              <a:ext cx="3966840" cy="19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"/>
          <p:cNvGrpSpPr/>
          <p:nvPr/>
        </p:nvGrpSpPr>
        <p:grpSpPr>
          <a:xfrm>
            <a:off x="4247280" y="1414800"/>
            <a:ext cx="4500360" cy="3240360"/>
            <a:chOff x="4247280" y="1414800"/>
            <a:chExt cx="4500360" cy="3240360"/>
          </a:xfrm>
        </p:grpSpPr>
        <p:sp>
          <p:nvSpPr>
            <p:cNvPr id="522" name="Rectangle 5"/>
            <p:cNvSpPr/>
            <p:nvPr/>
          </p:nvSpPr>
          <p:spPr>
            <a:xfrm rot="20447400">
              <a:off x="4529520" y="2203560"/>
              <a:ext cx="3935520" cy="16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不具备服务端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23" name="Picture 6" descr=""/>
            <p:cNvPicPr/>
            <p:nvPr/>
          </p:nvPicPr>
          <p:blipFill>
            <a:blip r:embed="rId3"/>
            <a:stretch/>
          </p:blipFill>
          <p:spPr>
            <a:xfrm rot="20447400">
              <a:off x="4465440" y="2027160"/>
              <a:ext cx="4063320" cy="20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7409520" y="1592640"/>
            <a:ext cx="4500360" cy="3240000"/>
            <a:chOff x="7409520" y="1592640"/>
            <a:chExt cx="4500360" cy="3240000"/>
          </a:xfrm>
        </p:grpSpPr>
        <p:sp>
          <p:nvSpPr>
            <p:cNvPr id="525" name="Rectangle 8"/>
            <p:cNvSpPr/>
            <p:nvPr/>
          </p:nvSpPr>
          <p:spPr>
            <a:xfrm rot="20447400">
              <a:off x="7691400" y="2380680"/>
              <a:ext cx="3935880" cy="16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不支持设备调试</a:t>
              </a:r>
              <a:r>
                <a:rPr b="1" lang="en-US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26" name="Picture 9" descr=""/>
            <p:cNvPicPr/>
            <p:nvPr/>
          </p:nvPicPr>
          <p:blipFill>
            <a:blip r:embed="rId4"/>
            <a:stretch/>
          </p:blipFill>
          <p:spPr>
            <a:xfrm rot="20447400">
              <a:off x="7627680" y="2205000"/>
              <a:ext cx="4063680" cy="201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"/>
          <p:cNvGrpSpPr/>
          <p:nvPr/>
        </p:nvGrpSpPr>
        <p:grpSpPr>
          <a:xfrm>
            <a:off x="551520" y="6113880"/>
            <a:ext cx="4500360" cy="3240000"/>
            <a:chOff x="551520" y="6113880"/>
            <a:chExt cx="4500360" cy="3240000"/>
          </a:xfrm>
        </p:grpSpPr>
        <p:sp>
          <p:nvSpPr>
            <p:cNvPr id="528" name="Rectangle 11"/>
            <p:cNvSpPr/>
            <p:nvPr/>
          </p:nvSpPr>
          <p:spPr>
            <a:xfrm rot="20447400">
              <a:off x="833400" y="6901920"/>
              <a:ext cx="3935880" cy="16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打包付费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29" name="Picture 12" descr=""/>
            <p:cNvPicPr/>
            <p:nvPr/>
          </p:nvPicPr>
          <p:blipFill>
            <a:blip r:embed="rId5"/>
            <a:stretch/>
          </p:blipFill>
          <p:spPr>
            <a:xfrm rot="20447400">
              <a:off x="769680" y="6726240"/>
              <a:ext cx="4063680" cy="201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"/>
          <p:cNvGrpSpPr/>
          <p:nvPr/>
        </p:nvGrpSpPr>
        <p:grpSpPr>
          <a:xfrm>
            <a:off x="4094640" y="6342480"/>
            <a:ext cx="4500360" cy="3240000"/>
            <a:chOff x="4094640" y="6342480"/>
            <a:chExt cx="4500360" cy="3240000"/>
          </a:xfrm>
        </p:grpSpPr>
        <p:sp>
          <p:nvSpPr>
            <p:cNvPr id="531" name="Rectangle 14"/>
            <p:cNvSpPr/>
            <p:nvPr/>
          </p:nvSpPr>
          <p:spPr>
            <a:xfrm rot="20447400">
              <a:off x="4376520" y="7130520"/>
              <a:ext cx="3935880" cy="16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不帮助开发者销售推广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32" name="Picture 15" descr=""/>
            <p:cNvPicPr/>
            <p:nvPr/>
          </p:nvPicPr>
          <p:blipFill>
            <a:blip r:embed="rId6"/>
            <a:stretch/>
          </p:blipFill>
          <p:spPr>
            <a:xfrm rot="20447400">
              <a:off x="4312800" y="6954840"/>
              <a:ext cx="4063680" cy="201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"/>
          <p:cNvGrpSpPr/>
          <p:nvPr/>
        </p:nvGrpSpPr>
        <p:grpSpPr>
          <a:xfrm>
            <a:off x="7739640" y="6342480"/>
            <a:ext cx="4500360" cy="3240000"/>
            <a:chOff x="7739640" y="6342480"/>
            <a:chExt cx="4500360" cy="3240000"/>
          </a:xfrm>
        </p:grpSpPr>
        <p:sp>
          <p:nvSpPr>
            <p:cNvPr id="534" name="Rectangle 17"/>
            <p:cNvSpPr/>
            <p:nvPr/>
          </p:nvSpPr>
          <p:spPr>
            <a:xfrm rot="20447400">
              <a:off x="8021520" y="7130520"/>
              <a:ext cx="3935880" cy="16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....</a:t>
              </a:r>
              <a:r>
                <a:rPr b="1" lang="zh-CN" sz="2400" spc="-1" strike="noStrike">
                  <a:solidFill>
                    <a:srgbClr val="ff2712"/>
                  </a:solidFill>
                  <a:latin typeface="Arial"/>
                  <a:ea typeface="Heiti SC Medium"/>
                </a:rPr>
                <a:t>未知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35" name="Picture 18" descr=""/>
            <p:cNvPicPr/>
            <p:nvPr/>
          </p:nvPicPr>
          <p:blipFill>
            <a:blip r:embed="rId7"/>
            <a:stretch/>
          </p:blipFill>
          <p:spPr>
            <a:xfrm rot="20447400">
              <a:off x="7957800" y="6954840"/>
              <a:ext cx="4063680" cy="201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10011600" y="912492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2"/>
          <a:stretch/>
        </p:blipFill>
        <p:spPr>
          <a:xfrm>
            <a:off x="952560" y="3478320"/>
            <a:ext cx="10985400" cy="40892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48240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新浪移动云计算开发平台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1231920" y="2565360"/>
            <a:ext cx="1005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b132"/>
                </a:solidFill>
                <a:latin typeface="Arial"/>
                <a:ea typeface="Heiti SC Medium"/>
              </a:rPr>
              <a:t>简单</a:t>
            </a:r>
            <a:r>
              <a:rPr b="1" lang="zh-CN" sz="3600" spc="-1" strike="noStrike">
                <a:solidFill>
                  <a:srgbClr val="ff5308"/>
                </a:solidFill>
                <a:latin typeface="Arial"/>
                <a:ea typeface="Heiti SC Medium"/>
              </a:rPr>
              <a:t>快速</a:t>
            </a:r>
            <a:r>
              <a:rPr b="1" lang="zh-CN" sz="3600" spc="-1" strike="noStrike">
                <a:solidFill>
                  <a:srgbClr val="ff2712"/>
                </a:solidFill>
                <a:latin typeface="Arial"/>
                <a:ea typeface="Heiti SC Medium"/>
              </a:rPr>
              <a:t>低成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Heiti SC Medium"/>
              </a:rPr>
              <a:t>产生</a:t>
            </a:r>
            <a:r>
              <a:rPr b="1" lang="en-US" sz="3600" spc="-1" strike="noStrike">
                <a:solidFill>
                  <a:srgbClr val="0044fe"/>
                </a:solidFill>
                <a:latin typeface="Arial"/>
                <a:ea typeface="Heiti SC Medium"/>
              </a:rPr>
              <a:t>Hybrid app</a:t>
            </a:r>
            <a:r>
              <a:rPr b="1" lang="zh-CN" sz="3600" spc="-1" strike="noStrike">
                <a:solidFill>
                  <a:srgbClr val="0044fe"/>
                </a:solidFill>
                <a:latin typeface="Arial"/>
                <a:ea typeface="Heiti SC Medium"/>
              </a:rPr>
              <a:t>流水线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0909440" y="4216320"/>
            <a:ext cx="812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2260440" y="4549680"/>
            <a:ext cx="504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Oval 7"/>
          <p:cNvSpPr/>
          <p:nvPr/>
        </p:nvSpPr>
        <p:spPr>
          <a:xfrm>
            <a:off x="2171880" y="4432320"/>
            <a:ext cx="190440" cy="203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Oval 8"/>
          <p:cNvSpPr/>
          <p:nvPr/>
        </p:nvSpPr>
        <p:spPr>
          <a:xfrm>
            <a:off x="10147320" y="6184800"/>
            <a:ext cx="190440" cy="203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Line 9"/>
          <p:cNvSpPr/>
          <p:nvPr/>
        </p:nvSpPr>
        <p:spPr>
          <a:xfrm>
            <a:off x="10226520" y="4944960"/>
            <a:ext cx="972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0" y="4680"/>
            <a:ext cx="12987360" cy="974592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12440" y="266400"/>
            <a:ext cx="9766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组成与特点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176160" y="3205440"/>
            <a:ext cx="2950560" cy="2277360"/>
            <a:chOff x="6176160" y="3205440"/>
            <a:chExt cx="2950560" cy="2277360"/>
          </a:xfrm>
        </p:grpSpPr>
        <p:sp>
          <p:nvSpPr>
            <p:cNvPr id="549" name="Rectangle 3"/>
            <p:cNvSpPr/>
            <p:nvPr/>
          </p:nvSpPr>
          <p:spPr>
            <a:xfrm rot="20447400">
              <a:off x="6417000" y="3722400"/>
              <a:ext cx="24685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永远免费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0" name="Picture 4" descr=""/>
            <p:cNvPicPr/>
            <p:nvPr/>
          </p:nvPicPr>
          <p:blipFill>
            <a:blip r:embed="rId2"/>
            <a:stretch/>
          </p:blipFill>
          <p:spPr>
            <a:xfrm rot="20447400">
              <a:off x="6351480" y="3591000"/>
              <a:ext cx="2599920" cy="150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"/>
          <p:cNvGrpSpPr/>
          <p:nvPr/>
        </p:nvGrpSpPr>
        <p:grpSpPr>
          <a:xfrm>
            <a:off x="82440" y="3637080"/>
            <a:ext cx="2400480" cy="520560"/>
            <a:chOff x="82440" y="3637080"/>
            <a:chExt cx="2400480" cy="520560"/>
          </a:xfrm>
        </p:grpSpPr>
        <p:sp>
          <p:nvSpPr>
            <p:cNvPr id="552" name="Rectangle 6"/>
            <p:cNvSpPr/>
            <p:nvPr/>
          </p:nvSpPr>
          <p:spPr>
            <a:xfrm>
              <a:off x="95040" y="3649680"/>
              <a:ext cx="2374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低门槛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3" name="Picture 7" descr=""/>
            <p:cNvPicPr/>
            <p:nvPr/>
          </p:nvPicPr>
          <p:blipFill>
            <a:blip r:embed="rId3"/>
            <a:stretch/>
          </p:blipFill>
          <p:spPr>
            <a:xfrm>
              <a:off x="82440" y="3637080"/>
              <a:ext cx="240048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4" name=""/>
          <p:cNvGrpSpPr/>
          <p:nvPr/>
        </p:nvGrpSpPr>
        <p:grpSpPr>
          <a:xfrm>
            <a:off x="82440" y="4513320"/>
            <a:ext cx="2400480" cy="520560"/>
            <a:chOff x="82440" y="4513320"/>
            <a:chExt cx="2400480" cy="520560"/>
          </a:xfrm>
        </p:grpSpPr>
        <p:sp>
          <p:nvSpPr>
            <p:cNvPr id="555" name="Rectangle 9"/>
            <p:cNvSpPr/>
            <p:nvPr/>
          </p:nvSpPr>
          <p:spPr>
            <a:xfrm>
              <a:off x="95040" y="4525920"/>
              <a:ext cx="2374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高效率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6" name="Picture 10" descr=""/>
            <p:cNvPicPr/>
            <p:nvPr/>
          </p:nvPicPr>
          <p:blipFill>
            <a:blip r:embed="rId4"/>
            <a:stretch/>
          </p:blipFill>
          <p:spPr>
            <a:xfrm>
              <a:off x="82440" y="4513320"/>
              <a:ext cx="240048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"/>
          <p:cNvGrpSpPr/>
          <p:nvPr/>
        </p:nvGrpSpPr>
        <p:grpSpPr>
          <a:xfrm>
            <a:off x="4188600" y="5375520"/>
            <a:ext cx="2950560" cy="2277360"/>
            <a:chOff x="4188600" y="5375520"/>
            <a:chExt cx="2950560" cy="2277360"/>
          </a:xfrm>
        </p:grpSpPr>
        <p:sp>
          <p:nvSpPr>
            <p:cNvPr id="558" name="Rectangle 12"/>
            <p:cNvSpPr/>
            <p:nvPr/>
          </p:nvSpPr>
          <p:spPr>
            <a:xfrm rot="20447400">
              <a:off x="4429440" y="5892480"/>
              <a:ext cx="24685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提供运营支持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59" name="Picture 13" descr=""/>
            <p:cNvPicPr/>
            <p:nvPr/>
          </p:nvPicPr>
          <p:blipFill>
            <a:blip r:embed="rId5"/>
            <a:stretch/>
          </p:blipFill>
          <p:spPr>
            <a:xfrm rot="20447400">
              <a:off x="4363920" y="5761080"/>
              <a:ext cx="2599920" cy="150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"/>
          <p:cNvGrpSpPr/>
          <p:nvPr/>
        </p:nvGrpSpPr>
        <p:grpSpPr>
          <a:xfrm>
            <a:off x="1324080" y="4011120"/>
            <a:ext cx="4983120" cy="3539880"/>
            <a:chOff x="1324080" y="4011120"/>
            <a:chExt cx="4983120" cy="3539880"/>
          </a:xfrm>
        </p:grpSpPr>
        <p:sp>
          <p:nvSpPr>
            <p:cNvPr id="561" name="Rectangle 15"/>
            <p:cNvSpPr/>
            <p:nvPr/>
          </p:nvSpPr>
          <p:spPr>
            <a:xfrm rot="20447400">
              <a:off x="1617480" y="4885560"/>
              <a:ext cx="4394160" cy="17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除了本地接口调用以外的支持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62" name="Picture 16" descr=""/>
            <p:cNvPicPr/>
            <p:nvPr/>
          </p:nvPicPr>
          <p:blipFill>
            <a:blip r:embed="rId6"/>
            <a:stretch/>
          </p:blipFill>
          <p:spPr>
            <a:xfrm rot="20447400">
              <a:off x="1555560" y="4694040"/>
              <a:ext cx="4519440" cy="217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3" name="Picture 18" descr=""/>
          <p:cNvPicPr/>
          <p:nvPr/>
        </p:nvPicPr>
        <p:blipFill>
          <a:blip r:embed="rId7"/>
          <a:stretch/>
        </p:blipFill>
        <p:spPr>
          <a:xfrm>
            <a:off x="358920" y="1943280"/>
            <a:ext cx="1401480" cy="170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9" descr=""/>
          <p:cNvPicPr/>
          <p:nvPr/>
        </p:nvPicPr>
        <p:blipFill>
          <a:blip r:embed="rId8"/>
          <a:stretch/>
        </p:blipFill>
        <p:spPr>
          <a:xfrm>
            <a:off x="9867960" y="2230560"/>
            <a:ext cx="1396800" cy="1249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0" descr=""/>
          <p:cNvPicPr/>
          <p:nvPr/>
        </p:nvPicPr>
        <p:blipFill>
          <a:blip r:embed="rId9"/>
          <a:stretch/>
        </p:blipFill>
        <p:spPr>
          <a:xfrm>
            <a:off x="9232920" y="4915080"/>
            <a:ext cx="1066680" cy="1155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1" descr=""/>
          <p:cNvPicPr/>
          <p:nvPr/>
        </p:nvPicPr>
        <p:blipFill>
          <a:blip r:embed="rId10"/>
          <a:stretch/>
        </p:blipFill>
        <p:spPr>
          <a:xfrm>
            <a:off x="4229280" y="7550280"/>
            <a:ext cx="1549080" cy="185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2" descr=""/>
          <p:cNvPicPr/>
          <p:nvPr/>
        </p:nvPicPr>
        <p:blipFill>
          <a:blip r:embed="rId11"/>
          <a:stretch/>
        </p:blipFill>
        <p:spPr>
          <a:xfrm>
            <a:off x="6781680" y="2146320"/>
            <a:ext cx="1270080" cy="1282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3" descr=""/>
          <p:cNvPicPr/>
          <p:nvPr/>
        </p:nvPicPr>
        <p:blipFill>
          <a:blip r:embed="rId12"/>
          <a:stretch/>
        </p:blipFill>
        <p:spPr>
          <a:xfrm>
            <a:off x="6426360" y="1695600"/>
            <a:ext cx="558720" cy="6793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"/>
          <p:cNvPicPr/>
          <p:nvPr/>
        </p:nvPicPr>
        <p:blipFill>
          <a:blip r:embed="rId13"/>
          <a:stretch/>
        </p:blipFill>
        <p:spPr>
          <a:xfrm>
            <a:off x="6978600" y="184140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"/>
          <p:cNvPicPr/>
          <p:nvPr/>
        </p:nvPicPr>
        <p:blipFill>
          <a:blip r:embed="rId14"/>
          <a:stretch/>
        </p:blipFill>
        <p:spPr>
          <a:xfrm>
            <a:off x="4013280" y="2235240"/>
            <a:ext cx="1130400" cy="1104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"/>
          <p:cNvPicPr/>
          <p:nvPr/>
        </p:nvPicPr>
        <p:blipFill>
          <a:blip r:embed="rId15"/>
          <a:stretch/>
        </p:blipFill>
        <p:spPr>
          <a:xfrm>
            <a:off x="7378560" y="6337440"/>
            <a:ext cx="952560" cy="139680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907920" y="8636040"/>
            <a:ext cx="2629080" cy="774720"/>
            <a:chOff x="907920" y="8636040"/>
            <a:chExt cx="2629080" cy="774720"/>
          </a:xfrm>
        </p:grpSpPr>
        <p:sp>
          <p:nvSpPr>
            <p:cNvPr id="573" name="Rectangle 27"/>
            <p:cNvSpPr/>
            <p:nvPr/>
          </p:nvSpPr>
          <p:spPr>
            <a:xfrm>
              <a:off x="920520" y="8648640"/>
              <a:ext cx="26035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200" spc="-1" strike="noStrike">
                  <a:solidFill>
                    <a:srgbClr val="000000"/>
                  </a:solidFill>
                  <a:latin typeface="Gill Sans"/>
                </a:rPr>
                <a:t>应用商店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74" name="Picture 28" descr=""/>
            <p:cNvPicPr/>
            <p:nvPr/>
          </p:nvPicPr>
          <p:blipFill>
            <a:blip r:embed="rId16"/>
            <a:stretch/>
          </p:blipFill>
          <p:spPr>
            <a:xfrm>
              <a:off x="907920" y="8636040"/>
              <a:ext cx="2629080" cy="77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5" name="Picture 30" descr=""/>
          <p:cNvPicPr/>
          <p:nvPr/>
        </p:nvPicPr>
        <p:blipFill>
          <a:blip r:embed="rId17"/>
          <a:stretch/>
        </p:blipFill>
        <p:spPr>
          <a:xfrm>
            <a:off x="2514600" y="1784520"/>
            <a:ext cx="736560" cy="755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1" descr=""/>
          <p:cNvPicPr/>
          <p:nvPr/>
        </p:nvPicPr>
        <p:blipFill>
          <a:blip r:embed="rId18"/>
          <a:stretch/>
        </p:blipFill>
        <p:spPr>
          <a:xfrm>
            <a:off x="3402000" y="1824120"/>
            <a:ext cx="647640" cy="690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2" descr=""/>
          <p:cNvPicPr/>
          <p:nvPr/>
        </p:nvPicPr>
        <p:blipFill>
          <a:blip r:embed="rId19"/>
          <a:stretch/>
        </p:blipFill>
        <p:spPr>
          <a:xfrm>
            <a:off x="1906560" y="1990800"/>
            <a:ext cx="419040" cy="482400"/>
          </a:xfrm>
          <a:prstGeom prst="rect">
            <a:avLst/>
          </a:prstGeom>
          <a:ln w="0">
            <a:noFill/>
          </a:ln>
        </p:spPr>
      </p:pic>
      <p:grpSp>
        <p:nvGrpSpPr>
          <p:cNvPr id="578" name=""/>
          <p:cNvGrpSpPr/>
          <p:nvPr/>
        </p:nvGrpSpPr>
        <p:grpSpPr>
          <a:xfrm>
            <a:off x="4060800" y="2494800"/>
            <a:ext cx="2989080" cy="2301120"/>
            <a:chOff x="4060800" y="2494800"/>
            <a:chExt cx="2989080" cy="2301120"/>
          </a:xfrm>
        </p:grpSpPr>
        <p:sp>
          <p:nvSpPr>
            <p:cNvPr id="579" name="Rectangle 33"/>
            <p:cNvSpPr/>
            <p:nvPr/>
          </p:nvSpPr>
          <p:spPr>
            <a:xfrm rot="20447400">
              <a:off x="4302720" y="3019320"/>
              <a:ext cx="25041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云窗调试器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80" name="Picture 34" descr=""/>
            <p:cNvPicPr/>
            <p:nvPr/>
          </p:nvPicPr>
          <p:blipFill>
            <a:blip r:embed="rId20"/>
            <a:stretch/>
          </p:blipFill>
          <p:spPr>
            <a:xfrm rot="20447400">
              <a:off x="4237200" y="2885760"/>
              <a:ext cx="2636280" cy="151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1" name="Picture 36" descr=""/>
          <p:cNvPicPr/>
          <p:nvPr/>
        </p:nvPicPr>
        <p:blipFill>
          <a:blip r:embed="rId21"/>
          <a:stretch/>
        </p:blipFill>
        <p:spPr>
          <a:xfrm>
            <a:off x="6350040" y="2984400"/>
            <a:ext cx="711000" cy="71136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76320" y="5207040"/>
            <a:ext cx="2298600" cy="901800"/>
            <a:chOff x="76320" y="5207040"/>
            <a:chExt cx="2298600" cy="901800"/>
          </a:xfrm>
        </p:grpSpPr>
        <p:sp>
          <p:nvSpPr>
            <p:cNvPr id="583" name="Rectangle 37"/>
            <p:cNvSpPr/>
            <p:nvPr/>
          </p:nvSpPr>
          <p:spPr>
            <a:xfrm>
              <a:off x="88920" y="5219640"/>
              <a:ext cx="227340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为开发者提供最大的支持与帮助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84" name="Picture 38" descr=""/>
            <p:cNvPicPr/>
            <p:nvPr/>
          </p:nvPicPr>
          <p:blipFill>
            <a:blip r:embed="rId22"/>
            <a:stretch/>
          </p:blipFill>
          <p:spPr>
            <a:xfrm>
              <a:off x="76320" y="5207040"/>
              <a:ext cx="22986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Line 40"/>
          <p:cNvSpPr/>
          <p:nvPr/>
        </p:nvSpPr>
        <p:spPr>
          <a:xfrm flipH="1">
            <a:off x="1701360" y="2849400"/>
            <a:ext cx="2203560" cy="2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222640" y="2584440"/>
            <a:ext cx="888840" cy="507960"/>
            <a:chOff x="2222640" y="2584440"/>
            <a:chExt cx="888840" cy="507960"/>
          </a:xfrm>
        </p:grpSpPr>
        <p:sp>
          <p:nvSpPr>
            <p:cNvPr id="587" name="Rectangle 41"/>
            <p:cNvSpPr/>
            <p:nvPr/>
          </p:nvSpPr>
          <p:spPr>
            <a:xfrm>
              <a:off x="2235240" y="2597040"/>
              <a:ext cx="86364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创建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88" name="Picture 42" descr=""/>
            <p:cNvPicPr/>
            <p:nvPr/>
          </p:nvPicPr>
          <p:blipFill>
            <a:blip r:embed="rId23"/>
            <a:stretch/>
          </p:blipFill>
          <p:spPr>
            <a:xfrm>
              <a:off x="2222640" y="2584440"/>
              <a:ext cx="88884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Line 44"/>
          <p:cNvSpPr/>
          <p:nvPr/>
        </p:nvSpPr>
        <p:spPr>
          <a:xfrm flipH="1">
            <a:off x="5046480" y="2792520"/>
            <a:ext cx="1563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219640" y="2533680"/>
            <a:ext cx="952560" cy="507960"/>
            <a:chOff x="5219640" y="2533680"/>
            <a:chExt cx="952560" cy="507960"/>
          </a:xfrm>
        </p:grpSpPr>
        <p:sp>
          <p:nvSpPr>
            <p:cNvPr id="591" name="Rectangle 45"/>
            <p:cNvSpPr/>
            <p:nvPr/>
          </p:nvSpPr>
          <p:spPr>
            <a:xfrm>
              <a:off x="5232240" y="2546280"/>
              <a:ext cx="9273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调试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92" name="Picture 46" descr=""/>
            <p:cNvPicPr/>
            <p:nvPr/>
          </p:nvPicPr>
          <p:blipFill>
            <a:blip r:embed="rId24"/>
            <a:stretch/>
          </p:blipFill>
          <p:spPr>
            <a:xfrm>
              <a:off x="5219640" y="2533680"/>
              <a:ext cx="9525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Line 48"/>
          <p:cNvSpPr/>
          <p:nvPr/>
        </p:nvSpPr>
        <p:spPr>
          <a:xfrm flipH="1">
            <a:off x="7935480" y="2806560"/>
            <a:ext cx="183204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8153280" y="2552760"/>
            <a:ext cx="1193760" cy="507960"/>
            <a:chOff x="8153280" y="2552760"/>
            <a:chExt cx="1193760" cy="507960"/>
          </a:xfrm>
        </p:grpSpPr>
        <p:sp>
          <p:nvSpPr>
            <p:cNvPr id="595" name="Rectangle 49"/>
            <p:cNvSpPr/>
            <p:nvPr/>
          </p:nvSpPr>
          <p:spPr>
            <a:xfrm>
              <a:off x="8165880" y="2565360"/>
              <a:ext cx="11685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打包机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96" name="Picture 50" descr=""/>
            <p:cNvPicPr/>
            <p:nvPr/>
          </p:nvPicPr>
          <p:blipFill>
            <a:blip r:embed="rId25"/>
            <a:stretch/>
          </p:blipFill>
          <p:spPr>
            <a:xfrm>
              <a:off x="8153280" y="2552760"/>
              <a:ext cx="11937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52"/>
          <p:cNvSpPr/>
          <p:nvPr/>
        </p:nvSpPr>
        <p:spPr>
          <a:xfrm flipV="1">
            <a:off x="9964080" y="3322800"/>
            <a:ext cx="600120" cy="1699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779040" y="3898800"/>
            <a:ext cx="952560" cy="507960"/>
            <a:chOff x="9779040" y="3898800"/>
            <a:chExt cx="952560" cy="507960"/>
          </a:xfrm>
        </p:grpSpPr>
        <p:sp>
          <p:nvSpPr>
            <p:cNvPr id="599" name="Rectangle 53"/>
            <p:cNvSpPr/>
            <p:nvPr/>
          </p:nvSpPr>
          <p:spPr>
            <a:xfrm>
              <a:off x="9791640" y="3911400"/>
              <a:ext cx="9273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打包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00" name="Picture 54" descr=""/>
            <p:cNvPicPr/>
            <p:nvPr/>
          </p:nvPicPr>
          <p:blipFill>
            <a:blip r:embed="rId26"/>
            <a:stretch/>
          </p:blipFill>
          <p:spPr>
            <a:xfrm>
              <a:off x="9779040" y="3898800"/>
              <a:ext cx="9525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Line 56"/>
          <p:cNvSpPr/>
          <p:nvPr/>
        </p:nvSpPr>
        <p:spPr>
          <a:xfrm flipV="1">
            <a:off x="8348040" y="5901840"/>
            <a:ext cx="1090440" cy="9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Line 57"/>
          <p:cNvSpPr/>
          <p:nvPr/>
        </p:nvSpPr>
        <p:spPr>
          <a:xfrm flipV="1">
            <a:off x="5737320" y="7543440"/>
            <a:ext cx="1627200" cy="95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217000" y="6108840"/>
            <a:ext cx="1358640" cy="507960"/>
            <a:chOff x="8217000" y="6108840"/>
            <a:chExt cx="1358640" cy="507960"/>
          </a:xfrm>
        </p:grpSpPr>
        <p:sp>
          <p:nvSpPr>
            <p:cNvPr id="604" name="Rectangle 58"/>
            <p:cNvSpPr/>
            <p:nvPr/>
          </p:nvSpPr>
          <p:spPr>
            <a:xfrm>
              <a:off x="8229240" y="6121440"/>
              <a:ext cx="133308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跨平台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05" name="Picture 59" descr=""/>
            <p:cNvPicPr/>
            <p:nvPr/>
          </p:nvPicPr>
          <p:blipFill>
            <a:blip r:embed="rId27"/>
            <a:stretch/>
          </p:blipFill>
          <p:spPr>
            <a:xfrm>
              <a:off x="8217000" y="6108840"/>
              <a:ext cx="135864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"/>
          <p:cNvGrpSpPr/>
          <p:nvPr/>
        </p:nvGrpSpPr>
        <p:grpSpPr>
          <a:xfrm>
            <a:off x="6121440" y="7670880"/>
            <a:ext cx="1155600" cy="507960"/>
            <a:chOff x="6121440" y="7670880"/>
            <a:chExt cx="1155600" cy="507960"/>
          </a:xfrm>
        </p:grpSpPr>
        <p:sp>
          <p:nvSpPr>
            <p:cNvPr id="607" name="Rectangle 61"/>
            <p:cNvSpPr/>
            <p:nvPr/>
          </p:nvSpPr>
          <p:spPr>
            <a:xfrm>
              <a:off x="6134040" y="7683480"/>
              <a:ext cx="11304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Gill Sans"/>
                </a:rPr>
                <a:t>发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08" name="Picture 62" descr=""/>
            <p:cNvPicPr/>
            <p:nvPr/>
          </p:nvPicPr>
          <p:blipFill>
            <a:blip r:embed="rId28"/>
            <a:stretch/>
          </p:blipFill>
          <p:spPr>
            <a:xfrm>
              <a:off x="6121440" y="7670880"/>
              <a:ext cx="1155600" cy="50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4867200" y="7010280"/>
            <a:ext cx="2027160" cy="2159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5678280" cy="13716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02680" y="228240"/>
            <a:ext cx="12547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创建应用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6578640" y="2577960"/>
            <a:ext cx="1803240" cy="2705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5"/>
          <a:stretch/>
        </p:blipFill>
        <p:spPr>
          <a:xfrm>
            <a:off x="8902800" y="2577960"/>
            <a:ext cx="1803240" cy="27054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"/>
          <p:cNvSpPr/>
          <p:nvPr/>
        </p:nvSpPr>
        <p:spPr>
          <a:xfrm>
            <a:off x="660240" y="2971800"/>
            <a:ext cx="139716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代码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762120" y="6756480"/>
            <a:ext cx="118116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服务端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2019240" y="7378560"/>
            <a:ext cx="2133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数据库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8" name="Picture 10" descr=""/>
          <p:cNvPicPr/>
          <p:nvPr/>
        </p:nvPicPr>
        <p:blipFill>
          <a:blip r:embed="rId6"/>
          <a:stretch/>
        </p:blipFill>
        <p:spPr>
          <a:xfrm>
            <a:off x="7473960" y="6437160"/>
            <a:ext cx="4470480" cy="28972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1"/>
          <p:cNvSpPr/>
          <p:nvPr/>
        </p:nvSpPr>
        <p:spPr>
          <a:xfrm>
            <a:off x="3086280" y="7886880"/>
            <a:ext cx="2133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0" name="Picture 12" descr=""/>
          <p:cNvPicPr/>
          <p:nvPr/>
        </p:nvPicPr>
        <p:blipFill>
          <a:blip r:embed="rId7"/>
          <a:stretch/>
        </p:blipFill>
        <p:spPr>
          <a:xfrm>
            <a:off x="4152960" y="5168880"/>
            <a:ext cx="812880" cy="81288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13"/>
          <p:cNvSpPr/>
          <p:nvPr/>
        </p:nvSpPr>
        <p:spPr>
          <a:xfrm>
            <a:off x="4863960" y="5460840"/>
            <a:ext cx="10796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Lucida Grande"/>
              </a:rPr>
              <a:t>OAuth</a:t>
            </a:r>
            <a:r>
              <a:rPr b="0" lang="zh-CN" sz="1400" spc="-1" strike="noStrike">
                <a:solidFill>
                  <a:srgbClr val="434343"/>
                </a:solidFill>
                <a:latin typeface="Lucida Grande"/>
              </a:rPr>
              <a:t>认证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2" name="Picture 14" descr=""/>
          <p:cNvPicPr/>
          <p:nvPr/>
        </p:nvPicPr>
        <p:blipFill>
          <a:blip r:embed="rId8"/>
          <a:stretch/>
        </p:blipFill>
        <p:spPr>
          <a:xfrm>
            <a:off x="11030040" y="2666880"/>
            <a:ext cx="1517400" cy="25275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5"/>
          <p:cNvSpPr/>
          <p:nvPr/>
        </p:nvSpPr>
        <p:spPr>
          <a:xfrm>
            <a:off x="533520" y="5423040"/>
            <a:ext cx="304776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gap-plugi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4" name="Picture 16" descr=""/>
          <p:cNvPicPr/>
          <p:nvPr/>
        </p:nvPicPr>
        <p:blipFill>
          <a:blip r:embed="rId9"/>
          <a:stretch/>
        </p:blipFill>
        <p:spPr>
          <a:xfrm>
            <a:off x="2386080" y="3000240"/>
            <a:ext cx="45720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41400" y="215640"/>
            <a:ext cx="9321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调试工具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556080" y="2654280"/>
            <a:ext cx="763272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够直观的查看界面效果和实际运行环境，并且可以调用手机本地功能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1816200" y="4622760"/>
            <a:ext cx="172728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云端调试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2895480" y="5575320"/>
            <a:ext cx="172728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实时查看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5156280" y="7404120"/>
            <a:ext cx="154944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一键安装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89240" y="6426360"/>
            <a:ext cx="1549440" cy="507960"/>
          </a:xfrm>
          <a:prstGeom prst="rect">
            <a:avLst/>
          </a:prstGeom>
          <a:noFill/>
          <a:ln w="6480">
            <a:solidFill>
              <a:srgbClr val="ff2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在线跟踪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6603840" y="8292960"/>
            <a:ext cx="1549440" cy="50832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智能菜单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3" name="Picture 9" descr=""/>
          <p:cNvPicPr/>
          <p:nvPr/>
        </p:nvPicPr>
        <p:blipFill>
          <a:blip r:embed="rId2"/>
          <a:stretch/>
        </p:blipFill>
        <p:spPr>
          <a:xfrm>
            <a:off x="1879560" y="2666880"/>
            <a:ext cx="774720" cy="73656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10"/>
          <p:cNvSpPr/>
          <p:nvPr/>
        </p:nvSpPr>
        <p:spPr>
          <a:xfrm>
            <a:off x="1206360" y="3809880"/>
            <a:ext cx="1727280" cy="507960"/>
          </a:xfrm>
          <a:prstGeom prst="rect">
            <a:avLst/>
          </a:prstGeom>
          <a:noFill/>
          <a:ln w="648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自动获取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5" name="Picture 11" descr=""/>
          <p:cNvPicPr/>
          <p:nvPr/>
        </p:nvPicPr>
        <p:blipFill>
          <a:blip r:embed="rId3"/>
          <a:stretch/>
        </p:blipFill>
        <p:spPr>
          <a:xfrm>
            <a:off x="6972480" y="3446640"/>
            <a:ext cx="223488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311560" y="75960"/>
            <a:ext cx="8178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应用打包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47680" y="3700440"/>
            <a:ext cx="4673520" cy="520560"/>
            <a:chOff x="247680" y="3700440"/>
            <a:chExt cx="4673520" cy="520560"/>
          </a:xfrm>
        </p:grpSpPr>
        <p:sp>
          <p:nvSpPr>
            <p:cNvPr id="639" name="Rectangle 3"/>
            <p:cNvSpPr/>
            <p:nvPr/>
          </p:nvSpPr>
          <p:spPr>
            <a:xfrm>
              <a:off x="260280" y="3713040"/>
              <a:ext cx="46483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将</a:t>
              </a:r>
              <a:r>
                <a:rPr b="0" lang="en-US" sz="2400" spc="-1" strike="noStrike">
                  <a:solidFill>
                    <a:srgbClr val="000000"/>
                  </a:solidFill>
                  <a:latin typeface="Helvetica Light"/>
                </a:rPr>
                <a:t>web app </a:t>
              </a: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变成</a:t>
              </a:r>
              <a:r>
                <a:rPr b="0" lang="en-US" sz="2400" spc="-1" strike="noStrike">
                  <a:solidFill>
                    <a:srgbClr val="000000"/>
                  </a:solidFill>
                  <a:latin typeface="Helvetica Ligh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Helvetica Light"/>
                </a:rPr>
                <a:t>Hybird app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0" name="Picture 4" descr=""/>
            <p:cNvPicPr/>
            <p:nvPr/>
          </p:nvPicPr>
          <p:blipFill>
            <a:blip r:embed="rId2"/>
            <a:stretch/>
          </p:blipFill>
          <p:spPr>
            <a:xfrm>
              <a:off x="247680" y="3700440"/>
              <a:ext cx="467352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1117440" y="4991040"/>
            <a:ext cx="4673520" cy="520560"/>
            <a:chOff x="1117440" y="4991040"/>
            <a:chExt cx="4673520" cy="520560"/>
          </a:xfrm>
        </p:grpSpPr>
        <p:sp>
          <p:nvSpPr>
            <p:cNvPr id="642" name="Rectangle 6"/>
            <p:cNvSpPr/>
            <p:nvPr/>
          </p:nvSpPr>
          <p:spPr>
            <a:xfrm>
              <a:off x="1130040" y="5003640"/>
              <a:ext cx="46483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打包成安装文件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3" name="Picture 7" descr=""/>
            <p:cNvPicPr/>
            <p:nvPr/>
          </p:nvPicPr>
          <p:blipFill>
            <a:blip r:embed="rId3"/>
            <a:stretch/>
          </p:blipFill>
          <p:spPr>
            <a:xfrm>
              <a:off x="1117440" y="4991040"/>
              <a:ext cx="4673520" cy="52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"/>
          <p:cNvGrpSpPr/>
          <p:nvPr/>
        </p:nvGrpSpPr>
        <p:grpSpPr>
          <a:xfrm>
            <a:off x="2413080" y="6286680"/>
            <a:ext cx="4673520" cy="520560"/>
            <a:chOff x="2413080" y="6286680"/>
            <a:chExt cx="4673520" cy="520560"/>
          </a:xfrm>
        </p:grpSpPr>
        <p:sp>
          <p:nvSpPr>
            <p:cNvPr id="645" name="Rectangle 9"/>
            <p:cNvSpPr/>
            <p:nvPr/>
          </p:nvSpPr>
          <p:spPr>
            <a:xfrm>
              <a:off x="2425680" y="6299280"/>
              <a:ext cx="46483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可以发布到</a:t>
              </a:r>
              <a:r>
                <a:rPr b="0" lang="en-US" sz="2400" spc="-1" strike="noStrike">
                  <a:solidFill>
                    <a:srgbClr val="000000"/>
                  </a:solidFill>
                  <a:latin typeface="Helvetica Light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Helvetica Light"/>
                </a:rPr>
                <a:t>应用商店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646" name="Picture 10" descr=""/>
            <p:cNvPicPr/>
            <p:nvPr/>
          </p:nvPicPr>
          <p:blipFill>
            <a:blip r:embed="rId4"/>
            <a:stretch/>
          </p:blipFill>
          <p:spPr>
            <a:xfrm>
              <a:off x="2413080" y="6286680"/>
              <a:ext cx="4673520" cy="52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12" descr=""/>
          <p:cNvPicPr/>
          <p:nvPr/>
        </p:nvPicPr>
        <p:blipFill>
          <a:blip r:embed="rId5"/>
          <a:stretch/>
        </p:blipFill>
        <p:spPr>
          <a:xfrm>
            <a:off x="6804000" y="4940280"/>
            <a:ext cx="54356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1520" y="418680"/>
            <a:ext cx="12141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新浪移动云计算开发平台原理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3657600" y="4978440"/>
            <a:ext cx="1003320" cy="12193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409760" y="3949560"/>
            <a:ext cx="1828800" cy="346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2e6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2903400" y="6797520"/>
            <a:ext cx="2143440" cy="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676520" y="6400800"/>
            <a:ext cx="1282680" cy="80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2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宋体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AutoShape 7"/>
          <p:cNvSpPr/>
          <p:nvPr/>
        </p:nvSpPr>
        <p:spPr>
          <a:xfrm>
            <a:off x="5029200" y="6273720"/>
            <a:ext cx="2730600" cy="10540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调试器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676520" y="4483080"/>
            <a:ext cx="1282680" cy="80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29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Gill Sans"/>
                <a:ea typeface="宋体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9"/>
          <p:cNvSpPr/>
          <p:nvPr/>
        </p:nvSpPr>
        <p:spPr>
          <a:xfrm flipH="1">
            <a:off x="2793600" y="5891040"/>
            <a:ext cx="927000" cy="48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1458000" y="3407040"/>
            <a:ext cx="93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A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Oval 11"/>
          <p:cNvSpPr/>
          <p:nvPr/>
        </p:nvSpPr>
        <p:spPr>
          <a:xfrm>
            <a:off x="5638680" y="3568680"/>
            <a:ext cx="212112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Line 12"/>
          <p:cNvSpPr/>
          <p:nvPr/>
        </p:nvSpPr>
        <p:spPr>
          <a:xfrm flipH="1">
            <a:off x="4617720" y="4087800"/>
            <a:ext cx="1090440" cy="134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4021560" y="6663240"/>
            <a:ext cx="27504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98b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访问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5037840" y="4542480"/>
            <a:ext cx="27504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98b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Rectangle 15"/>
          <p:cNvSpPr/>
          <p:nvPr/>
        </p:nvSpPr>
        <p:spPr>
          <a:xfrm>
            <a:off x="6373800" y="373464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ill Sans"/>
              </a:rPr>
              <a:t>打包机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16"/>
          <p:cNvSpPr/>
          <p:nvPr/>
        </p:nvSpPr>
        <p:spPr>
          <a:xfrm>
            <a:off x="9550440" y="3848040"/>
            <a:ext cx="1828800" cy="346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2e5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17"/>
          <p:cNvSpPr/>
          <p:nvPr/>
        </p:nvSpPr>
        <p:spPr>
          <a:xfrm>
            <a:off x="10062360" y="3165840"/>
            <a:ext cx="1352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AutoShape 18"/>
          <p:cNvSpPr/>
          <p:nvPr/>
        </p:nvSpPr>
        <p:spPr>
          <a:xfrm>
            <a:off x="9829800" y="4521240"/>
            <a:ext cx="1270080" cy="698400"/>
          </a:xfrm>
          <a:prstGeom prst="roundRect">
            <a:avLst>
              <a:gd name="adj" fmla="val 27269"/>
            </a:avLst>
          </a:prstGeom>
          <a:solidFill>
            <a:srgbClr val="ffffff"/>
          </a:solidFill>
          <a:ln w="12600">
            <a:solidFill>
              <a:srgbClr val="86c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19"/>
          <p:cNvSpPr/>
          <p:nvPr/>
        </p:nvSpPr>
        <p:spPr>
          <a:xfrm>
            <a:off x="10209240" y="470628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p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AutoShape 20"/>
          <p:cNvSpPr/>
          <p:nvPr/>
        </p:nvSpPr>
        <p:spPr>
          <a:xfrm>
            <a:off x="9829800" y="5600880"/>
            <a:ext cx="1270080" cy="698400"/>
          </a:xfrm>
          <a:prstGeom prst="roundRect">
            <a:avLst>
              <a:gd name="adj" fmla="val 27269"/>
            </a:avLst>
          </a:prstGeom>
          <a:solidFill>
            <a:srgbClr val="ffffff"/>
          </a:solidFill>
          <a:ln w="12600">
            <a:solidFill>
              <a:srgbClr val="86c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Rectangle 21"/>
          <p:cNvSpPr/>
          <p:nvPr/>
        </p:nvSpPr>
        <p:spPr>
          <a:xfrm>
            <a:off x="10248840" y="5785920"/>
            <a:ext cx="43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p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Line 22"/>
          <p:cNvSpPr/>
          <p:nvPr/>
        </p:nvSpPr>
        <p:spPr>
          <a:xfrm flipH="1">
            <a:off x="7724520" y="3968640"/>
            <a:ext cx="1863720" cy="2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Rectangle 23"/>
          <p:cNvSpPr/>
          <p:nvPr/>
        </p:nvSpPr>
        <p:spPr>
          <a:xfrm>
            <a:off x="8441280" y="3767760"/>
            <a:ext cx="27504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98b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ill Sans"/>
              </a:rPr>
              <a:t>打包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AutoShape 24"/>
          <p:cNvSpPr/>
          <p:nvPr/>
        </p:nvSpPr>
        <p:spPr>
          <a:xfrm>
            <a:off x="9829800" y="6451560"/>
            <a:ext cx="1270080" cy="698400"/>
          </a:xfrm>
          <a:prstGeom prst="roundRect">
            <a:avLst>
              <a:gd name="adj" fmla="val 27269"/>
            </a:avLst>
          </a:prstGeom>
          <a:solidFill>
            <a:srgbClr val="ffffff"/>
          </a:solidFill>
          <a:ln w="12600">
            <a:solidFill>
              <a:srgbClr val="86c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Rectangle 25"/>
          <p:cNvSpPr/>
          <p:nvPr/>
        </p:nvSpPr>
        <p:spPr>
          <a:xfrm>
            <a:off x="10343160" y="663660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4" name="Picture 2" descr=""/>
          <p:cNvPicPr/>
          <p:nvPr/>
        </p:nvPicPr>
        <p:blipFill>
          <a:blip r:embed="rId2"/>
          <a:stretch/>
        </p:blipFill>
        <p:spPr>
          <a:xfrm>
            <a:off x="1866960" y="2901960"/>
            <a:ext cx="3543120" cy="1193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"/>
          <p:cNvPicPr/>
          <p:nvPr/>
        </p:nvPicPr>
        <p:blipFill>
          <a:blip r:embed="rId3"/>
          <a:stretch/>
        </p:blipFill>
        <p:spPr>
          <a:xfrm>
            <a:off x="8550360" y="7672320"/>
            <a:ext cx="3378240" cy="11304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"/>
          <p:cNvPicPr/>
          <p:nvPr/>
        </p:nvPicPr>
        <p:blipFill>
          <a:blip r:embed="rId4"/>
          <a:stretch/>
        </p:blipFill>
        <p:spPr>
          <a:xfrm>
            <a:off x="8928000" y="7645320"/>
            <a:ext cx="1231920" cy="5716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7580160" y="7486560"/>
            <a:ext cx="3098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Arial Hebrew"/>
              </a:rPr>
              <a:t>hybrid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03640" y="1428480"/>
            <a:ext cx="7607520" cy="287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Lucida Grande"/>
              </a:rPr>
              <a:t>基于新浪移动云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Lucida Grande"/>
              </a:rPr>
              <a:t>开发移动应用</a:t>
            </a:r>
            <a:endParaRPr b="0" lang="en-US" sz="7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572840" y="7468920"/>
            <a:ext cx="220968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Lucida Grande"/>
              </a:rPr>
              <a:t>新浪移动云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d0d0d"/>
                </a:solidFill>
                <a:latin typeface="Lucida Grande"/>
              </a:rPr>
              <a:t>刘蕾</a:t>
            </a:r>
            <a:r>
              <a:rPr b="0" lang="en-US" sz="3000" spc="-1" strike="noStrike">
                <a:solidFill>
                  <a:srgbClr val="0d0d0d"/>
                </a:solidFill>
                <a:latin typeface="Lucida Grande"/>
              </a:rPr>
              <a:t> </a:t>
            </a:r>
            <a:r>
              <a:rPr b="0" lang="en-US" sz="3000" spc="-1" strike="noStrike">
                <a:solidFill>
                  <a:srgbClr val="0d0d0d"/>
                </a:solidFill>
                <a:latin typeface="Lucida Grande"/>
              </a:rPr>
              <a:t>@</a:t>
            </a:r>
            <a:r>
              <a:rPr b="0" lang="zh-CN" sz="3000" spc="-1" strike="noStrike">
                <a:solidFill>
                  <a:srgbClr val="0d0d0d"/>
                </a:solidFill>
                <a:latin typeface="Lucida Grande"/>
              </a:rPr>
              <a:t>草丁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Lucida Grande"/>
              </a:rPr>
              <a:t>2012.05.1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93B1-C23C-425C-A8AB-63C64A6AED13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"/>
          <p:cNvSpPr/>
          <p:nvPr/>
        </p:nvSpPr>
        <p:spPr>
          <a:xfrm>
            <a:off x="434880" y="1224000"/>
            <a:ext cx="3441960" cy="36417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默认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默认模版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服务器端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应用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应用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服务器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社交应用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微博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不使用模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793800" y="750960"/>
            <a:ext cx="1930320" cy="69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Lucida Grande"/>
              </a:rPr>
              <a:t>创建应用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6777000" y="1708200"/>
            <a:ext cx="2311560" cy="1879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VN+I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honeG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⋯⋯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6897600" y="1170000"/>
            <a:ext cx="1930320" cy="6350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宋体"/>
              </a:rPr>
              <a:t>Cod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891720" y="2687760"/>
            <a:ext cx="2426760" cy="2782800"/>
            <a:chOff x="9891720" y="2687760"/>
            <a:chExt cx="2426760" cy="2782800"/>
          </a:xfrm>
        </p:grpSpPr>
        <p:sp>
          <p:nvSpPr>
            <p:cNvPr id="686" name="Rectangle 5"/>
            <p:cNvSpPr/>
            <p:nvPr/>
          </p:nvSpPr>
          <p:spPr>
            <a:xfrm>
              <a:off x="9891720" y="3184560"/>
              <a:ext cx="2426760" cy="2286000"/>
            </a:xfrm>
            <a:prstGeom prst="rect">
              <a:avLst/>
            </a:prstGeom>
            <a:noFill/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云窗调试器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各种浏览器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模拟器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真实设备：安装包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⋯⋯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Rectangle 6"/>
            <p:cNvSpPr/>
            <p:nvPr/>
          </p:nvSpPr>
          <p:spPr>
            <a:xfrm>
              <a:off x="10320480" y="2687760"/>
              <a:ext cx="1372320" cy="594360"/>
            </a:xfrm>
            <a:prstGeom prst="rect">
              <a:avLst/>
            </a:prstGeom>
            <a:solidFill>
              <a:srgbClr val="4bacc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ffff"/>
                  </a:solidFill>
                  <a:latin typeface="Lucida Grande"/>
                </a:rPr>
                <a:t>移动端调试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2178000" y="4896000"/>
            <a:ext cx="3772080" cy="2038320"/>
            <a:chOff x="2178000" y="4896000"/>
            <a:chExt cx="3772080" cy="2038320"/>
          </a:xfrm>
        </p:grpSpPr>
        <p:sp>
          <p:nvSpPr>
            <p:cNvPr id="689" name="Rectangle 8"/>
            <p:cNvSpPr/>
            <p:nvPr/>
          </p:nvSpPr>
          <p:spPr>
            <a:xfrm>
              <a:off x="2178000" y="5384880"/>
              <a:ext cx="3772080" cy="1549440"/>
            </a:xfrm>
            <a:prstGeom prst="rect">
              <a:avLst/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apk</a:t>
              </a: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文件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[android</a:t>
              </a: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平台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ipa</a:t>
              </a: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文件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[iOS</a:t>
              </a:r>
              <a:r>
                <a:rPr b="0" lang="zh-CN" sz="2400" spc="-1" strike="noStrike">
                  <a:solidFill>
                    <a:srgbClr val="000000"/>
                  </a:solidFill>
                  <a:latin typeface="Lucida Grande"/>
                </a:rPr>
                <a:t>平台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</a:rPr>
                <a:t>⋯⋯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4328280" y="4896000"/>
              <a:ext cx="595080" cy="594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ffff"/>
                  </a:solidFill>
                  <a:latin typeface="Lucida Grande"/>
                </a:rPr>
                <a:t>打包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91" name="AutoShape 11"/>
          <p:cNvSpPr/>
          <p:nvPr/>
        </p:nvSpPr>
        <p:spPr>
          <a:xfrm flipH="1" rot="16200000">
            <a:off x="3829680" y="-1567440"/>
            <a:ext cx="1074960" cy="50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34" y="0"/>
                </a:moveTo>
                <a:cubicBezTo>
                  <a:pt x="3267" y="0"/>
                  <a:pt x="0" y="3505"/>
                  <a:pt x="0" y="7011"/>
                </a:cubicBezTo>
                <a:cubicBezTo>
                  <a:pt x="0" y="10516"/>
                  <a:pt x="5400" y="14022"/>
                  <a:pt x="10800" y="14022"/>
                </a:cubicBezTo>
                <a:cubicBezTo>
                  <a:pt x="16200" y="14022"/>
                  <a:pt x="21600" y="17811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AutoShape 12"/>
          <p:cNvSpPr/>
          <p:nvPr/>
        </p:nvSpPr>
        <p:spPr>
          <a:xfrm flipH="1" rot="16200000">
            <a:off x="8632080" y="237240"/>
            <a:ext cx="1668240" cy="322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2" y="0"/>
                </a:moveTo>
                <a:cubicBezTo>
                  <a:pt x="986" y="0"/>
                  <a:pt x="0" y="5400"/>
                  <a:pt x="0" y="10800"/>
                </a:cubicBez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Freeform 13"/>
          <p:cNvSpPr/>
          <p:nvPr/>
        </p:nvSpPr>
        <p:spPr>
          <a:xfrm rot="10800000">
            <a:off x="7916760" y="3793680"/>
            <a:ext cx="1976400" cy="638280"/>
          </a:xfrm>
          <a:custGeom>
            <a:avLst/>
            <a:gdLst/>
            <a:ahLst/>
            <a:rect l="l" t="t" r="r" b="b"/>
            <a:pathLst>
              <a:path w="21351" h="21600">
                <a:moveTo>
                  <a:pt x="0" y="0"/>
                </a:moveTo>
                <a:cubicBezTo>
                  <a:pt x="10927" y="6812"/>
                  <a:pt x="21600" y="17612"/>
                  <a:pt x="21346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Line 14"/>
          <p:cNvSpPr/>
          <p:nvPr/>
        </p:nvSpPr>
        <p:spPr>
          <a:xfrm>
            <a:off x="6272280" y="598320"/>
            <a:ext cx="19080" cy="8555040"/>
          </a:xfrm>
          <a:prstGeom prst="line">
            <a:avLst/>
          </a:prstGeom>
          <a:ln w="25560">
            <a:solidFill>
              <a:srgbClr val="4f81b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AutoShape 15"/>
          <p:cNvSpPr/>
          <p:nvPr/>
        </p:nvSpPr>
        <p:spPr>
          <a:xfrm flipH="1">
            <a:off x="4693680" y="2955960"/>
            <a:ext cx="2082600" cy="19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00" y="0"/>
                  <a:pt x="21600" y="108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Freeform 16"/>
          <p:cNvSpPr/>
          <p:nvPr/>
        </p:nvSpPr>
        <p:spPr>
          <a:xfrm flipH="1" rot="10800000">
            <a:off x="5961600" y="5679720"/>
            <a:ext cx="5281560" cy="622440"/>
          </a:xfrm>
          <a:custGeom>
            <a:avLst/>
            <a:gdLst/>
            <a:ahLst/>
            <a:rect l="l" t="t" r="r" b="b"/>
            <a:pathLst>
              <a:path w="21600" h="18995">
                <a:moveTo>
                  <a:pt x="0" y="669"/>
                </a:moveTo>
                <a:cubicBezTo>
                  <a:pt x="10732" y="-2605"/>
                  <a:pt x="21532" y="6558"/>
                  <a:pt x="21600" y="1899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Rectangle 17"/>
          <p:cNvSpPr/>
          <p:nvPr/>
        </p:nvSpPr>
        <p:spPr>
          <a:xfrm>
            <a:off x="2204280" y="8139240"/>
            <a:ext cx="595080" cy="59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推广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7370640" y="8139240"/>
            <a:ext cx="3619800" cy="64764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宋体"/>
              </a:rPr>
              <a:t>Whatever U Wan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AutoShape 19"/>
          <p:cNvSpPr/>
          <p:nvPr/>
        </p:nvSpPr>
        <p:spPr>
          <a:xfrm rot="5400000">
            <a:off x="2779560" y="6862680"/>
            <a:ext cx="1067040" cy="148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5400"/>
                  <a:pt x="10800" y="10800"/>
                </a:cubicBezTo>
                <a:cubicBezTo>
                  <a:pt x="10800" y="162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AutoShape 20"/>
          <p:cNvSpPr/>
          <p:nvPr/>
        </p:nvSpPr>
        <p:spPr>
          <a:xfrm flipH="1" rot="16200000">
            <a:off x="6257880" y="4900680"/>
            <a:ext cx="106704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5400"/>
                  <a:pt x="10800" y="10800"/>
                </a:cubicBezTo>
                <a:cubicBezTo>
                  <a:pt x="10800" y="162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259080" y="741240"/>
            <a:ext cx="2717640" cy="1409760"/>
            <a:chOff x="3259080" y="741240"/>
            <a:chExt cx="2717640" cy="1409760"/>
          </a:xfrm>
        </p:grpSpPr>
        <p:sp>
          <p:nvSpPr>
            <p:cNvPr id="702" name="Rectangle 21"/>
            <p:cNvSpPr/>
            <p:nvPr/>
          </p:nvSpPr>
          <p:spPr>
            <a:xfrm>
              <a:off x="3462120" y="893520"/>
              <a:ext cx="2311560" cy="85104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应用模版提供了哪些方便？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3" name="Picture 22" descr=""/>
            <p:cNvPicPr/>
            <p:nvPr/>
          </p:nvPicPr>
          <p:blipFill>
            <a:blip r:embed="rId2"/>
            <a:stretch/>
          </p:blipFill>
          <p:spPr>
            <a:xfrm>
              <a:off x="3259080" y="741240"/>
              <a:ext cx="2717640" cy="14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10223640" y="5251320"/>
            <a:ext cx="2717640" cy="1409760"/>
            <a:chOff x="10223640" y="5251320"/>
            <a:chExt cx="2717640" cy="1409760"/>
          </a:xfrm>
        </p:grpSpPr>
        <p:sp>
          <p:nvSpPr>
            <p:cNvPr id="705" name="Rectangle 24"/>
            <p:cNvSpPr/>
            <p:nvPr/>
          </p:nvSpPr>
          <p:spPr>
            <a:xfrm>
              <a:off x="10426680" y="5403600"/>
              <a:ext cx="2311560" cy="85104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怎么去调试、测试打包效果？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6" name="Picture 25" descr=""/>
            <p:cNvPicPr/>
            <p:nvPr/>
          </p:nvPicPr>
          <p:blipFill>
            <a:blip r:embed="rId3"/>
            <a:stretch/>
          </p:blipFill>
          <p:spPr>
            <a:xfrm>
              <a:off x="10223640" y="5251320"/>
              <a:ext cx="2717640" cy="14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"/>
          <p:cNvGrpSpPr/>
          <p:nvPr/>
        </p:nvGrpSpPr>
        <p:grpSpPr>
          <a:xfrm>
            <a:off x="779400" y="6832440"/>
            <a:ext cx="2349360" cy="1028880"/>
            <a:chOff x="779400" y="6832440"/>
            <a:chExt cx="2349360" cy="1028880"/>
          </a:xfrm>
        </p:grpSpPr>
        <p:sp>
          <p:nvSpPr>
            <p:cNvPr id="708" name="Rectangle 27"/>
            <p:cNvSpPr/>
            <p:nvPr/>
          </p:nvSpPr>
          <p:spPr>
            <a:xfrm>
              <a:off x="1366920" y="6984720"/>
              <a:ext cx="1174320" cy="44244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打包选项设置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09" name="Picture 28" descr=""/>
            <p:cNvPicPr/>
            <p:nvPr/>
          </p:nvPicPr>
          <p:blipFill>
            <a:blip r:embed="rId4"/>
            <a:stretch/>
          </p:blipFill>
          <p:spPr>
            <a:xfrm>
              <a:off x="779400" y="6832440"/>
              <a:ext cx="234936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"/>
          <p:cNvGrpSpPr/>
          <p:nvPr/>
        </p:nvGrpSpPr>
        <p:grpSpPr>
          <a:xfrm>
            <a:off x="5602320" y="3286080"/>
            <a:ext cx="2374920" cy="1409760"/>
            <a:chOff x="5602320" y="3286080"/>
            <a:chExt cx="2374920" cy="1409760"/>
          </a:xfrm>
        </p:grpSpPr>
        <p:sp>
          <p:nvSpPr>
            <p:cNvPr id="711" name="Rectangle 30"/>
            <p:cNvSpPr/>
            <p:nvPr/>
          </p:nvSpPr>
          <p:spPr>
            <a:xfrm>
              <a:off x="5805360" y="3438360"/>
              <a:ext cx="1968840" cy="85104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怎么调用本地设备接口？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12" name="Picture 31" descr=""/>
            <p:cNvPicPr/>
            <p:nvPr/>
          </p:nvPicPr>
          <p:blipFill>
            <a:blip r:embed="rId5"/>
            <a:stretch/>
          </p:blipFill>
          <p:spPr>
            <a:xfrm>
              <a:off x="5602320" y="3286080"/>
              <a:ext cx="2374920" cy="14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"/>
          <p:cNvSpPr/>
          <p:nvPr/>
        </p:nvSpPr>
        <p:spPr>
          <a:xfrm>
            <a:off x="10011600" y="9198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8191440" y="4229280"/>
            <a:ext cx="2832120" cy="1079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82880" y="253800"/>
            <a:ext cx="7238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世界都在移动化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2921040"/>
            <a:ext cx="3035160" cy="774720"/>
            <a:chOff x="609480" y="2921040"/>
            <a:chExt cx="3035160" cy="774720"/>
          </a:xfrm>
        </p:grpSpPr>
        <p:sp>
          <p:nvSpPr>
            <p:cNvPr id="240" name="Rectangle 4"/>
            <p:cNvSpPr/>
            <p:nvPr/>
          </p:nvSpPr>
          <p:spPr>
            <a:xfrm>
              <a:off x="672840" y="2971800"/>
              <a:ext cx="290844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设备在移动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41" name="Picture 5" descr=""/>
            <p:cNvPicPr/>
            <p:nvPr/>
          </p:nvPicPr>
          <p:blipFill>
            <a:blip r:embed="rId3"/>
            <a:stretch/>
          </p:blipFill>
          <p:spPr>
            <a:xfrm>
              <a:off x="609480" y="2921040"/>
              <a:ext cx="303516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3606840" y="6426360"/>
            <a:ext cx="5194440" cy="774720"/>
            <a:chOff x="3606840" y="6426360"/>
            <a:chExt cx="5194440" cy="774720"/>
          </a:xfrm>
        </p:grpSpPr>
        <p:sp>
          <p:nvSpPr>
            <p:cNvPr id="243" name="Rectangle 7"/>
            <p:cNvSpPr/>
            <p:nvPr/>
          </p:nvSpPr>
          <p:spPr>
            <a:xfrm>
              <a:off x="3670200" y="6477120"/>
              <a:ext cx="50673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开发商布局在移动化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44" name="Picture 8" descr=""/>
            <p:cNvPicPr/>
            <p:nvPr/>
          </p:nvPicPr>
          <p:blipFill>
            <a:blip r:embed="rId4"/>
            <a:stretch/>
          </p:blipFill>
          <p:spPr>
            <a:xfrm>
              <a:off x="3606840" y="6426360"/>
              <a:ext cx="519444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1523880" y="4546440"/>
            <a:ext cx="5194440" cy="774720"/>
            <a:chOff x="1523880" y="4546440"/>
            <a:chExt cx="5194440" cy="774720"/>
          </a:xfrm>
        </p:grpSpPr>
        <p:sp>
          <p:nvSpPr>
            <p:cNvPr id="246" name="Rectangle 10"/>
            <p:cNvSpPr/>
            <p:nvPr/>
          </p:nvSpPr>
          <p:spPr>
            <a:xfrm>
              <a:off x="1587240" y="4597200"/>
              <a:ext cx="50673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用户需求也在移动化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47" name="Picture 11" descr=""/>
            <p:cNvPicPr/>
            <p:nvPr/>
          </p:nvPicPr>
          <p:blipFill>
            <a:blip r:embed="rId5"/>
            <a:stretch/>
          </p:blipFill>
          <p:spPr>
            <a:xfrm>
              <a:off x="1523880" y="4546440"/>
              <a:ext cx="519444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4673520" y="8140680"/>
            <a:ext cx="7594560" cy="774720"/>
            <a:chOff x="4673520" y="8140680"/>
            <a:chExt cx="7594560" cy="774720"/>
          </a:xfrm>
        </p:grpSpPr>
        <p:sp>
          <p:nvSpPr>
            <p:cNvPr id="249" name="Rectangle 13"/>
            <p:cNvSpPr/>
            <p:nvPr/>
          </p:nvSpPr>
          <p:spPr>
            <a:xfrm>
              <a:off x="4736880" y="8191440"/>
              <a:ext cx="746784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利用移动设备访问的时间超过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PC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50" name="Picture 14" descr=""/>
            <p:cNvPicPr/>
            <p:nvPr/>
          </p:nvPicPr>
          <p:blipFill>
            <a:blip r:embed="rId6"/>
            <a:stretch/>
          </p:blipFill>
          <p:spPr>
            <a:xfrm>
              <a:off x="4673520" y="8140680"/>
              <a:ext cx="7594560" cy="77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308520" y="1173600"/>
            <a:ext cx="11787840" cy="8141760"/>
            <a:chOff x="308520" y="1173600"/>
            <a:chExt cx="11787840" cy="8141760"/>
          </a:xfrm>
        </p:grpSpPr>
        <p:sp>
          <p:nvSpPr>
            <p:cNvPr id="252" name="Rectangle 16"/>
            <p:cNvSpPr/>
            <p:nvPr/>
          </p:nvSpPr>
          <p:spPr>
            <a:xfrm rot="20447400">
              <a:off x="870120" y="3043440"/>
              <a:ext cx="10663560" cy="43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400" spc="-1" strike="noStrike">
                  <a:solidFill>
                    <a:srgbClr val="000000"/>
                  </a:solidFill>
                  <a:latin typeface="Helvetica Light"/>
                </a:rPr>
                <a:t>移动互联网一定是必然趋势</a:t>
              </a:r>
              <a:endParaRPr b="0" lang="en-US" sz="6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53" name="Picture 17" descr=""/>
            <p:cNvPicPr/>
            <p:nvPr/>
          </p:nvPicPr>
          <p:blipFill>
            <a:blip r:embed="rId7"/>
            <a:stretch/>
          </p:blipFill>
          <p:spPr>
            <a:xfrm rot="20447400">
              <a:off x="807840" y="2812680"/>
              <a:ext cx="10788480" cy="486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19" descr=""/>
          <p:cNvPicPr/>
          <p:nvPr/>
        </p:nvPicPr>
        <p:blipFill>
          <a:blip r:embed="rId8"/>
          <a:stretch/>
        </p:blipFill>
        <p:spPr>
          <a:xfrm>
            <a:off x="5013360" y="2389320"/>
            <a:ext cx="2158920" cy="1562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0" descr=""/>
          <p:cNvPicPr/>
          <p:nvPr/>
        </p:nvPicPr>
        <p:blipFill>
          <a:blip r:embed="rId9"/>
          <a:stretch/>
        </p:blipFill>
        <p:spPr>
          <a:xfrm>
            <a:off x="9918720" y="5702400"/>
            <a:ext cx="252720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0984-F424-4B3E-A1EE-EC87EE1BB463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5805360" y="1222200"/>
            <a:ext cx="933480" cy="747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4257360" y="2689200"/>
            <a:ext cx="4872600" cy="747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调用本地设备接口？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5892840" y="4154400"/>
            <a:ext cx="933480" cy="747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移动端调试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946840" y="5619600"/>
            <a:ext cx="777960" cy="747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打包选项设置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3924360" y="7086600"/>
            <a:ext cx="5181480" cy="800280"/>
          </a:xfrm>
          <a:prstGeom prst="rect">
            <a:avLst/>
          </a:prstGeom>
          <a:solidFill>
            <a:srgbClr val="2886d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0B0F-61B9-4F49-AAF3-24BE0C7B91E3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282680" y="2819520"/>
            <a:ext cx="10464840" cy="2552760"/>
            <a:chOff x="1282680" y="2819520"/>
            <a:chExt cx="10464840" cy="2552760"/>
          </a:xfrm>
        </p:grpSpPr>
        <p:pic>
          <p:nvPicPr>
            <p:cNvPr id="722" name="Picture 1" descr=""/>
            <p:cNvPicPr/>
            <p:nvPr/>
          </p:nvPicPr>
          <p:blipFill>
            <a:blip r:embed="rId2"/>
            <a:stretch/>
          </p:blipFill>
          <p:spPr>
            <a:xfrm>
              <a:off x="1359000" y="2882880"/>
              <a:ext cx="1028844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" descr=""/>
            <p:cNvPicPr/>
            <p:nvPr/>
          </p:nvPicPr>
          <p:blipFill>
            <a:blip r:embed="rId3"/>
            <a:stretch/>
          </p:blipFill>
          <p:spPr>
            <a:xfrm>
              <a:off x="1282680" y="2819520"/>
              <a:ext cx="10464840" cy="25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4" name="Rectangle 4"/>
          <p:cNvSpPr/>
          <p:nvPr/>
        </p:nvSpPr>
        <p:spPr>
          <a:xfrm>
            <a:off x="2872440" y="114480"/>
            <a:ext cx="541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0CDA-D7C4-4AA9-8AD4-3E254EAFBC40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6" name="Picture 1" descr=""/>
          <p:cNvPicPr/>
          <p:nvPr/>
        </p:nvPicPr>
        <p:blipFill>
          <a:blip r:embed="rId2"/>
          <a:stretch/>
        </p:blipFill>
        <p:spPr>
          <a:xfrm>
            <a:off x="1535040" y="1143000"/>
            <a:ext cx="102902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2978280" y="1147680"/>
            <a:ext cx="1485720" cy="2247840"/>
            <a:chOff x="2978280" y="1147680"/>
            <a:chExt cx="1485720" cy="2247840"/>
          </a:xfrm>
        </p:grpSpPr>
        <p:sp>
          <p:nvSpPr>
            <p:cNvPr id="728" name="Rectangle 2"/>
            <p:cNvSpPr/>
            <p:nvPr/>
          </p:nvSpPr>
          <p:spPr>
            <a:xfrm>
              <a:off x="3054240" y="1211040"/>
              <a:ext cx="1320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29" name="Picture 3" descr=""/>
            <p:cNvPicPr/>
            <p:nvPr/>
          </p:nvPicPr>
          <p:blipFill>
            <a:blip r:embed="rId3"/>
            <a:stretch/>
          </p:blipFill>
          <p:spPr>
            <a:xfrm>
              <a:off x="2978280" y="1147680"/>
              <a:ext cx="148572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Rectangle 5"/>
          <p:cNvSpPr/>
          <p:nvPr/>
        </p:nvSpPr>
        <p:spPr>
          <a:xfrm>
            <a:off x="1619280" y="6497640"/>
            <a:ext cx="8115120" cy="2616120"/>
          </a:xfrm>
          <a:prstGeom prst="rect">
            <a:avLst/>
          </a:prstGeom>
          <a:noFill/>
          <a:ln w="25560">
            <a:solidFill>
              <a:srgbClr val="b46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ile Boilerplat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html5boilerplate.com/mobi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针对移动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优化的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TML5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空白模版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1" name="Picture 6" descr=""/>
          <p:cNvPicPr/>
          <p:nvPr/>
        </p:nvPicPr>
        <p:blipFill>
          <a:blip r:embed="rId5"/>
          <a:stretch/>
        </p:blipFill>
        <p:spPr>
          <a:xfrm>
            <a:off x="7666200" y="3808440"/>
            <a:ext cx="4713120" cy="429264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sp>
        <p:nvSpPr>
          <p:cNvPr id="732" name="Rectangle 7"/>
          <p:cNvSpPr/>
          <p:nvPr/>
        </p:nvSpPr>
        <p:spPr>
          <a:xfrm>
            <a:off x="283428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62040" y="1143000"/>
            <a:ext cx="1486080" cy="2247840"/>
            <a:chOff x="1562040" y="1143000"/>
            <a:chExt cx="1486080" cy="2247840"/>
          </a:xfrm>
        </p:grpSpPr>
        <p:sp>
          <p:nvSpPr>
            <p:cNvPr id="734" name="Rectangle 8"/>
            <p:cNvSpPr/>
            <p:nvPr/>
          </p:nvSpPr>
          <p:spPr>
            <a:xfrm>
              <a:off x="1638360" y="1206360"/>
              <a:ext cx="132084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35" name="Picture 9" descr=""/>
            <p:cNvPicPr/>
            <p:nvPr/>
          </p:nvPicPr>
          <p:blipFill>
            <a:blip r:embed="rId6"/>
            <a:stretch/>
          </p:blipFill>
          <p:spPr>
            <a:xfrm>
              <a:off x="1562040" y="1143000"/>
              <a:ext cx="148608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E47-7292-47C3-B2C0-780477EE0237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7" name="Picture 1" descr=""/>
          <p:cNvPicPr/>
          <p:nvPr/>
        </p:nvPicPr>
        <p:blipFill>
          <a:blip r:embed="rId2"/>
          <a:stretch/>
        </p:blipFill>
        <p:spPr>
          <a:xfrm>
            <a:off x="8112240" y="3762360"/>
            <a:ext cx="3355920" cy="5032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8" name="Rectangle 2"/>
          <p:cNvSpPr/>
          <p:nvPr/>
        </p:nvSpPr>
        <p:spPr>
          <a:xfrm>
            <a:off x="950760" y="5197320"/>
            <a:ext cx="6731280" cy="2629080"/>
          </a:xfrm>
          <a:prstGeom prst="rect">
            <a:avLst/>
          </a:prstGeom>
          <a:noFill/>
          <a:ln w="25560">
            <a:solidFill>
              <a:srgbClr val="395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zyMobil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de.google.com/p/lazymobile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 / Lis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页的移动应用模版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283428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0" name="Picture 4" descr=""/>
          <p:cNvPicPr/>
          <p:nvPr/>
        </p:nvPicPr>
        <p:blipFill>
          <a:blip r:embed="rId4"/>
          <a:stretch/>
        </p:blipFill>
        <p:spPr>
          <a:xfrm>
            <a:off x="1535040" y="1143000"/>
            <a:ext cx="102902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4330800" y="1143000"/>
            <a:ext cx="1676160" cy="2247840"/>
            <a:chOff x="4330800" y="1143000"/>
            <a:chExt cx="1676160" cy="2247840"/>
          </a:xfrm>
        </p:grpSpPr>
        <p:sp>
          <p:nvSpPr>
            <p:cNvPr id="742" name="Rectangle 5"/>
            <p:cNvSpPr/>
            <p:nvPr/>
          </p:nvSpPr>
          <p:spPr>
            <a:xfrm>
              <a:off x="4406760" y="1206360"/>
              <a:ext cx="151092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43" name="Picture 6" descr=""/>
            <p:cNvPicPr/>
            <p:nvPr/>
          </p:nvPicPr>
          <p:blipFill>
            <a:blip r:embed="rId5"/>
            <a:stretch/>
          </p:blipFill>
          <p:spPr>
            <a:xfrm>
              <a:off x="4330800" y="1143000"/>
              <a:ext cx="167616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B126-D067-49D5-B448-9676B06EBC0F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Rectangle 1"/>
          <p:cNvSpPr/>
          <p:nvPr/>
        </p:nvSpPr>
        <p:spPr>
          <a:xfrm>
            <a:off x="2593800" y="6415200"/>
            <a:ext cx="9093240" cy="2616120"/>
          </a:xfrm>
          <a:prstGeom prst="rect">
            <a:avLst/>
          </a:prstGeom>
          <a:noFill/>
          <a:ln w="25560">
            <a:solidFill>
              <a:srgbClr val="5d48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zyRes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tqq.com/lazyrest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可以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页面快速配置的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t Serv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Rectangle 2"/>
          <p:cNvSpPr/>
          <p:nvPr/>
        </p:nvSpPr>
        <p:spPr>
          <a:xfrm>
            <a:off x="4973760" y="3476520"/>
            <a:ext cx="6705360" cy="2629080"/>
          </a:xfrm>
          <a:prstGeom prst="rect">
            <a:avLst/>
          </a:prstGeom>
          <a:noFill/>
          <a:ln w="25560">
            <a:solidFill>
              <a:srgbClr val="395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zyMobil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de.google.com/p/lazymobile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 / Lis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页的移动应用模版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283428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8" name="Picture 4" descr=""/>
          <p:cNvPicPr/>
          <p:nvPr/>
        </p:nvPicPr>
        <p:blipFill>
          <a:blip r:embed="rId3"/>
          <a:stretch/>
        </p:blipFill>
        <p:spPr>
          <a:xfrm>
            <a:off x="1535040" y="1143000"/>
            <a:ext cx="102902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5899320" y="1147680"/>
            <a:ext cx="1549080" cy="2247840"/>
            <a:chOff x="5899320" y="1147680"/>
            <a:chExt cx="1549080" cy="2247840"/>
          </a:xfrm>
        </p:grpSpPr>
        <p:sp>
          <p:nvSpPr>
            <p:cNvPr id="750" name="Rectangle 5"/>
            <p:cNvSpPr/>
            <p:nvPr/>
          </p:nvSpPr>
          <p:spPr>
            <a:xfrm>
              <a:off x="5975280" y="1211040"/>
              <a:ext cx="138384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51" name="Picture 6" descr=""/>
            <p:cNvPicPr/>
            <p:nvPr/>
          </p:nvPicPr>
          <p:blipFill>
            <a:blip r:embed="rId4"/>
            <a:stretch/>
          </p:blipFill>
          <p:spPr>
            <a:xfrm>
              <a:off x="5899320" y="1147680"/>
              <a:ext cx="154908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86E-3C49-4BDC-AA59-5EFEAC3BA607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0" y="851040"/>
            <a:ext cx="13004640" cy="802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54" name="Picture 2" descr=""/>
          <p:cNvPicPr/>
          <p:nvPr/>
        </p:nvPicPr>
        <p:blipFill>
          <a:blip r:embed="rId3"/>
          <a:stretch/>
        </p:blipFill>
        <p:spPr>
          <a:xfrm>
            <a:off x="3606840" y="546120"/>
            <a:ext cx="5781600" cy="8674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6ED-45F7-4352-B32B-5F130C64447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2"/>
          <a:stretch/>
        </p:blipFill>
        <p:spPr>
          <a:xfrm>
            <a:off x="907920" y="3765600"/>
            <a:ext cx="3448080" cy="517212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sp>
        <p:nvSpPr>
          <p:cNvPr id="757" name="Rectangle 2"/>
          <p:cNvSpPr/>
          <p:nvPr/>
        </p:nvSpPr>
        <p:spPr>
          <a:xfrm>
            <a:off x="4724280" y="4751280"/>
            <a:ext cx="7912080" cy="3365640"/>
          </a:xfrm>
          <a:prstGeom prst="rect">
            <a:avLst/>
          </a:prstGeom>
          <a:noFill/>
          <a:ln w="25560">
            <a:solidFill>
              <a:srgbClr val="b46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th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社交模版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code.google.com/p/o-path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tqq.com/2011/12/30/how-to-build-a-path-like-app-using-html5-and-phonegap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TML5+PhoneGap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社交应用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283428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4"/>
          <a:stretch/>
        </p:blipFill>
        <p:spPr>
          <a:xfrm>
            <a:off x="1535040" y="1143000"/>
            <a:ext cx="102902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60" name=""/>
          <p:cNvGrpSpPr/>
          <p:nvPr/>
        </p:nvGrpSpPr>
        <p:grpSpPr>
          <a:xfrm>
            <a:off x="7289640" y="1130400"/>
            <a:ext cx="1676520" cy="2247840"/>
            <a:chOff x="7289640" y="1130400"/>
            <a:chExt cx="1676520" cy="2247840"/>
          </a:xfrm>
        </p:grpSpPr>
        <p:sp>
          <p:nvSpPr>
            <p:cNvPr id="761" name="Rectangle 5"/>
            <p:cNvSpPr/>
            <p:nvPr/>
          </p:nvSpPr>
          <p:spPr>
            <a:xfrm>
              <a:off x="7365960" y="1193760"/>
              <a:ext cx="15112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62" name="Picture 6" descr=""/>
            <p:cNvPicPr/>
            <p:nvPr/>
          </p:nvPicPr>
          <p:blipFill>
            <a:blip r:embed="rId5"/>
            <a:stretch/>
          </p:blipFill>
          <p:spPr>
            <a:xfrm>
              <a:off x="7289640" y="1130400"/>
              <a:ext cx="1676520" cy="2247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078-09FC-4DAD-9656-C8C19F19DB3F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"/>
          <p:cNvSpPr/>
          <p:nvPr/>
        </p:nvSpPr>
        <p:spPr>
          <a:xfrm>
            <a:off x="952560" y="5970600"/>
            <a:ext cx="9296280" cy="2628720"/>
          </a:xfrm>
          <a:prstGeom prst="rect">
            <a:avLst/>
          </a:prstGeom>
          <a:noFill/>
          <a:ln w="25560">
            <a:solidFill>
              <a:srgbClr val="a40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4160" rIns="254160" tIns="254160" bIns="25416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微博模版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tqq.com/2012/04/18/build-a-weibo-client-using-phonegap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TML5+SA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移动云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oneGap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插件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Rectangle 2"/>
          <p:cNvSpPr/>
          <p:nvPr/>
        </p:nvSpPr>
        <p:spPr>
          <a:xfrm>
            <a:off x="283428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应用模版提供了哪些方便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6" name="Picture 3" descr=""/>
          <p:cNvPicPr/>
          <p:nvPr/>
        </p:nvPicPr>
        <p:blipFill>
          <a:blip r:embed="rId3"/>
          <a:stretch/>
        </p:blipFill>
        <p:spPr>
          <a:xfrm>
            <a:off x="1535040" y="1143000"/>
            <a:ext cx="102902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67" name=""/>
          <p:cNvGrpSpPr/>
          <p:nvPr/>
        </p:nvGrpSpPr>
        <p:grpSpPr>
          <a:xfrm>
            <a:off x="8801280" y="1130400"/>
            <a:ext cx="1676160" cy="2247840"/>
            <a:chOff x="8801280" y="1130400"/>
            <a:chExt cx="1676160" cy="2247840"/>
          </a:xfrm>
        </p:grpSpPr>
        <p:sp>
          <p:nvSpPr>
            <p:cNvPr id="768" name="Rectangle 4"/>
            <p:cNvSpPr/>
            <p:nvPr/>
          </p:nvSpPr>
          <p:spPr>
            <a:xfrm>
              <a:off x="8877240" y="1193760"/>
              <a:ext cx="151092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69" name="Picture 5" descr=""/>
            <p:cNvPicPr/>
            <p:nvPr/>
          </p:nvPicPr>
          <p:blipFill>
            <a:blip r:embed="rId4"/>
            <a:stretch/>
          </p:blipFill>
          <p:spPr>
            <a:xfrm>
              <a:off x="8801280" y="1130400"/>
              <a:ext cx="1676160" cy="22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0" name="Picture 7" descr=""/>
          <p:cNvPicPr/>
          <p:nvPr/>
        </p:nvPicPr>
        <p:blipFill>
          <a:blip r:embed="rId5"/>
          <a:stretch/>
        </p:blipFill>
        <p:spPr>
          <a:xfrm>
            <a:off x="6692760" y="3645000"/>
            <a:ext cx="5321520" cy="31366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0083240" y="905364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E35-BC0A-43A5-81C5-83886EE821A2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692360" y="3267000"/>
            <a:ext cx="9082440" cy="3120840"/>
            <a:chOff x="1692360" y="3267000"/>
            <a:chExt cx="9082440" cy="3120840"/>
          </a:xfrm>
        </p:grpSpPr>
        <p:sp>
          <p:nvSpPr>
            <p:cNvPr id="774" name="Rectangle 1"/>
            <p:cNvSpPr/>
            <p:nvPr/>
          </p:nvSpPr>
          <p:spPr>
            <a:xfrm>
              <a:off x="4672800" y="4221360"/>
              <a:ext cx="6102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Lucida Grande"/>
                </a:rPr>
                <a:t>PhoneGap</a:t>
              </a:r>
              <a:r>
                <a:rPr b="0" lang="zh-CN" sz="4400" spc="-1" strike="noStrike">
                  <a:solidFill>
                    <a:srgbClr val="000000"/>
                  </a:solidFill>
                  <a:latin typeface="Lucida Grande"/>
                </a:rPr>
                <a:t>（</a:t>
              </a:r>
              <a:r>
                <a:rPr b="0" lang="en-US" sz="4400" spc="-1" strike="noStrike">
                  <a:solidFill>
                    <a:srgbClr val="000000"/>
                  </a:solidFill>
                  <a:latin typeface="Lucida Grande"/>
                </a:rPr>
                <a:t>Cordova</a:t>
              </a:r>
              <a:r>
                <a:rPr b="0" lang="zh-CN" sz="4400" spc="-1" strike="noStrike">
                  <a:solidFill>
                    <a:srgbClr val="000000"/>
                  </a:solidFill>
                  <a:latin typeface="Lucida Grande"/>
                </a:rPr>
                <a:t>）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775" name="Picture 2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692360" y="3267000"/>
              <a:ext cx="2773800" cy="31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6" name="Rectangle 4"/>
          <p:cNvSpPr/>
          <p:nvPr/>
        </p:nvSpPr>
        <p:spPr>
          <a:xfrm>
            <a:off x="1694160" y="114480"/>
            <a:ext cx="3401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调设备本地接口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1633-4D68-4233-9BB6-E72800D6C9F9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487440" y="2879640"/>
            <a:ext cx="11822040" cy="6586560"/>
          </a:xfrm>
          <a:prstGeom prst="rect">
            <a:avLst/>
          </a:prstGeom>
          <a:solidFill>
            <a:srgbClr val="0c0c0c">
              <a:alpha val="50000"/>
            </a:srgbClr>
          </a:solidFill>
          <a:ln w="381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909720" y="5705640"/>
            <a:ext cx="5181480" cy="3146040"/>
            <a:chOff x="909720" y="5705640"/>
            <a:chExt cx="5181480" cy="3146040"/>
          </a:xfrm>
        </p:grpSpPr>
        <p:sp>
          <p:nvSpPr>
            <p:cNvPr id="780" name="Rectangle 2"/>
            <p:cNvSpPr/>
            <p:nvPr/>
          </p:nvSpPr>
          <p:spPr>
            <a:xfrm>
              <a:off x="2079720" y="8178480"/>
              <a:ext cx="2857320" cy="673200"/>
            </a:xfrm>
            <a:prstGeom prst="rect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abab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Native API</a:t>
              </a: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3"/>
            <p:cNvSpPr/>
            <p:nvPr/>
          </p:nvSpPr>
          <p:spPr>
            <a:xfrm>
              <a:off x="909720" y="5705640"/>
              <a:ext cx="5181480" cy="609480"/>
            </a:xfrm>
            <a:prstGeom prst="rect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abab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UIWebView | JavaScript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2" name="Rectangle 4"/>
            <p:cNvSpPr/>
            <p:nvPr/>
          </p:nvSpPr>
          <p:spPr>
            <a:xfrm>
              <a:off x="947880" y="6941160"/>
              <a:ext cx="5105520" cy="612720"/>
            </a:xfrm>
            <a:prstGeom prst="rect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babab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PhoneGap framework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4773600" y="3235320"/>
            <a:ext cx="3467160" cy="685800"/>
          </a:xfrm>
          <a:prstGeom prst="rect">
            <a:avLst/>
          </a:prstGeom>
          <a:gradFill rotWithShape="0">
            <a:gsLst>
              <a:gs pos="0">
                <a:srgbClr val="fff7f1"/>
              </a:gs>
              <a:gs pos="100000">
                <a:srgbClr val="ffe2ca"/>
              </a:gs>
            </a:gsLst>
            <a:lin ang="5400000"/>
          </a:gradFill>
          <a:ln w="9360">
            <a:solidFill>
              <a:srgbClr val="f59240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phonegap.j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730920" y="5705640"/>
            <a:ext cx="4991040" cy="3146040"/>
            <a:chOff x="6730920" y="5705640"/>
            <a:chExt cx="4991040" cy="3146040"/>
          </a:xfrm>
        </p:grpSpPr>
        <p:sp>
          <p:nvSpPr>
            <p:cNvPr id="785" name="Rectangle 7"/>
            <p:cNvSpPr/>
            <p:nvPr/>
          </p:nvSpPr>
          <p:spPr>
            <a:xfrm>
              <a:off x="7743600" y="8178480"/>
              <a:ext cx="2959200" cy="673200"/>
            </a:xfrm>
            <a:prstGeom prst="rect">
              <a:avLst/>
            </a:prstGeom>
            <a:gradFill rotWithShape="0">
              <a:gsLst>
                <a:gs pos="0">
                  <a:srgbClr val="f9ffee"/>
                </a:gs>
                <a:gs pos="100000">
                  <a:srgbClr val="eaffbf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Native API</a:t>
              </a:r>
              <a:endParaRPr b="0" lang="en-US" sz="3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6730920" y="6939360"/>
              <a:ext cx="4991040" cy="613080"/>
            </a:xfrm>
            <a:prstGeom prst="rect">
              <a:avLst/>
            </a:prstGeom>
            <a:gradFill rotWithShape="0">
              <a:gsLst>
                <a:gs pos="0">
                  <a:srgbClr val="f9ffee"/>
                </a:gs>
                <a:gs pos="100000">
                  <a:srgbClr val="eaffbf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PhoneGap framework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9"/>
            <p:cNvSpPr/>
            <p:nvPr/>
          </p:nvSpPr>
          <p:spPr>
            <a:xfrm>
              <a:off x="6783480" y="5705640"/>
              <a:ext cx="4876560" cy="609480"/>
            </a:xfrm>
            <a:prstGeom prst="rect">
              <a:avLst/>
            </a:prstGeom>
            <a:gradFill rotWithShape="0">
              <a:gsLst>
                <a:gs pos="0">
                  <a:srgbClr val="f9ffee"/>
                </a:gs>
                <a:gs pos="100000">
                  <a:srgbClr val="eaffbf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Lucida Grande"/>
                  <a:ea typeface="宋体"/>
                </a:rPr>
                <a:t>WebView | JavaScript</a:t>
              </a:r>
              <a:endParaRPr b="0" lang="en-US" sz="3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88" name="Rectangle 11"/>
          <p:cNvSpPr/>
          <p:nvPr/>
        </p:nvSpPr>
        <p:spPr>
          <a:xfrm>
            <a:off x="3924360" y="1719360"/>
            <a:ext cx="51688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TML | JavaScrip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6502320" y="5000760"/>
            <a:ext cx="0" cy="4275000"/>
          </a:xfrm>
          <a:prstGeom prst="line">
            <a:avLst/>
          </a:prstGeom>
          <a:ln w="255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790" name="AutoShape 13"/>
          <p:cNvCxnSpPr>
            <a:endCxn id="783" idx="0"/>
          </p:cNvCxnSpPr>
          <p:nvPr/>
        </p:nvCxnSpPr>
        <p:spPr>
          <a:xfrm flipH="1">
            <a:off x="6506280" y="2138400"/>
            <a:ext cx="2520" cy="144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sm" type="arrow" w="sm"/>
            <a:tailEnd len="sm" type="arrow" w="sm"/>
          </a:ln>
        </p:spPr>
      </p:cxnSp>
      <p:sp>
        <p:nvSpPr>
          <p:cNvPr id="791" name="AutoShape 14"/>
          <p:cNvSpPr/>
          <p:nvPr/>
        </p:nvSpPr>
        <p:spPr>
          <a:xfrm rot="5400000">
            <a:off x="4132440" y="3337560"/>
            <a:ext cx="1727280" cy="300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5400"/>
                  <a:pt x="10800" y="10800"/>
                </a:cubicBezTo>
                <a:cubicBezTo>
                  <a:pt x="10800" y="162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headEnd len="sm" type="arrow" w="sm"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AutoShape 15"/>
          <p:cNvSpPr/>
          <p:nvPr/>
        </p:nvSpPr>
        <p:spPr>
          <a:xfrm flipH="1" rot="16200000">
            <a:off x="6994440" y="3486240"/>
            <a:ext cx="1727280" cy="271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5400"/>
                  <a:pt x="10800" y="10800"/>
                </a:cubicBezTo>
                <a:cubicBezTo>
                  <a:pt x="10800" y="162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headEnd len="sm" type="arrow" w="sm"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494160" y="6362640"/>
            <a:ext cx="0" cy="579600"/>
          </a:xfrm>
          <a:prstGeom prst="line">
            <a:avLst/>
          </a:prstGeom>
          <a:ln w="25560">
            <a:solidFill>
              <a:srgbClr val="4f81bd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3494160" y="7599240"/>
            <a:ext cx="0" cy="579600"/>
          </a:xfrm>
          <a:prstGeom prst="line">
            <a:avLst/>
          </a:prstGeom>
          <a:ln w="25560">
            <a:solidFill>
              <a:srgbClr val="4f81bd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AutoShape 18"/>
          <p:cNvSpPr/>
          <p:nvPr/>
        </p:nvSpPr>
        <p:spPr>
          <a:xfrm flipH="1" rot="16200000">
            <a:off x="8923320" y="6650640"/>
            <a:ext cx="57636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10800"/>
                </a:lnTo>
                <a:lnTo>
                  <a:pt x="21600" y="21600"/>
                </a:lnTo>
              </a:path>
            </a:pathLst>
          </a:custGeom>
          <a:noFill/>
          <a:ln w="25560">
            <a:solidFill>
              <a:srgbClr val="4f81bd"/>
            </a:solidFill>
            <a:round/>
            <a:headEnd len="sm" type="arrow" w="sm"/>
            <a:tailEnd len="sm" type="arrow" w="sm"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9213840" y="7596360"/>
            <a:ext cx="0" cy="582480"/>
          </a:xfrm>
          <a:prstGeom prst="line">
            <a:avLst/>
          </a:prstGeom>
          <a:ln w="25560">
            <a:solidFill>
              <a:srgbClr val="4f81bd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Line 20"/>
          <p:cNvSpPr/>
          <p:nvPr/>
        </p:nvSpPr>
        <p:spPr>
          <a:xfrm>
            <a:off x="487440" y="5000760"/>
            <a:ext cx="11856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249480" y="1666800"/>
            <a:ext cx="672840" cy="93024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79646"/>
                </a:solidFill>
                <a:latin typeface="Arial"/>
                <a:ea typeface="宋体"/>
              </a:rPr>
              <a:t>✔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22"/>
          <p:cNvSpPr/>
          <p:nvPr/>
        </p:nvSpPr>
        <p:spPr>
          <a:xfrm>
            <a:off x="1694160" y="114480"/>
            <a:ext cx="3401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调设备本地接口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75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75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5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82320" y="4190760"/>
            <a:ext cx="1046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如何开发手机应用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Heiti SC Medium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59C7-7C79-4AFC-8E08-BCD0C9C816FB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Line 1"/>
          <p:cNvSpPr/>
          <p:nvPr/>
        </p:nvSpPr>
        <p:spPr>
          <a:xfrm>
            <a:off x="6416640" y="2314440"/>
            <a:ext cx="0" cy="6869160"/>
          </a:xfrm>
          <a:prstGeom prst="line">
            <a:avLst/>
          </a:prstGeom>
          <a:ln cap="rnd" w="38160">
            <a:solidFill>
              <a:srgbClr val="2886d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1732320" y="114480"/>
            <a:ext cx="33249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调设备本地接口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730600" y="977760"/>
            <a:ext cx="7543800" cy="1397160"/>
            <a:chOff x="2730600" y="977760"/>
            <a:chExt cx="7543800" cy="1397160"/>
          </a:xfrm>
        </p:grpSpPr>
        <p:sp>
          <p:nvSpPr>
            <p:cNvPr id="804" name="Rectangle 3"/>
            <p:cNvSpPr/>
            <p:nvPr/>
          </p:nvSpPr>
          <p:spPr>
            <a:xfrm>
              <a:off x="2994480" y="1130040"/>
              <a:ext cx="7009560" cy="731520"/>
            </a:xfrm>
            <a:prstGeom prst="rect">
              <a:avLst/>
            </a:prstGeom>
            <a:solidFill>
              <a:srgbClr val="78d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&lt;phonegap&gt;&lt;/phonegap&gt;</a:t>
              </a:r>
              <a:endParaRPr b="0" lang="en-US" sz="4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05" name="Picture 4" descr=""/>
            <p:cNvPicPr/>
            <p:nvPr/>
          </p:nvPicPr>
          <p:blipFill>
            <a:blip r:embed="rId2"/>
            <a:stretch/>
          </p:blipFill>
          <p:spPr>
            <a:xfrm>
              <a:off x="2730600" y="977760"/>
              <a:ext cx="75438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Rectangle 6"/>
          <p:cNvSpPr/>
          <p:nvPr/>
        </p:nvSpPr>
        <p:spPr>
          <a:xfrm>
            <a:off x="2781360" y="6222960"/>
            <a:ext cx="198108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注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phonegap.j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7099200" y="3759120"/>
            <a:ext cx="2984760" cy="1143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phonega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标签是否存在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Rectangle 8"/>
          <p:cNvSpPr/>
          <p:nvPr/>
        </p:nvSpPr>
        <p:spPr>
          <a:xfrm>
            <a:off x="7226280" y="6108840"/>
            <a:ext cx="2933640" cy="62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将对应平台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phonegap.j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置入源文件中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2235240" y="3759120"/>
            <a:ext cx="3035160" cy="11430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phonega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Medium"/>
              </a:rPr>
              <a:t>标签是否存在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3867480" y="5308560"/>
            <a:ext cx="60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8693280" y="5321160"/>
            <a:ext cx="60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895480" y="7746840"/>
            <a:ext cx="1765440" cy="596880"/>
            <a:chOff x="2895480" y="7746840"/>
            <a:chExt cx="1765440" cy="596880"/>
          </a:xfrm>
        </p:grpSpPr>
        <p:sp>
          <p:nvSpPr>
            <p:cNvPr id="813" name="Rectangle 12"/>
            <p:cNvSpPr/>
            <p:nvPr/>
          </p:nvSpPr>
          <p:spPr>
            <a:xfrm>
              <a:off x="3320640" y="7785000"/>
              <a:ext cx="9151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云窗调试器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14" name="Picture 13" descr=""/>
            <p:cNvPicPr/>
            <p:nvPr/>
          </p:nvPicPr>
          <p:blipFill>
            <a:blip r:embed="rId3"/>
            <a:stretch/>
          </p:blipFill>
          <p:spPr>
            <a:xfrm>
              <a:off x="2895480" y="7746840"/>
              <a:ext cx="1765440" cy="59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5" name=""/>
          <p:cNvGrpSpPr/>
          <p:nvPr/>
        </p:nvGrpSpPr>
        <p:grpSpPr>
          <a:xfrm>
            <a:off x="7848720" y="7746840"/>
            <a:ext cx="1460520" cy="596880"/>
            <a:chOff x="7848720" y="7746840"/>
            <a:chExt cx="1460520" cy="596880"/>
          </a:xfrm>
        </p:grpSpPr>
        <p:sp>
          <p:nvSpPr>
            <p:cNvPr id="816" name="Rectangle 15"/>
            <p:cNvSpPr/>
            <p:nvPr/>
          </p:nvSpPr>
          <p:spPr>
            <a:xfrm>
              <a:off x="8212680" y="7785000"/>
              <a:ext cx="7322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打包文件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17" name="Picture 16" descr=""/>
            <p:cNvPicPr/>
            <p:nvPr/>
          </p:nvPicPr>
          <p:blipFill>
            <a:blip r:embed="rId4"/>
            <a:stretch/>
          </p:blipFill>
          <p:spPr>
            <a:xfrm>
              <a:off x="7848720" y="7746840"/>
              <a:ext cx="14605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8" name="Rectangle 18"/>
          <p:cNvSpPr/>
          <p:nvPr/>
        </p:nvSpPr>
        <p:spPr>
          <a:xfrm>
            <a:off x="5651640" y="2730600"/>
            <a:ext cx="1574640" cy="44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HT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eiti SC Medium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Freeform 19"/>
          <p:cNvSpPr/>
          <p:nvPr/>
        </p:nvSpPr>
        <p:spPr>
          <a:xfrm>
            <a:off x="7213680" y="2908440"/>
            <a:ext cx="13842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Rectangle 20"/>
          <p:cNvSpPr/>
          <p:nvPr/>
        </p:nvSpPr>
        <p:spPr>
          <a:xfrm>
            <a:off x="5314320" y="392436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Freeform 21"/>
          <p:cNvSpPr/>
          <p:nvPr/>
        </p:nvSpPr>
        <p:spPr>
          <a:xfrm flipH="1">
            <a:off x="3771360" y="2908440"/>
            <a:ext cx="18795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Rectangle 22"/>
          <p:cNvSpPr/>
          <p:nvPr/>
        </p:nvSpPr>
        <p:spPr>
          <a:xfrm>
            <a:off x="10127880" y="392436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Line 23"/>
          <p:cNvSpPr/>
          <p:nvPr/>
        </p:nvSpPr>
        <p:spPr>
          <a:xfrm flipH="1" flipV="1">
            <a:off x="8583120" y="6737400"/>
            <a:ext cx="3240" cy="1063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Freeform 24"/>
          <p:cNvSpPr/>
          <p:nvPr/>
        </p:nvSpPr>
        <p:spPr>
          <a:xfrm>
            <a:off x="9269280" y="4330800"/>
            <a:ext cx="1371600" cy="37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89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Freeform 25"/>
          <p:cNvSpPr/>
          <p:nvPr/>
        </p:nvSpPr>
        <p:spPr>
          <a:xfrm>
            <a:off x="4622760" y="4330800"/>
            <a:ext cx="1079640" cy="37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89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6" name="Line 26"/>
          <p:cNvSpPr/>
          <p:nvPr/>
        </p:nvSpPr>
        <p:spPr>
          <a:xfrm>
            <a:off x="8585280" y="4902120"/>
            <a:ext cx="0" cy="120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Line 27"/>
          <p:cNvSpPr/>
          <p:nvPr/>
        </p:nvSpPr>
        <p:spPr>
          <a:xfrm>
            <a:off x="3759120" y="4902120"/>
            <a:ext cx="0" cy="132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Line 28"/>
          <p:cNvSpPr/>
          <p:nvPr/>
        </p:nvSpPr>
        <p:spPr>
          <a:xfrm>
            <a:off x="3759120" y="6616800"/>
            <a:ext cx="0" cy="116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6B13-C6E0-4005-BFB6-9EFFC02FBDC1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Rectangle 1"/>
          <p:cNvSpPr/>
          <p:nvPr/>
        </p:nvSpPr>
        <p:spPr>
          <a:xfrm>
            <a:off x="1101600" y="8290080"/>
            <a:ext cx="90453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marL="2476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Gap API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ttp://www.phonegap.cn/?page_id=40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76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Ga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git-wip-us.apache.org/repos/as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47680" indent="-247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移动云插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文档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sae.sina.com.cn/?m=devcenter&amp;cat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d=25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Rectangle 2"/>
          <p:cNvSpPr/>
          <p:nvPr/>
        </p:nvSpPr>
        <p:spPr>
          <a:xfrm>
            <a:off x="7087680" y="1150920"/>
            <a:ext cx="285696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elerome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轴加速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8724600" y="4675320"/>
            <a:ext cx="160884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册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10742760" y="4138560"/>
            <a:ext cx="160884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视频采集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10224360" y="1820880"/>
            <a:ext cx="189828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南针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4813560" y="2671920"/>
            <a:ext cx="225648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络连接状态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6381000" y="4432320"/>
            <a:ext cx="177948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通讯录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8181000" y="2871720"/>
            <a:ext cx="139536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设备描述信息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1007640" y="1819440"/>
            <a:ext cx="154008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应用生命周期状态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7174800" y="5978520"/>
            <a:ext cx="135720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地文件及目录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Rectangle 11"/>
          <p:cNvSpPr/>
          <p:nvPr/>
        </p:nvSpPr>
        <p:spPr>
          <a:xfrm>
            <a:off x="4153680" y="1295280"/>
            <a:ext cx="237672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理位置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Rectangle 12"/>
          <p:cNvSpPr/>
          <p:nvPr/>
        </p:nvSpPr>
        <p:spPr>
          <a:xfrm>
            <a:off x="10326240" y="5978520"/>
            <a:ext cx="140580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录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回放音频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Rectangle 13"/>
          <p:cNvSpPr/>
          <p:nvPr/>
        </p:nvSpPr>
        <p:spPr>
          <a:xfrm>
            <a:off x="1414080" y="3137040"/>
            <a:ext cx="221076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地通知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Rectangle 14"/>
          <p:cNvSpPr/>
          <p:nvPr/>
        </p:nvSpPr>
        <p:spPr>
          <a:xfrm>
            <a:off x="4206240" y="4145040"/>
            <a:ext cx="1585800" cy="9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库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Rectangle 15"/>
          <p:cNvSpPr/>
          <p:nvPr/>
        </p:nvSpPr>
        <p:spPr>
          <a:xfrm>
            <a:off x="3477960" y="6000840"/>
            <a:ext cx="686520" cy="44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Rectangle 16"/>
          <p:cNvSpPr/>
          <p:nvPr/>
        </p:nvSpPr>
        <p:spPr>
          <a:xfrm>
            <a:off x="2166120" y="5275440"/>
            <a:ext cx="939600" cy="80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微博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Rectangle 17"/>
          <p:cNvSpPr/>
          <p:nvPr/>
        </p:nvSpPr>
        <p:spPr>
          <a:xfrm>
            <a:off x="861480" y="6485040"/>
            <a:ext cx="1600920" cy="80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Fil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像滤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1694160" y="114480"/>
            <a:ext cx="3401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调设备本地接口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3624840" y="7010280"/>
            <a:ext cx="1997280" cy="7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TRecogniz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讯飞语音识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B5F-09B8-4DE3-8270-B1A8406CA320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Rectangle 1"/>
          <p:cNvSpPr/>
          <p:nvPr/>
        </p:nvSpPr>
        <p:spPr>
          <a:xfrm>
            <a:off x="542880" y="1994040"/>
            <a:ext cx="12026880" cy="557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unction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onSuccess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(contacts) {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lert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’</a:t>
            </a:r>
            <a:r>
              <a:rPr b="0" lang="zh-CN" sz="2800" spc="-1" strike="noStrike">
                <a:solidFill>
                  <a:srgbClr val="ffffff"/>
                </a:solidFill>
                <a:latin typeface="Lucida Grande"/>
                <a:ea typeface="宋体"/>
              </a:rPr>
              <a:t>共搜到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+ contacts.length +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Lucida Grande"/>
                <a:ea typeface="宋体"/>
              </a:rPr>
              <a:t>位联系人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.')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unction </a:t>
            </a:r>
            <a:r>
              <a:rPr b="0" lang="en-US" sz="2800" spc="-1" strike="noStrike">
                <a:solidFill>
                  <a:srgbClr val="ff6600"/>
                </a:solidFill>
                <a:latin typeface="Lucida Grande"/>
              </a:rPr>
              <a:t>onError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(message) {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alert('onError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+message)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var </a:t>
            </a:r>
            <a:r>
              <a:rPr b="0" lang="en-US" sz="2800" spc="-1" strike="noStrike">
                <a:solidFill>
                  <a:srgbClr val="ccffcc"/>
                </a:solidFill>
                <a:latin typeface="Lucida Grande"/>
              </a:rPr>
              <a:t>options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= new ContactFindOptions()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options.filter="</a:t>
            </a:r>
            <a:r>
              <a:rPr b="0" lang="zh-CN" sz="2800" spc="-1" strike="noStrike">
                <a:solidFill>
                  <a:srgbClr val="ffffff"/>
                </a:solidFill>
                <a:latin typeface="Lucida Grande"/>
              </a:rPr>
              <a:t>张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var fields = [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ame",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phoneNumber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email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]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navigator.service.contacts.find(fields,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onSuccess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, </a:t>
            </a:r>
            <a:r>
              <a:rPr b="0" lang="en-US" sz="2800" spc="-1" strike="noStrike">
                <a:solidFill>
                  <a:srgbClr val="ff6600"/>
                </a:solidFill>
                <a:latin typeface="Lucida Grande"/>
              </a:rPr>
              <a:t>onError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, </a:t>
            </a:r>
            <a:r>
              <a:rPr b="0" lang="en-US" sz="2800" spc="-1" strike="noStrike">
                <a:solidFill>
                  <a:srgbClr val="ccffcc"/>
                </a:solidFill>
                <a:latin typeface="Lucida Grande"/>
              </a:rPr>
              <a:t>options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Rectangle 2"/>
          <p:cNvSpPr/>
          <p:nvPr/>
        </p:nvSpPr>
        <p:spPr>
          <a:xfrm>
            <a:off x="10574280" y="4140360"/>
            <a:ext cx="1981080" cy="965160"/>
          </a:xfrm>
          <a:prstGeom prst="rect">
            <a:avLst/>
          </a:prstGeom>
          <a:solidFill>
            <a:srgbClr val="f79646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Grande"/>
              </a:rPr>
              <a:t>Contact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Grande"/>
              </a:rPr>
              <a:t>获取通讯录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1694160" y="114480"/>
            <a:ext cx="3401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怎么通过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调设备本地接口？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631-8DE9-4029-88EC-16F66CE0D6D2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4011480" y="1989000"/>
            <a:ext cx="53974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SzPct val="1593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布局调试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本地设备接口测试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云端实时调试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打包后一键安装测试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32300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移动端调试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6" name="Picture 2" descr=""/>
          <p:cNvPicPr/>
          <p:nvPr/>
        </p:nvPicPr>
        <p:blipFill>
          <a:blip r:embed="rId3"/>
          <a:stretch/>
        </p:blipFill>
        <p:spPr>
          <a:xfrm>
            <a:off x="3622680" y="6892920"/>
            <a:ext cx="3771720" cy="1434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CC9-3249-4BBC-BFAD-8766A80BC954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171440" y="2654280"/>
          <a:ext cx="10767960" cy="4594320"/>
        </p:xfrm>
        <a:graphic>
          <a:graphicData uri="http://schemas.openxmlformats.org/drawingml/2006/table">
            <a:tbl>
              <a:tblPr/>
              <a:tblGrid>
                <a:gridCol w="2468520"/>
                <a:gridCol w="4286160"/>
                <a:gridCol w="4013280"/>
              </a:tblGrid>
              <a:tr h="7192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oid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S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189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x32, 48x48, 72x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x57, 114x1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</a:tr>
              <a:tr h="998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启动画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x320, 320x480, 480x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2f8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x480, 640x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2f8"/>
                    </a:solidFill>
                  </a:tcPr>
                </a:tc>
              </a:tr>
              <a:tr h="7192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包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.sinaapp.SAE$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级域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打包目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2f8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client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可选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2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成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95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4f1"/>
                    </a:solidFill>
                  </a:tcPr>
                </a:tc>
              </a:tr>
            </a:tbl>
          </a:graphicData>
        </a:graphic>
      </p:graphicFrame>
      <p:sp>
        <p:nvSpPr>
          <p:cNvPr id="859" name="Rectangle 60"/>
          <p:cNvSpPr/>
          <p:nvPr/>
        </p:nvSpPr>
        <p:spPr>
          <a:xfrm>
            <a:off x="1539000" y="114480"/>
            <a:ext cx="6177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、打包选项设置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"/>
          <p:cNvSpPr/>
          <p:nvPr/>
        </p:nvSpPr>
        <p:spPr>
          <a:xfrm>
            <a:off x="9435600" y="905364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B97B-3895-4FDC-95D4-6DA86E15CF7C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Rectangle 1"/>
          <p:cNvSpPr/>
          <p:nvPr/>
        </p:nvSpPr>
        <p:spPr>
          <a:xfrm>
            <a:off x="3289320" y="1182600"/>
            <a:ext cx="6413400" cy="260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  <a:ea typeface="宋体"/>
              </a:rPr>
              <a:t>DEMO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个人通讯录云端备份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幻灯片编号占位符 3"/>
          <p:cNvSpPr/>
          <p:nvPr/>
        </p:nvSpPr>
        <p:spPr>
          <a:xfrm>
            <a:off x="12058560" y="9236160"/>
            <a:ext cx="29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F066-CA06-4ABD-9CC8-825A8BC9BA58}" type="slidenum">
              <a:rPr b="0" lang="en-US" sz="16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Rectangle 1"/>
          <p:cNvSpPr/>
          <p:nvPr/>
        </p:nvSpPr>
        <p:spPr>
          <a:xfrm>
            <a:off x="3924360" y="2973240"/>
            <a:ext cx="5181480" cy="27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"/>
          <p:cNvSpPr/>
          <p:nvPr/>
        </p:nvSpPr>
        <p:spPr>
          <a:xfrm>
            <a:off x="2598840" y="8190000"/>
            <a:ext cx="74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2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2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12041280" cy="9753480"/>
            <a:chOff x="0" y="0"/>
            <a:chExt cx="12041280" cy="9753480"/>
          </a:xfrm>
        </p:grpSpPr>
        <p:sp>
          <p:nvSpPr>
            <p:cNvPr id="867" name="矩形 4"/>
            <p:cNvSpPr/>
            <p:nvPr/>
          </p:nvSpPr>
          <p:spPr>
            <a:xfrm>
              <a:off x="2246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8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2438280"/>
              <a:ext cx="1204128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TextBox 7"/>
            <p:cNvSpPr/>
            <p:nvPr/>
          </p:nvSpPr>
          <p:spPr>
            <a:xfrm rot="20926800">
              <a:off x="2628720" y="5090400"/>
              <a:ext cx="6638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3556080" y="1905120"/>
            <a:ext cx="5613480" cy="583920"/>
            <a:chOff x="3556080" y="1905120"/>
            <a:chExt cx="5613480" cy="583920"/>
          </a:xfrm>
        </p:grpSpPr>
        <p:sp>
          <p:nvSpPr>
            <p:cNvPr id="260" name="Rectangle 2"/>
            <p:cNvSpPr/>
            <p:nvPr/>
          </p:nvSpPr>
          <p:spPr>
            <a:xfrm>
              <a:off x="3594240" y="1942920"/>
              <a:ext cx="55371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what makes an iphone app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61" name="Picture 3" descr=""/>
            <p:cNvPicPr/>
            <p:nvPr/>
          </p:nvPicPr>
          <p:blipFill>
            <a:blip r:embed="rId2"/>
            <a:stretch/>
          </p:blipFill>
          <p:spPr>
            <a:xfrm>
              <a:off x="3556080" y="1905120"/>
              <a:ext cx="5613480" cy="58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812880" y="3517920"/>
            <a:ext cx="4825800" cy="6858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3" name="Picture 6" descr=""/>
          <p:cNvPicPr/>
          <p:nvPr/>
        </p:nvPicPr>
        <p:blipFill>
          <a:blip r:embed="rId4"/>
          <a:stretch/>
        </p:blipFill>
        <p:spPr>
          <a:xfrm>
            <a:off x="1168560" y="4432320"/>
            <a:ext cx="4825800" cy="6858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4" name="Picture 7" descr=""/>
          <p:cNvPicPr/>
          <p:nvPr/>
        </p:nvPicPr>
        <p:blipFill>
          <a:blip r:embed="rId5"/>
          <a:stretch/>
        </p:blipFill>
        <p:spPr>
          <a:xfrm>
            <a:off x="2273400" y="5511960"/>
            <a:ext cx="5702040" cy="6858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5" name="Picture 8" descr=""/>
          <p:cNvPicPr/>
          <p:nvPr/>
        </p:nvPicPr>
        <p:blipFill>
          <a:blip r:embed="rId6"/>
          <a:stretch/>
        </p:blipFill>
        <p:spPr>
          <a:xfrm>
            <a:off x="4699080" y="7620120"/>
            <a:ext cx="5842080" cy="74916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6" name="Picture 9" descr=""/>
          <p:cNvPicPr/>
          <p:nvPr/>
        </p:nvPicPr>
        <p:blipFill>
          <a:blip r:embed="rId7"/>
          <a:stretch/>
        </p:blipFill>
        <p:spPr>
          <a:xfrm>
            <a:off x="6415200" y="8693280"/>
            <a:ext cx="5232240" cy="74916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7" name="Picture 10" descr=""/>
          <p:cNvPicPr/>
          <p:nvPr/>
        </p:nvPicPr>
        <p:blipFill>
          <a:blip r:embed="rId8"/>
          <a:stretch/>
        </p:blipFill>
        <p:spPr>
          <a:xfrm>
            <a:off x="5989680" y="3352680"/>
            <a:ext cx="1135080" cy="1016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9"/>
          <a:stretch/>
        </p:blipFill>
        <p:spPr>
          <a:xfrm>
            <a:off x="3962520" y="6616800"/>
            <a:ext cx="4521240" cy="6858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69" name="Picture 12" descr=""/>
          <p:cNvPicPr/>
          <p:nvPr/>
        </p:nvPicPr>
        <p:blipFill>
          <a:blip r:embed="rId10"/>
          <a:stretch/>
        </p:blipFill>
        <p:spPr>
          <a:xfrm>
            <a:off x="9055080" y="5397480"/>
            <a:ext cx="1981080" cy="1168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11"/>
          <a:stretch/>
        </p:blipFill>
        <p:spPr>
          <a:xfrm>
            <a:off x="7556400" y="3968640"/>
            <a:ext cx="3949920" cy="1238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12"/>
          <a:stretch/>
        </p:blipFill>
        <p:spPr>
          <a:xfrm>
            <a:off x="11861640" y="8775720"/>
            <a:ext cx="698760" cy="596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/>
          <p:cNvPicPr/>
          <p:nvPr/>
        </p:nvPicPr>
        <p:blipFill>
          <a:blip r:embed="rId13"/>
          <a:stretch/>
        </p:blipFill>
        <p:spPr>
          <a:xfrm>
            <a:off x="8775720" y="6756480"/>
            <a:ext cx="1523880" cy="406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"/>
          <p:cNvPicPr/>
          <p:nvPr/>
        </p:nvPicPr>
        <p:blipFill>
          <a:blip r:embed="rId14"/>
          <a:stretch/>
        </p:blipFill>
        <p:spPr>
          <a:xfrm>
            <a:off x="11125080" y="6593040"/>
            <a:ext cx="787680" cy="698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"/>
          <p:cNvPicPr/>
          <p:nvPr/>
        </p:nvPicPr>
        <p:blipFill>
          <a:blip r:embed="rId15"/>
          <a:stretch/>
        </p:blipFill>
        <p:spPr>
          <a:xfrm>
            <a:off x="279360" y="2603520"/>
            <a:ext cx="4826160" cy="68580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0080ff">
                <a:alpha val="50000"/>
              </a:srgbClr>
            </a:outerShdw>
          </a:effectLst>
        </p:spPr>
      </p:pic>
      <p:pic>
        <p:nvPicPr>
          <p:cNvPr id="275" name="Picture 18" descr=""/>
          <p:cNvPicPr/>
          <p:nvPr/>
        </p:nvPicPr>
        <p:blipFill>
          <a:blip r:embed="rId16"/>
          <a:stretch/>
        </p:blipFill>
        <p:spPr>
          <a:xfrm>
            <a:off x="8229600" y="2552760"/>
            <a:ext cx="1612800" cy="1371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9" descr=""/>
          <p:cNvPicPr/>
          <p:nvPr/>
        </p:nvPicPr>
        <p:blipFill>
          <a:blip r:embed="rId17"/>
          <a:stretch/>
        </p:blipFill>
        <p:spPr>
          <a:xfrm>
            <a:off x="9969480" y="2295360"/>
            <a:ext cx="2387520" cy="157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"/>
          <p:cNvPicPr/>
          <p:nvPr/>
        </p:nvPicPr>
        <p:blipFill>
          <a:blip r:embed="rId18"/>
          <a:stretch/>
        </p:blipFill>
        <p:spPr>
          <a:xfrm>
            <a:off x="11084040" y="7608960"/>
            <a:ext cx="419040" cy="7491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679840" y="101520"/>
            <a:ext cx="7645320" cy="1701720"/>
            <a:chOff x="2679840" y="101520"/>
            <a:chExt cx="7645320" cy="1701720"/>
          </a:xfrm>
        </p:grpSpPr>
        <p:sp>
          <p:nvSpPr>
            <p:cNvPr id="279" name="Rectangle 21"/>
            <p:cNvSpPr/>
            <p:nvPr/>
          </p:nvSpPr>
          <p:spPr>
            <a:xfrm>
              <a:off x="2882880" y="253800"/>
              <a:ext cx="7239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常规方法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80" name="Picture 22" descr=""/>
            <p:cNvPicPr/>
            <p:nvPr/>
          </p:nvPicPr>
          <p:blipFill>
            <a:blip r:embed="rId19"/>
            <a:stretch/>
          </p:blipFill>
          <p:spPr>
            <a:xfrm>
              <a:off x="2679840" y="101520"/>
              <a:ext cx="7645320" cy="170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"/>
                            </p:stCondLst>
                            <p:childTnLst>
                              <p:par>
                                <p:cTn id="5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75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4813200" y="2324160"/>
            <a:ext cx="6083280" cy="584280"/>
            <a:chOff x="4813200" y="2324160"/>
            <a:chExt cx="6083280" cy="584280"/>
          </a:xfrm>
        </p:grpSpPr>
        <p:sp>
          <p:nvSpPr>
            <p:cNvPr id="283" name="Rectangle 2"/>
            <p:cNvSpPr/>
            <p:nvPr/>
          </p:nvSpPr>
          <p:spPr>
            <a:xfrm>
              <a:off x="4851360" y="2362320"/>
              <a:ext cx="6006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特定语言针对于的某个平台开发的应程序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84" name="Picture 3" descr=""/>
            <p:cNvPicPr/>
            <p:nvPr/>
          </p:nvPicPr>
          <p:blipFill>
            <a:blip r:embed="rId2"/>
            <a:stretch/>
          </p:blipFill>
          <p:spPr>
            <a:xfrm>
              <a:off x="4813200" y="2324160"/>
              <a:ext cx="6083280" cy="5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2679840" y="101520"/>
            <a:ext cx="7645320" cy="1701720"/>
            <a:chOff x="2679840" y="101520"/>
            <a:chExt cx="7645320" cy="1701720"/>
          </a:xfrm>
        </p:grpSpPr>
        <p:sp>
          <p:nvSpPr>
            <p:cNvPr id="286" name="Rectangle 5"/>
            <p:cNvSpPr/>
            <p:nvPr/>
          </p:nvSpPr>
          <p:spPr>
            <a:xfrm>
              <a:off x="2882880" y="253800"/>
              <a:ext cx="7239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Native app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287" name="Picture 6" descr=""/>
            <p:cNvPicPr/>
            <p:nvPr/>
          </p:nvPicPr>
          <p:blipFill>
            <a:blip r:embed="rId3"/>
            <a:stretch/>
          </p:blipFill>
          <p:spPr>
            <a:xfrm>
              <a:off x="2679840" y="101520"/>
              <a:ext cx="7645320" cy="17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658800" y="2984400"/>
            <a:ext cx="2553840" cy="4178160"/>
            <a:chOff x="658800" y="2984400"/>
            <a:chExt cx="2553840" cy="4178160"/>
          </a:xfrm>
        </p:grpSpPr>
        <p:sp>
          <p:nvSpPr>
            <p:cNvPr id="289" name="AutoShape 8"/>
            <p:cNvSpPr/>
            <p:nvPr/>
          </p:nvSpPr>
          <p:spPr>
            <a:xfrm>
              <a:off x="658800" y="2984400"/>
              <a:ext cx="2553840" cy="4178160"/>
            </a:xfrm>
            <a:custGeom>
              <a:avLst/>
              <a:gdLst>
                <a:gd name="textAreaLeft" fmla="*/ 55440 w 2553840"/>
                <a:gd name="textAreaRight" fmla="*/ 2498400 w 2553840"/>
                <a:gd name="textAreaTop" fmla="*/ 55440 h 4178160"/>
                <a:gd name="textAreaBottom" fmla="*/ 4122720 h 4178160"/>
              </a:gdLst>
              <a:ahLst/>
              <a:rect l="textAreaLeft" t="textAreaTop" r="textAreaRight" b="textAreaBottom"/>
              <a:pathLst>
                <a:path w="21600" h="35336">
                  <a:moveTo>
                    <a:pt x="1611" y="0"/>
                  </a:moveTo>
                  <a:arcTo wR="1611" hR="1611" stAng="16200000" swAng="-5400000"/>
                  <a:lnTo>
                    <a:pt x="0" y="33725"/>
                  </a:lnTo>
                  <a:arcTo wR="1611" hR="1611" stAng="10800000" swAng="-5400000"/>
                  <a:lnTo>
                    <a:pt x="19989" y="35336"/>
                  </a:lnTo>
                  <a:arcTo wR="1611" hR="1611" stAng="5400000" swAng="-5400000"/>
                  <a:lnTo>
                    <a:pt x="21600" y="1611"/>
                  </a:lnTo>
                  <a:arcTo wR="1611" hR="1611" stAng="0" swAng="-5400000"/>
                  <a:close/>
                </a:path>
              </a:pathLst>
            </a:custGeom>
            <a:solidFill>
              <a:srgbClr val="cdcdc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892080" y="3397320"/>
              <a:ext cx="2076120" cy="303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Oval 10"/>
            <p:cNvSpPr/>
            <p:nvPr/>
          </p:nvSpPr>
          <p:spPr>
            <a:xfrm>
              <a:off x="1787760" y="6719760"/>
              <a:ext cx="293760" cy="282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92" name="Rectangle 12"/>
          <p:cNvSpPr/>
          <p:nvPr/>
        </p:nvSpPr>
        <p:spPr>
          <a:xfrm>
            <a:off x="3902040" y="3908520"/>
            <a:ext cx="2833560" cy="633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Objective-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5272920" y="4532040"/>
            <a:ext cx="9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Line 14"/>
          <p:cNvSpPr/>
          <p:nvPr/>
        </p:nvSpPr>
        <p:spPr>
          <a:xfrm flipV="1">
            <a:off x="5272920" y="7983000"/>
            <a:ext cx="3240" cy="89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4610160" y="7201080"/>
            <a:ext cx="1320840" cy="63468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p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Line 16"/>
          <p:cNvSpPr/>
          <p:nvPr/>
        </p:nvSpPr>
        <p:spPr>
          <a:xfrm flipV="1">
            <a:off x="5269680" y="6389280"/>
            <a:ext cx="9720" cy="709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4851360" y="8928000"/>
            <a:ext cx="939960" cy="6350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7035840" y="3911760"/>
            <a:ext cx="2833560" cy="631800"/>
          </a:xfrm>
          <a:prstGeom prst="rect">
            <a:avLst/>
          </a:prstGeom>
          <a:noFill/>
          <a:ln w="50760">
            <a:solidFill>
              <a:srgbClr val="86c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8416080" y="4537080"/>
            <a:ext cx="9720" cy="1154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442280" y="5740560"/>
            <a:ext cx="1930320" cy="634680"/>
          </a:xfrm>
          <a:prstGeom prst="rect">
            <a:avLst/>
          </a:prstGeom>
          <a:noFill/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dr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amewor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8414640" y="7981920"/>
            <a:ext cx="3240" cy="890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7746840" y="7201080"/>
            <a:ext cx="1320840" cy="634680"/>
          </a:xfrm>
          <a:prstGeom prst="rect">
            <a:avLst/>
          </a:prstGeom>
          <a:noFill/>
          <a:ln w="25560">
            <a:solidFill>
              <a:srgbClr val="c2e5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pk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Line 23"/>
          <p:cNvSpPr/>
          <p:nvPr/>
        </p:nvSpPr>
        <p:spPr>
          <a:xfrm flipV="1">
            <a:off x="8411400" y="6387840"/>
            <a:ext cx="9720" cy="709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7988400" y="8928000"/>
            <a:ext cx="939600" cy="635040"/>
          </a:xfrm>
          <a:prstGeom prst="rect">
            <a:avLst/>
          </a:prstGeom>
          <a:noFill/>
          <a:ln w="12600">
            <a:solidFill>
              <a:srgbClr val="d9e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droid ap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10071000" y="3911760"/>
            <a:ext cx="2833920" cy="631800"/>
          </a:xfrm>
          <a:prstGeom prst="rect">
            <a:avLst/>
          </a:prstGeom>
          <a:noFill/>
          <a:ln w="50760">
            <a:solidFill>
              <a:srgbClr val="004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#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Line 26"/>
          <p:cNvSpPr/>
          <p:nvPr/>
        </p:nvSpPr>
        <p:spPr>
          <a:xfrm flipV="1">
            <a:off x="11452320" y="4537080"/>
            <a:ext cx="9360" cy="1154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77440" y="5740560"/>
            <a:ext cx="1930320" cy="634680"/>
          </a:xfrm>
          <a:prstGeom prst="rect">
            <a:avLst/>
          </a:prstGeom>
          <a:noFill/>
          <a:ln w="38160">
            <a:solidFill>
              <a:srgbClr val="629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Line 28"/>
          <p:cNvSpPr/>
          <p:nvPr/>
        </p:nvSpPr>
        <p:spPr>
          <a:xfrm flipV="1">
            <a:off x="11449800" y="7981920"/>
            <a:ext cx="3240" cy="890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0782360" y="7201080"/>
            <a:ext cx="1320840" cy="634680"/>
          </a:xfrm>
          <a:prstGeom prst="rect">
            <a:avLst/>
          </a:prstGeom>
          <a:noFill/>
          <a:ln w="38160">
            <a:solidFill>
              <a:srgbClr val="98b7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a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Line 30"/>
          <p:cNvSpPr/>
          <p:nvPr/>
        </p:nvSpPr>
        <p:spPr>
          <a:xfrm flipV="1">
            <a:off x="11447640" y="6387840"/>
            <a:ext cx="9360" cy="709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11023560" y="8928000"/>
            <a:ext cx="939960" cy="635040"/>
          </a:xfrm>
          <a:prstGeom prst="rect">
            <a:avLst/>
          </a:prstGeom>
          <a:noFill/>
          <a:ln w="38160">
            <a:solidFill>
              <a:srgbClr val="cad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317840" y="5676840"/>
            <a:ext cx="1930680" cy="635040"/>
          </a:xfrm>
          <a:prstGeom prst="rect">
            <a:avLst/>
          </a:prstGeom>
          <a:noFill/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4959720" y="4321440"/>
            <a:ext cx="3071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1441080" y="2634840"/>
            <a:ext cx="20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7500"/>
                </a:solidFill>
                <a:latin typeface="Gill Sans"/>
              </a:rPr>
              <a:t>Symbia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627720" y="2513160"/>
            <a:ext cx="552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dcc"/>
                </a:solidFill>
                <a:latin typeface="Gill Sans"/>
              </a:rPr>
              <a:t>Windows Mobile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333240" y="3363840"/>
            <a:ext cx="166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00e6"/>
                </a:solidFill>
                <a:latin typeface="Gill Sans"/>
              </a:rPr>
              <a:t>Java M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3569760" y="5680440"/>
            <a:ext cx="94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43434"/>
                </a:solidFill>
                <a:latin typeface="Gill Sans"/>
              </a:rPr>
              <a:t>C++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795480" y="6884640"/>
            <a:ext cx="58557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3b3b3"/>
                </a:solidFill>
                <a:latin typeface="Gill Sans"/>
              </a:rPr>
              <a:t>.Net Compac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808520" y="6165720"/>
            <a:ext cx="383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BlackBerry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9481320" y="2619720"/>
            <a:ext cx="33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9318600" y="5798520"/>
            <a:ext cx="19162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1f67"/>
                </a:solidFill>
                <a:latin typeface="Gill Sans"/>
              </a:rPr>
              <a:t>Pal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464480" y="6620040"/>
            <a:ext cx="3441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58e28"/>
                </a:solidFill>
                <a:latin typeface="Gill Sans"/>
              </a:rPr>
              <a:t>Android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165840" y="4164120"/>
            <a:ext cx="93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pa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7734240" y="4915080"/>
            <a:ext cx="383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Web O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2239560" y="4877640"/>
            <a:ext cx="22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9a9a"/>
                </a:solidFill>
                <a:latin typeface="Gill Sans"/>
              </a:rPr>
              <a:t>apple app 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5653800" y="3456720"/>
            <a:ext cx="191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kia st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7564680" y="4024440"/>
            <a:ext cx="121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Gill Sans"/>
              </a:rPr>
              <a:t>Android pla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775880" y="3726000"/>
            <a:ext cx="910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140041"/>
                </a:solidFill>
                <a:latin typeface="Gill Sans"/>
              </a:rPr>
              <a:t>C#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6361920" y="5538240"/>
            <a:ext cx="51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6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153280" y="4013280"/>
            <a:ext cx="383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bject-c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8766360" y="2496600"/>
            <a:ext cx="26067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76767"/>
                </a:solidFill>
                <a:latin typeface="Gill Sans"/>
              </a:rPr>
              <a:t>Xcod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8585280" y="6908760"/>
            <a:ext cx="383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e00f0"/>
                </a:solidFill>
                <a:latin typeface="Gill Sans"/>
              </a:rPr>
              <a:t>Eclips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1958760" y="5641200"/>
            <a:ext cx="1033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S40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679840" y="101520"/>
            <a:ext cx="7645320" cy="1701720"/>
            <a:chOff x="2679840" y="101520"/>
            <a:chExt cx="7645320" cy="1701720"/>
          </a:xfrm>
        </p:grpSpPr>
        <p:sp>
          <p:nvSpPr>
            <p:cNvPr id="336" name="Rectangle 23"/>
            <p:cNvSpPr/>
            <p:nvPr/>
          </p:nvSpPr>
          <p:spPr>
            <a:xfrm>
              <a:off x="2882880" y="253800"/>
              <a:ext cx="7239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其他平台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37" name="Picture 24" descr=""/>
            <p:cNvPicPr/>
            <p:nvPr/>
          </p:nvPicPr>
          <p:blipFill>
            <a:blip r:embed="rId2"/>
            <a:stretch/>
          </p:blipFill>
          <p:spPr>
            <a:xfrm>
              <a:off x="2679840" y="101520"/>
              <a:ext cx="7645320" cy="1701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75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75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25"/>
                            </p:stCondLst>
                            <p:childTnLst>
                              <p:par>
                                <p:cTn id="1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50"/>
                            </p:stCondLst>
                            <p:childTnLst>
                              <p:par>
                                <p:cTn id="1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775"/>
                            </p:stCondLst>
                            <p:childTnLst>
                              <p:par>
                                <p:cTn id="1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75"/>
                            </p:stCondLst>
                            <p:childTnLst>
                              <p:par>
                                <p:cTn id="1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75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425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8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325"/>
                            </p:stCondLst>
                            <p:childTnLst>
                              <p:par>
                                <p:cTn id="1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625"/>
                            </p:stCondLst>
                            <p:childTnLst>
                              <p:par>
                                <p:cTn id="1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75"/>
                            </p:stCondLst>
                            <p:childTnLst>
                              <p:par>
                                <p:cTn id="1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7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7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75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25"/>
                            </p:stCondLst>
                            <p:childTnLst>
                              <p:par>
                                <p:cTn id="1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925"/>
                            </p:stCondLst>
                            <p:childTnLst>
                              <p:par>
                                <p:cTn id="1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75"/>
                            </p:stCondLst>
                            <p:childTnLst>
                              <p:par>
                                <p:cTn id="2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300"/>
                            </p:stCondLst>
                            <p:childTnLst>
                              <p:par>
                                <p:cTn id="2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900"/>
                            </p:stCondLst>
                            <p:childTnLst>
                              <p:par>
                                <p:cTn id="2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275"/>
                            </p:stCondLst>
                            <p:childTnLst>
                              <p:par>
                                <p:cTn id="2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2"/>
          <p:cNvSpPr/>
          <p:nvPr/>
        </p:nvSpPr>
        <p:spPr>
          <a:xfrm>
            <a:off x="1638360" y="7471080"/>
            <a:ext cx="1852560" cy="640440"/>
          </a:xfrm>
          <a:prstGeom prst="rect">
            <a:avLst/>
          </a:prstGeom>
          <a:noFill/>
          <a:ln w="63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os Ap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554800" y="7610760"/>
            <a:ext cx="2644920" cy="640440"/>
          </a:xfrm>
          <a:prstGeom prst="rect">
            <a:avLst/>
          </a:prstGeom>
          <a:noFill/>
          <a:ln w="633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dro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0748160" y="7610760"/>
            <a:ext cx="1427400" cy="640440"/>
          </a:xfrm>
          <a:prstGeom prst="rect">
            <a:avLst/>
          </a:prstGeom>
          <a:noFill/>
          <a:ln w="63360">
            <a:solidFill>
              <a:srgbClr val="003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Line 5"/>
          <p:cNvSpPr/>
          <p:nvPr/>
        </p:nvSpPr>
        <p:spPr>
          <a:xfrm flipV="1">
            <a:off x="3452760" y="3930480"/>
            <a:ext cx="3456000" cy="346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Line 6"/>
          <p:cNvSpPr/>
          <p:nvPr/>
        </p:nvSpPr>
        <p:spPr>
          <a:xfrm flipV="1">
            <a:off x="6879600" y="3930480"/>
            <a:ext cx="21960" cy="3632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Line 7"/>
          <p:cNvSpPr/>
          <p:nvPr/>
        </p:nvSpPr>
        <p:spPr>
          <a:xfrm flipH="1" flipV="1">
            <a:off x="6928920" y="3949560"/>
            <a:ext cx="3751560" cy="3595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5122800" y="3216600"/>
            <a:ext cx="3278880" cy="640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eneric co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8267760" y="299736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2781360" y="4724280"/>
            <a:ext cx="8165880" cy="1841760"/>
          </a:xfrm>
          <a:prstGeom prst="rect">
            <a:avLst/>
          </a:prstGeom>
          <a:ln w="0">
            <a:noFill/>
          </a:ln>
          <a:effectLst>
            <a:outerShdw dist="12605" dir="5301805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920" y="17640"/>
            <a:ext cx="12992040" cy="974556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692440" y="127080"/>
            <a:ext cx="7645320" cy="1701720"/>
            <a:chOff x="2692440" y="127080"/>
            <a:chExt cx="7645320" cy="1701720"/>
          </a:xfrm>
        </p:grpSpPr>
        <p:sp>
          <p:nvSpPr>
            <p:cNvPr id="350" name="Rectangle 2"/>
            <p:cNvSpPr/>
            <p:nvPr/>
          </p:nvSpPr>
          <p:spPr>
            <a:xfrm>
              <a:off x="2895480" y="279360"/>
              <a:ext cx="7239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Heiti SC Medium"/>
                </a:rPr>
                <a:t>新方法</a:t>
              </a:r>
              <a:endParaRPr b="0" lang="en-US" sz="7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51" name="Picture 3" descr=""/>
            <p:cNvPicPr/>
            <p:nvPr/>
          </p:nvPicPr>
          <p:blipFill>
            <a:blip r:embed="rId2"/>
            <a:stretch/>
          </p:blipFill>
          <p:spPr>
            <a:xfrm>
              <a:off x="2692440" y="127080"/>
              <a:ext cx="7645320" cy="170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5"/>
          <p:cNvSpPr/>
          <p:nvPr/>
        </p:nvSpPr>
        <p:spPr>
          <a:xfrm>
            <a:off x="1638360" y="7471080"/>
            <a:ext cx="1852560" cy="640440"/>
          </a:xfrm>
          <a:prstGeom prst="rect">
            <a:avLst/>
          </a:prstGeom>
          <a:noFill/>
          <a:ln w="63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os Ap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5554800" y="7610760"/>
            <a:ext cx="2644920" cy="640440"/>
          </a:xfrm>
          <a:prstGeom prst="rect">
            <a:avLst/>
          </a:prstGeom>
          <a:noFill/>
          <a:ln w="633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dro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10748160" y="7610760"/>
            <a:ext cx="1427400" cy="640440"/>
          </a:xfrm>
          <a:prstGeom prst="rect">
            <a:avLst/>
          </a:prstGeom>
          <a:noFill/>
          <a:ln w="63360">
            <a:solidFill>
              <a:srgbClr val="003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Line 8"/>
          <p:cNvSpPr/>
          <p:nvPr/>
        </p:nvSpPr>
        <p:spPr>
          <a:xfrm flipV="1">
            <a:off x="3452760" y="3930480"/>
            <a:ext cx="3456000" cy="346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Line 9"/>
          <p:cNvSpPr/>
          <p:nvPr/>
        </p:nvSpPr>
        <p:spPr>
          <a:xfrm flipV="1">
            <a:off x="6879600" y="3930480"/>
            <a:ext cx="21960" cy="3632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Line 10"/>
          <p:cNvSpPr/>
          <p:nvPr/>
        </p:nvSpPr>
        <p:spPr>
          <a:xfrm flipH="1" flipV="1">
            <a:off x="6928920" y="3949560"/>
            <a:ext cx="3751560" cy="3595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4956120" y="3149640"/>
            <a:ext cx="3861000" cy="774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HTML5+CSS+J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8:36:09Z</dcterms:created>
  <dc:creator/>
  <dc:description/>
  <dc:language>en-US</dc:language>
  <cp:lastModifiedBy>sina</cp:lastModifiedBy>
  <dcterms:modified xsi:type="dcterms:W3CDTF">2015-01-11T06:50:14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