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213-1075-4882-938B-337EA00D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65E-0A28-469F-B55A-F00959B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3DF-7BB8-4F2B-84BD-1260B161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86C-9405-4EE4-A01B-FC79FFDC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4EE-BABB-46C7-B02D-41B20500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E6C-6807-4F88-B4DF-1DA94C9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6B86-25BA-4A31-A852-E0F93B88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9EFF-B56E-47F2-9BCC-5D8639C6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270-1AA9-4158-9FAA-D8F9C49B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07D-6C8A-4190-9AC7-DA867CF2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D597-1F7F-4910-A6C0-26F33AE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E20-6A93-4396-A4FB-930E4746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97B-1A53-4071-AA14-C16AAB9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0E4F-EEE3-4C7C-AEC7-1DACB09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E5F-2D7D-478F-8704-F03743B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A09-8EC6-4947-9A5B-C9F22C75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535-BFF7-4312-9FC0-20EE6C85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ED4-22E7-415B-8BFF-28CC358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7C7-7FF3-4BE9-ABCC-BAE5ACD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91A-9C4E-40BF-8DCD-3DDA67A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C02-00DC-443E-B6AE-AF231D26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39A-C07D-49F8-9B40-2322A16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08A-E9C4-4EA9-BA43-728C5F3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1A3-0F3D-41BD-B2C0-917AF5D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8BE-AD0A-4020-A04C-7C3274B00CC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D9A-596C-4C6E-8336-58406140442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quarki</a:t>
            </a: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radical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"/>
          <p:cNvSpPr/>
          <p:nvPr/>
        </p:nvSpPr>
        <p:spPr>
          <a:xfrm>
            <a:off x="7363440" y="64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transitional </a:t>
            </a: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page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1" name=""/>
          <p:cNvSpPr/>
          <p:nvPr/>
        </p:nvSpPr>
        <p:spPr>
          <a:xfrm>
            <a:off x="7363440" y="6489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element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3" name="quarkiradical_prt" descr=""/>
          <p:cNvPicPr/>
          <p:nvPr/>
        </p:nvPicPr>
        <p:blipFill>
          <a:blip r:embed="rId1"/>
          <a:stretch/>
        </p:blipFill>
        <p:spPr>
          <a:xfrm>
            <a:off x="6891480" y="4751280"/>
            <a:ext cx="2176200" cy="1633680"/>
          </a:xfrm>
          <a:prstGeom prst="rect">
            <a:avLst/>
          </a:prstGeom>
          <a:ln w="0">
            <a:noFill/>
          </a:ln>
        </p:spPr>
      </p:pic>
      <p:pic>
        <p:nvPicPr>
          <p:cNvPr id="94" name="quarkiradical_qx" descr=""/>
          <p:cNvPicPr/>
          <p:nvPr/>
        </p:nvPicPr>
        <p:blipFill>
          <a:blip r:embed="rId2"/>
          <a:stretch/>
        </p:blipFill>
        <p:spPr>
          <a:xfrm>
            <a:off x="76320" y="4751280"/>
            <a:ext cx="2176200" cy="1633680"/>
          </a:xfrm>
          <a:prstGeom prst="rect">
            <a:avLst/>
          </a:prstGeom>
          <a:ln w="0">
            <a:noFill/>
          </a:ln>
        </p:spPr>
      </p:pic>
      <p:pic>
        <p:nvPicPr>
          <p:cNvPr id="95" name="quarkiradical_sld" descr=""/>
          <p:cNvPicPr/>
          <p:nvPr/>
        </p:nvPicPr>
        <p:blipFill>
          <a:blip r:embed="rId3"/>
          <a:stretch/>
        </p:blipFill>
        <p:spPr>
          <a:xfrm>
            <a:off x="2347920" y="4751280"/>
            <a:ext cx="2176560" cy="1633680"/>
          </a:xfrm>
          <a:prstGeom prst="rect">
            <a:avLst/>
          </a:prstGeom>
          <a:ln w="0">
            <a:noFill/>
          </a:ln>
        </p:spPr>
      </p:pic>
      <p:pic>
        <p:nvPicPr>
          <p:cNvPr id="96" name="quarkiradical_trs" descr=""/>
          <p:cNvPicPr/>
          <p:nvPr/>
        </p:nvPicPr>
        <p:blipFill>
          <a:blip r:embed="rId4"/>
          <a:stretch/>
        </p:blipFill>
        <p:spPr>
          <a:xfrm>
            <a:off x="4619520" y="4751280"/>
            <a:ext cx="2176560" cy="163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"/>
          <p:cNvSpPr/>
          <p:nvPr/>
        </p:nvSpPr>
        <p:spPr>
          <a:xfrm>
            <a:off x="2088000" y="64882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/>
  <dc:description/>
  <dc:language>en-US</dc:language>
  <cp:lastModifiedBy>eclipse</cp:lastModifiedBy>
  <dcterms:modified xsi:type="dcterms:W3CDTF">2015-01-10T12:15:0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