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D57A2-F7F1-4CC5-B9D6-79388BE31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01278-50FF-418C-8DA6-65C67FAF6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591B4-2B0E-4F8F-8E0B-31CD92AB5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E475A-D01A-4370-A64B-971379A0C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3D6BF-470F-40FE-AB4B-978E74911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1D9CA-7856-415A-8670-3BC16E8B5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36F08-FAF1-4C11-9ED4-0C5B78B42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72ECD-3AEB-4CD8-B8C0-5D82E5CDE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B193E-4408-476A-920C-EB391EF0C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B7BF8-6BD7-4B24-89B8-5A9C8C7C3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F50E1-B793-46EF-8A77-6089A44DF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290BC-4D80-44F9-BB30-8A684F605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89A26-EFF7-4D91-BCE3-EE547836E5F2}" type="slidenum">
              <a:rPr b="0" lang="fr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373200"/>
            <a:ext cx="777240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Calibri"/>
              </a:rPr>
              <a:t>PRESENTATION  NAME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029120"/>
            <a:ext cx="6400800" cy="61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ffffff"/>
                </a:solidFill>
                <a:latin typeface="Calibri"/>
              </a:rPr>
              <a:t>Company Nam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/>
          <p:nvPr/>
        </p:nvSpPr>
        <p:spPr>
          <a:xfrm>
            <a:off x="7164360" y="645336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071440" y="274320"/>
            <a:ext cx="6615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2071440" y="1600200"/>
            <a:ext cx="6615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2071440"/>
            <a:ext cx="8229600" cy="45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7164360" y="645336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2071440"/>
            <a:ext cx="8229600" cy="45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站点介绍</a:t>
            </a:r>
            <a:r>
              <a:rPr b="1" lang="fr-FR" sz="1800" spc="-1" strike="noStrike">
                <a:solidFill>
                  <a:srgbClr val="ededed"/>
                </a:solidFill>
                <a:latin typeface="Calibri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fr-FR" sz="16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----</a:t>
            </a:r>
            <a:r>
              <a:rPr b="1" lang="fr-FR" sz="1600" spc="-1" strike="noStrike">
                <a:solidFill>
                  <a:srgbClr val="ededed"/>
                </a:solidFill>
                <a:latin typeface="Calibri"/>
              </a:rPr>
              <a:t>EEPPT.COM</a:t>
            </a:r>
            <a:r>
              <a:rPr b="1" lang="fr-FR" sz="16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fr-FR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fr-FR" sz="16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fr-FR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fr-FR" sz="16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fr-FR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fr-FR" sz="16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fr-FR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fr-FR" sz="16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fr-FR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fr-FR" sz="16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fr-FR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fr-FR" sz="16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fr-FR" sz="16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fr-FR" sz="16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fr-FR" sz="16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fr-FR" sz="16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fr-FR" sz="1600" spc="-1" strike="noStrike">
                <a:solidFill>
                  <a:srgbClr val="e8eff7"/>
                </a:solidFill>
                <a:latin typeface="Calibri"/>
              </a:rPr>
              <a:t>模板免费下载。</a:t>
            </a:r>
            <a:r>
              <a:rPr b="1" lang="fr-FR" sz="1600" spc="-1" strike="noStrike">
                <a:solidFill>
                  <a:srgbClr val="e8eff7"/>
                </a:solidFill>
                <a:latin typeface="Calibri"/>
              </a:rPr>
              <a:t>WWW.EEPPT.COM-</a:t>
            </a:r>
            <a:r>
              <a:rPr b="1" lang="fr-FR" sz="1600" spc="-1" strike="noStrike">
                <a:solidFill>
                  <a:srgbClr val="e8eff7"/>
                </a:solidFill>
                <a:latin typeface="Calibri"/>
              </a:rPr>
              <a:t>让您轻松制作出精美</a:t>
            </a:r>
            <a:r>
              <a:rPr b="1" lang="fr-FR" sz="16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fr-FR" sz="1600" spc="-1" strike="noStrike">
                <a:solidFill>
                  <a:srgbClr val="e8eff7"/>
                </a:solidFill>
                <a:latin typeface="Calibri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收集于网络，</a:t>
            </a:r>
            <a:r>
              <a:rPr b="1" lang="fr-FR" sz="1600" spc="-1" strike="noStrike">
                <a:solidFill>
                  <a:srgbClr val="ededed"/>
                </a:solidFill>
                <a:latin typeface="Calibri"/>
              </a:rPr>
              <a:t>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栏目推荐</a:t>
            </a:r>
            <a:r>
              <a:rPr b="1" lang="fr-FR" sz="1800" spc="-1" strike="noStrike">
                <a:solidFill>
                  <a:srgbClr val="ededed"/>
                </a:solidFill>
                <a:latin typeface="Calibri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fr-FR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fr-FR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fr-FR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fr-FR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fr-FR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fr-FR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fr-FR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7T22:23:01Z</dcterms:created>
  <dc:creator>我爱PPT官方网 - 中文演示设计平台 www.iloveppt.org; Admin</dc:creator>
  <dc:description>我爱PPT官方网 - 中文演示设计平台 www.iloveppt.org</dc:description>
  <cp:keywords>我爱PPT官方网 - 中文演示设计平台 www.iloveppt.org</cp:keywords>
  <dc:language>en-US</dc:language>
  <cp:lastModifiedBy>ilovePPT.ORG</cp:lastModifiedBy>
  <dcterms:modified xsi:type="dcterms:W3CDTF">2015-01-10T11:52:59Z</dcterms:modified>
  <cp:revision>4</cp:revision>
  <dc:subject>通用纹理</dc:subject>
  <dc:title>我爱PPT官方网 - 中文演示设计平台 www.iloveppt.or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