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813-8C9D-484C-9ED4-362A8C36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9A8-AB5F-4B09-9878-9BF80BA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C3F-903D-451D-97C9-607F911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ECA-AE7C-49AC-936B-A0ABD41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B67-0A7B-4013-951A-9BF9147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6F8-7B2A-49B3-B1AF-5DBFEB8E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B67-95CB-4064-B75E-B07932C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146-AADD-4AC1-8099-EA82B360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13D-5A54-4DA6-9DDF-06C60E0B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EBF-6C6E-414A-8313-81BA6C1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0C1-C426-405D-9D4C-E6E93BA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109-0AF7-4F44-817B-73C51BB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C71A-170A-4E02-A9DC-7C79D088B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2:56Z</dcterms:created>
  <dc:creator/>
  <dc:description/>
  <dc:language>en-US</dc:language>
  <cp:lastModifiedBy>Eric</cp:lastModifiedBy>
  <dcterms:modified xsi:type="dcterms:W3CDTF">2015-01-11T13:49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