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458-D516-436E-A275-E927D87A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C5E-75E6-44D2-8669-BE53A8A4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B4F-08B8-47A2-A0E8-B6A5AE69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270-9843-4900-9207-AE830B3A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4C0E-5BC4-4225-A5F7-EBA4E783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6C09-CAA1-456F-B838-3B4E605D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D47C-D755-4124-A2B8-3A90D698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F020-0C65-42B2-8FB8-0DD1C142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B050-9010-4BC5-AB47-FB63457B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5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0F4A-A876-4AEF-B768-E68F495E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7F80-1A3F-4193-A49F-B0E6BF2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F83-20BB-49B4-BFAF-9C9C6C0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EB5C-FCC0-4B0F-BD66-8C4EA171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4AB3-D61F-408E-A1EC-0134AE50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F2EF-0D86-4E6E-BDF1-C7C6F5EB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566A-BAD6-40C9-93B5-D1032409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C397-2D2A-4431-8B34-FD865921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6CE-E89E-4838-90D3-B7EA7B83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9AC-8657-4316-9F4C-B8E9611A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250-7432-4149-87AD-EE1599AF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5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3DC-1314-4E51-81D9-86466717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4B5-4441-4130-A2D1-E5B98061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740-30C1-400C-96DA-C949E267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07D-78DA-498C-8638-A41D575F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1C75-8E22-4B60-9308-A8791D0E0A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480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8059-87A7-4340-BD55-08D3DE114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480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360" y="2743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5080" y="640224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90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dc:language>en-US</dc:language>
  <cp:lastModifiedBy>kevin</cp:lastModifiedBy>
  <dcterms:modified xsi:type="dcterms:W3CDTF">2015-01-11T13:51:0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