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4010-CB40-49AB-A978-E0CD73EEE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6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6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5E63-776E-4640-B114-C680D92F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044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0440" y="377208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ABD7-8AF8-4B1D-9C3F-D62ED0048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19700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4040" y="119700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377208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4040" y="377208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DC9D-46EC-4D6C-8FFF-1121FDA7B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DFDCF-85CC-473E-9CAE-E7FA22553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8C71C-577B-4AE9-905A-7ED0C97EC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7EAD7-19CC-4F14-81A3-D0EDEE394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0440" y="119700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3FFF7-D119-4EA8-AE36-6E18E93BA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56E12-DABD-4D65-8607-B25844172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1B7F7-29F9-44D8-8592-0424D04EA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0440" y="119700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40654-DEAB-4125-9444-EF44D6AD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BD55-6FD5-4383-ADCC-B78B138F8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044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0440" y="377208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997F0-17F1-4DAD-8029-90FD163D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044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6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E6DEA-688C-428B-9F06-C35D7E30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6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6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6C3D2-3EF0-40F6-980F-9DE95459F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044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0440" y="377208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12B9C-747F-465C-AFEF-F9AF3387B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50800" y="119700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44040" y="119700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50800" y="377208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44040" y="377208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9B110-DA7F-438F-AA0C-43F386A6B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FC30-8A19-4A52-956E-DFE7245D1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0440" y="119700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2233-0B91-448E-8DB9-FE4E454FE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CF61-53A8-456B-8D0F-BBEAC08FA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E762-1980-45D3-A960-9CBC567EB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0440" y="119700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65E4-F0C9-4A46-A57A-06F834DE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044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0440" y="377208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C62A-2799-47D1-B385-CAA335D9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044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6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7361-4269-4614-BD63-D2479DF8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:\设计素材\图片\商务\1267405494867.png"/>
          <p:cNvPicPr/>
          <p:nvPr/>
        </p:nvPicPr>
        <p:blipFill>
          <a:blip r:embed="rId2"/>
          <a:srcRect l="0" t="0" r="32181" b="3218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A33E0-3F85-4D32-BDA0-2BBF53EF860A}" type="datetime">
              <a:rPr b="0" lang="zh-CN" sz="1200" spc="-1" strike="noStrike">
                <a:solidFill>
                  <a:srgbClr val="ffffff"/>
                </a:solidFill>
                <a:latin typeface="Verdana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Verdana"/>
              </a:rPr>
              <a:t>小田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@ www.ilovepp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059EB-6C51-4F6A-B9D6-2D84D0547FCD}" type="slidenum">
              <a:rPr b="0" lang="zh-CN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E:\设计素材\图片\商务\1267405494867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1701360"/>
            <a:ext cx="77724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32865-0850-43BC-9A26-E283FF1CD069}" type="datetime">
              <a:rPr b="0" lang="zh-CN" sz="1400" spc="-1" strike="noStrike">
                <a:solidFill>
                  <a:srgbClr val="000000"/>
                </a:solidFill>
                <a:latin typeface="Verdana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23BD3-1FBF-4E69-BD5F-3A94CBB385E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35344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93840" y="2565000"/>
            <a:ext cx="83563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15624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BF4AC-D4BB-4EAD-8DE3-89713837F780}" type="slidenum">
              <a:rPr b="0" lang="zh-CN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1701360"/>
            <a:ext cx="77724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感谢您的关注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9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2:51:22Z</dcterms:created>
  <dc:creator/>
  <dc:description/>
  <dc:language>en-US</dc:language>
  <cp:lastModifiedBy>ilovePPT.ORG</cp:lastModifiedBy>
  <dcterms:modified xsi:type="dcterms:W3CDTF">2015-01-11T09:20:44Z</dcterms:modified>
  <cp:revision>3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