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5F8-EC5E-41CF-95D4-208CDB06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35F-CFA2-400F-B710-2F77796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CCE-786D-4C87-B9B1-D29AE5C3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A3F-46E0-4784-89F6-1E766E4F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2E92-89D8-4E87-B81B-A3B38E8E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E9AA-6B12-406E-8002-2657ECFA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DAE8-B1A1-4304-96B2-24D6C95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B96-A505-4363-BE52-E161F552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9891-654A-41C3-A868-18C9FB4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215-4E4C-4EBF-9DFD-8816501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C819-8C2F-4FB3-B5FA-31CA967C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B5A-443C-40A8-9D4A-16A67C7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06B-94D7-4EB1-B96A-C4A0A83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938-6CEF-469D-AF3E-126D4EE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CB8-0F1E-4FD2-9DB8-DDD86D1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C11-01A7-4767-8A29-EA59FF83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DA6C-2CF0-4B7C-92C7-EC879E41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8CB-F00B-4BF6-926A-5A87ED5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5BE-3E93-4B64-8A82-E534AC9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FCF-DEF1-4F4C-8240-12AEE6E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46A-AC1B-4355-AA5A-7862599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73D-55D4-4B6F-8CCB-FE146D4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B02-9BC8-4EBB-9305-E8D334C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696-07BC-44DE-9854-631A2270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BF6B-FD27-488A-9BEA-CF8AC51C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84492" b="0"/>
          <a:stretch/>
        </p:blipFill>
        <p:spPr>
          <a:xfrm>
            <a:off x="7920" y="0"/>
            <a:ext cx="1416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77911"/>
          <a:stretch/>
        </p:blipFill>
        <p:spPr>
          <a:xfrm>
            <a:off x="7920" y="0"/>
            <a:ext cx="9128160" cy="1515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AC1-E61B-43E8-A49D-6D2D516D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13:44Z</dcterms:created>
  <dc:creator>Administrator</dc:creator>
  <dc:description/>
  <dc:language>en-US</dc:language>
  <cp:lastModifiedBy/>
  <dcterms:modified xsi:type="dcterms:W3CDTF">2015-01-11T08:30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