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4B0-5616-4B59-808A-03CE5505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F94-168C-4258-8525-B4B5875C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ABE-6405-4999-8217-509D7C30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12B-42A1-475B-B421-40939D8D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7ED7-9282-4827-AE0D-839A148F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0375-7383-470F-B077-9732993E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B903-0A79-48C4-B86B-464034DA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3B9-8171-42F0-8421-4C7256C0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877F-671C-4941-B1FC-F25A9614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9EE6-533C-4CA4-BCC2-7DDCF78C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DFEC-9E2F-41E5-BCBF-8D3200CD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E71-154F-4970-81E5-A93D64A5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EFC5-DE4D-44E9-B707-7EDEB05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47B8-3928-4B45-B673-6EB476C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22A2-C9CA-4808-9151-08A7A509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B5DE-EA8B-4D3C-9812-12F9EEE9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36C9-5FA4-43D6-B4EA-410A0B9C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C16-6D98-4104-B777-62778FBA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10B-AC53-493F-9607-4971091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DD0-1154-4213-8319-0090782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679-9AA1-4DA3-97D6-836E5D6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69C-6B2E-4F5B-81E2-0D01863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4A2-7287-49E8-A017-93249ED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8A9-B519-427C-B106-6C598C8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240" y="0"/>
            <a:ext cx="936648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C275-D2BA-4DEC-AD35-28462228B2CD}" type="slidenum">
              <a:rPr b="0" lang="en-US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7800" y="2492280"/>
            <a:ext cx="40640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4B3-F9E0-4872-AC89-54811D9B1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99cc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717800" y="2492280"/>
            <a:ext cx="40640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17800" y="5014800"/>
            <a:ext cx="40640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3:48:26Z</dcterms:created>
  <dc:creator/>
  <dc:description/>
  <dc:language>en-US</dc:language>
  <cp:lastModifiedBy/>
  <dcterms:modified xsi:type="dcterms:W3CDTF">2015-01-11T13:50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