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BF4-CA58-46F1-98C7-EAF1AB11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6CAB-95DB-40B4-AC33-25EA3DD4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757-51BC-4100-A3A3-52A37924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6A0-9179-49D9-B34E-55938F8FC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A4D0-693B-45E4-B9BC-213AED62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7DCA-0FC9-414F-AB5A-D462FFAD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C904-911A-45BC-AFD0-E4CFC5AE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1C97-67F8-4C41-9FCA-A1D16A0D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1FD-004D-4447-A922-56657C04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CA9A-57C1-42C7-901D-D0A525E0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7E94-6882-4F33-83D6-B744B4DE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914A-B416-4A37-810E-EB3D7694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6084-6116-4220-ADC5-37D2686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BBB3-9C95-457E-AF7D-FC9F828B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32DA-4322-4923-BCE3-0140F6ED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9D7A-23FA-4DAF-95CE-E83F3E03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211F-D14E-4914-8BC7-19E4F2DA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12516-1333-4DF5-8238-48D1DAE2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0888-243E-4205-AB79-0862FC87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F5108-1B1B-4DEE-88B6-936BCEF0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E3898-B339-476C-8DDB-21471E21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F9288-5827-4746-9267-EF6F493D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986A-DC75-47B6-A7F9-9205CF14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9F820-A482-49CC-9C03-96A037D4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53924-749B-43EB-A8E2-2A00E331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EAE4-2A62-49C0-8772-19C70E92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782F-74D3-4774-9E2B-0585F0E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D8A3-5CA8-4A9D-AE5D-3DC5C26C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EFF6-3F57-4E6A-A442-67F9AC48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BDDBC-5AD5-47FB-9228-C82CECE9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9F8-0370-4137-B9B0-93531D36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90D-947F-4D26-BE8B-85694767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63F1-4B2F-4E87-BA1A-AD09F62D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ABF5-9D62-4B9F-A1A4-CCAB17E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101-F673-43AF-A66B-CAFF138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845-BACE-492A-93E4-5BBF258A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7842-8FBE-4AB7-B8A5-8B0F1A64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4E21-4014-4943-801A-E37EED14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0950-9E17-4ED4-B9BD-EA7567718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18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0:44:56Z</dcterms:created>
  <dc:creator>Administrator</dc:creator>
  <dc:description/>
  <dc:language>en-US</dc:language>
  <cp:lastModifiedBy/>
  <dcterms:modified xsi:type="dcterms:W3CDTF">2015-01-11T13:53:2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