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0EB4-F78B-4F11-89B6-331502434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15C6-F8CD-4CF8-8B23-63FDD1347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8AD4-09FE-4819-BB84-1559CE390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5F87-DBF9-4168-AD9C-A983EE0A3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BCCE-E7F6-4926-940B-EB30161BB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7A93-A3B4-4AB6-ABB6-76EFD53DE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113A-4E35-4A61-9DAB-9F150A3FB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A0A3-3ABF-484D-9E7A-E38CFD26E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3340-3177-415E-893C-7D2BC6BEC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FF17-0B91-4CCA-A341-EBEF864C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60DA-BEBC-4242-9B1C-0682B6127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D5D9-5B94-4534-8998-830146C51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1880D-5795-45E2-8900-1408CDC448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1066680"/>
            <a:ext cx="73152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真的遇到一条微笑的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条漂浮在水中的，可爱的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每当我寂寞时，她总是摇摇摆摆的游向我，对我微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喜欢这条给我带来欢乐的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谢谢你，我的鱼！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2120" y="3657600"/>
            <a:ext cx="7619760" cy="24890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5651640" y="189000"/>
            <a:ext cx="28098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方正舒体"/>
              </a:rPr>
              <a:t>几米作品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方正舒体"/>
              <a:ea typeface="方正舒体"/>
            </a:endParaRPr>
          </a:p>
        </p:txBody>
      </p:sp>
      <p:sp>
        <p:nvSpPr>
          <p:cNvPr id="44" name=""/>
          <p:cNvSpPr/>
          <p:nvPr/>
        </p:nvSpPr>
        <p:spPr>
          <a:xfrm>
            <a:off x="6359760" y="63817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60320" y="874800"/>
            <a:ext cx="431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我看见了一条鱼，一条发着绿光，漂浮在屋中的，我的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00120" y="1828800"/>
            <a:ext cx="336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她优雅的在空中漂浮，我在她身后慌忙追赶，我害怕失去我的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7000"/>
                            </p:stCondLst>
                            <p:childTnLst>
                              <p:par>
                                <p:cTn id="165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6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8000"/>
                            </p:stCondLst>
                            <p:childTnLst>
                              <p:par>
                                <p:cTn id="16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600"/>
                            </p:stCondLst>
                            <p:childTnLst>
                              <p:par>
                                <p:cTn id="175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7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328920" y="3699000"/>
            <a:ext cx="397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我跟着一条发着绿光的鱼，游荡在午夜的街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348000" y="3718080"/>
            <a:ext cx="392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都市里的每一个人都睡着了吗？他们正在做着美梦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95520" y="3753000"/>
            <a:ext cx="39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好久没有抬头看天上的月亮，忘了怎么跟星星许愿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540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6000"/>
                            </p:stCondLst>
                            <p:childTnLst>
                              <p:par>
                                <p:cTn id="188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8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7000"/>
                            </p:stCondLst>
                            <p:childTnLst>
                              <p:par>
                                <p:cTn id="19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3600"/>
                            </p:stCondLst>
                            <p:childTnLst>
                              <p:par>
                                <p:cTn id="198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9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4600"/>
                            </p:stCondLst>
                            <p:childTnLst>
                              <p:par>
                                <p:cTn id="20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1200"/>
                            </p:stCondLst>
                            <p:childTnLst>
                              <p:par>
                                <p:cTn id="208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0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633200" y="2276640"/>
            <a:ext cx="454680" cy="40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我想起了年少时熟悉的舞步，不自觉的跳了一段小舞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6600"/>
                            </p:stCondLst>
                            <p:childTnLst>
                              <p:par>
                                <p:cTn id="221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2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562120" y="4935600"/>
            <a:ext cx="48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树林里真适合玩躲猫猫的游戏，而我的朋友都躲到哪儿去了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75080" y="5002200"/>
            <a:ext cx="487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清晨的露水把裤管都沾湿了，草原中还有着千奇百怪的小昆虫吧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7400"/>
                            </p:stCondLst>
                            <p:childTnLst>
                              <p:par>
                                <p:cTn id="234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3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8400"/>
                            </p:stCondLst>
                            <p:childTnLst>
                              <p:par>
                                <p:cTn id="23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6000"/>
                            </p:stCondLst>
                            <p:childTnLst>
                              <p:par>
                                <p:cTn id="244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670120" y="1506600"/>
            <a:ext cx="456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我看见一条发着绿光的鱼，幽幽地飘向海洋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5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898720" y="1452600"/>
            <a:ext cx="347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我们一同跃入澄净清冷的海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44720" y="1486080"/>
            <a:ext cx="33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我和我的鱼在海洋中快乐地嬉游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911320" y="1600200"/>
            <a:ext cx="353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仰式、蝶式、蛙式、自由式、花式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93920" y="1762200"/>
            <a:ext cx="31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恩，还有狗爬式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04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600"/>
                            </p:stCondLst>
                            <p:childTnLst>
                              <p:par>
                                <p:cTn id="270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7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600"/>
                            </p:stCondLst>
                            <p:childTnLst>
                              <p:par>
                                <p:cTn id="27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400"/>
                            </p:stCondLst>
                            <p:childTnLst>
                              <p:par>
                                <p:cTn id="280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8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1400"/>
                            </p:stCondLst>
                            <p:childTnLst>
                              <p:par>
                                <p:cTn id="28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6600"/>
                            </p:stCondLst>
                            <p:childTnLst>
                              <p:par>
                                <p:cTn id="290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9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7600"/>
                            </p:stCondLst>
                            <p:childTnLst>
                              <p:par>
                                <p:cTn id="29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1200"/>
                            </p:stCondLst>
                            <p:childTnLst>
                              <p:par>
                                <p:cTn id="300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30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484360" y="2997360"/>
            <a:ext cx="37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我像一条鱼，自由自在的在大海中游来游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35120" y="2905200"/>
            <a:ext cx="44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才发现，我也是一条被囚禁在大鱼缸中的小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00360" y="2925720"/>
            <a:ext cx="403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我怎么努力挣扎，也游不出这透明的界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817720" y="287820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我看见一条鱼，一条发着绿光，漂浮在空中的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4280" y="2824200"/>
            <a:ext cx="35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她摇着尾巴，依然带着微笑的表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27320" y="2917800"/>
            <a:ext cx="32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她的微笑，忽然让我感到忧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462480" y="2743200"/>
            <a:ext cx="26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我，无法拥有这条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328920" y="3038400"/>
            <a:ext cx="304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这条像狗一样忠心，像猫一样贴心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10080" y="3038400"/>
            <a:ext cx="26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像爱人一样深情的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03520" y="2890800"/>
            <a:ext cx="31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经过老桥时，想起年少时爱唱的一首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817720" y="2851200"/>
            <a:ext cx="34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情不自禁地在车中轻轻哼了起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76720" y="3070080"/>
            <a:ext cx="30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我送一条鱼回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25720" y="3160800"/>
            <a:ext cx="21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回到真正的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24120" y="3254400"/>
            <a:ext cx="40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她摇着尾巴，滑入一望无际的蓝色大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72080" y="3119400"/>
            <a:ext cx="25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这次我真的睡着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786120" y="3052800"/>
            <a:ext cx="258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我轻轻的亲吻我的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800"/>
                            </p:stCondLst>
                            <p:childTnLst>
                              <p:par>
                                <p:cTn id="313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31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6800"/>
                            </p:stCondLst>
                            <p:childTnLst>
                              <p:par>
                                <p:cTn id="31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2800"/>
                            </p:stCondLst>
                            <p:childTnLst>
                              <p:par>
                                <p:cTn id="323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32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3800"/>
                            </p:stCondLst>
                            <p:childTnLst>
                              <p:par>
                                <p:cTn id="32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9400"/>
                            </p:stCondLst>
                            <p:childTnLst>
                              <p:par>
                                <p:cTn id="333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33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400"/>
                            </p:stCondLst>
                            <p:childTnLst>
                              <p:par>
                                <p:cTn id="33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6600"/>
                            </p:stCondLst>
                            <p:childTnLst>
                              <p:par>
                                <p:cTn id="343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34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7600"/>
                            </p:stCondLst>
                            <p:childTnLst>
                              <p:par>
                                <p:cTn id="34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32600"/>
                            </p:stCondLst>
                            <p:childTnLst>
                              <p:par>
                                <p:cTn id="353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35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33600"/>
                            </p:stCondLst>
                            <p:childTnLst>
                              <p:par>
                                <p:cTn id="35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38200"/>
                            </p:stCondLst>
                            <p:childTnLst>
                              <p:par>
                                <p:cTn id="363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36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39200"/>
                            </p:stCondLst>
                            <p:childTnLst>
                              <p:par>
                                <p:cTn id="36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43000"/>
                            </p:stCondLst>
                            <p:childTnLst>
                              <p:par>
                                <p:cTn id="373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37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44000"/>
                            </p:stCondLst>
                            <p:childTnLst>
                              <p:par>
                                <p:cTn id="37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49000"/>
                            </p:stCondLst>
                            <p:childTnLst>
                              <p:par>
                                <p:cTn id="383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38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00"/>
                            </p:stCondLst>
                            <p:childTnLst>
                              <p:par>
                                <p:cTn id="38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3800"/>
                            </p:stCondLst>
                            <p:childTnLst>
                              <p:par>
                                <p:cTn id="393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39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4800"/>
                            </p:stCondLst>
                            <p:childTnLst>
                              <p:par>
                                <p:cTn id="39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200"/>
                            </p:stCondLst>
                            <p:childTnLst>
                              <p:par>
                                <p:cTn id="403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40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61200"/>
                            </p:stCondLst>
                            <p:childTnLst>
                              <p:par>
                                <p:cTn id="40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66000"/>
                            </p:stCondLst>
                            <p:childTnLst>
                              <p:par>
                                <p:cTn id="413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41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67000"/>
                            </p:stCondLst>
                            <p:childTnLst>
                              <p:par>
                                <p:cTn id="41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70400"/>
                            </p:stCondLst>
                            <p:childTnLst>
                              <p:par>
                                <p:cTn id="423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42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71400"/>
                            </p:stCondLst>
                            <p:childTnLst>
                              <p:par>
                                <p:cTn id="42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74600"/>
                            </p:stCondLst>
                            <p:childTnLst>
                              <p:par>
                                <p:cTn id="433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43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75600"/>
                            </p:stCondLst>
                            <p:childTnLst>
                              <p:par>
                                <p:cTn id="43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81000"/>
                            </p:stCondLst>
                            <p:childTnLst>
                              <p:par>
                                <p:cTn id="443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44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82000"/>
                            </p:stCondLst>
                            <p:childTnLst>
                              <p:par>
                                <p:cTn id="44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85600"/>
                            </p:stCondLst>
                            <p:childTnLst>
                              <p:par>
                                <p:cTn id="453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45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86600"/>
                            </p:stCondLst>
                            <p:childTnLst>
                              <p:par>
                                <p:cTn id="45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90400"/>
                            </p:stCondLst>
                            <p:childTnLst>
                              <p:par>
                                <p:cTn id="463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46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387520" y="3200400"/>
            <a:ext cx="434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我看见一条鱼，一条平凡无奇，被困在我家中的小鱼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0200"/>
                            </p:stCondLst>
                            <p:childTnLst>
                              <p:par>
                                <p:cTn id="476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47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187280" y="2854440"/>
            <a:ext cx="652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我们都仿佛是一条鱼，游不出包容我们的界限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16000" y="2565360"/>
            <a:ext cx="63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某一天，我闭上眼，然后睁开眼，突然发现：我，就像这条微笑的鱼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9300"/>
                            </p:stCondLst>
                            <p:childTnLst>
                              <p:par>
                                <p:cTn id="489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49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0300"/>
                            </p:stCondLst>
                            <p:childTnLst>
                              <p:par>
                                <p:cTn id="49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22600"/>
                            </p:stCondLst>
                            <p:childTnLst>
                              <p:par>
                                <p:cTn id="499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50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32000" y="2637000"/>
            <a:ext cx="693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我看见一条鱼，一条对我微笑的鱼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32000" y="2494080"/>
            <a:ext cx="43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管白天、夜晚，每当我经过时，她总是摇摇摆摆地游向我，对我微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2120" y="2556000"/>
            <a:ext cx="43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论天晴、天雨，她似乎都在等着我，等着我给她一个深情凝视的眼神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6000"/>
                            </p:stCondLst>
                            <p:childTnLst>
                              <p:par>
                                <p:cTn id="1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4200"/>
                            </p:stCondLst>
                            <p:childTnLst>
                              <p:par>
                                <p:cTn id="21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5200"/>
                            </p:stCondLst>
                            <p:childTnLst>
                              <p:par>
                                <p:cTn id="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3400"/>
                            </p:stCondLst>
                            <p:childTnLst>
                              <p:par>
                                <p:cTn id="31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3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527120" y="1560600"/>
            <a:ext cx="419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我想拥有这条鱼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600"/>
                            </p:stCondLst>
                            <p:childTnLst>
                              <p:par>
                                <p:cTn id="44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45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244520" y="685800"/>
            <a:ext cx="491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我带着一条鱼，一条对我微笑的鱼回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400"/>
                            </p:stCondLst>
                            <p:childTnLst>
                              <p:par>
                                <p:cTn id="57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5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044720" y="1701720"/>
            <a:ext cx="453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我对她说话，她摇一摇尾巴，对我微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400"/>
                            </p:stCondLst>
                            <p:childTnLst>
                              <p:par>
                                <p:cTn id="70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7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32600" y="981000"/>
            <a:ext cx="45468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我看电视到深夜，她无聊地吐了几个气泡，对我微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540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600"/>
                            </p:stCondLst>
                            <p:childTnLst>
                              <p:par>
                                <p:cTn id="83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8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933680" y="1438200"/>
            <a:ext cx="454680" cy="45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洗澡的时候，她眷恋的陪在我身边，对我微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6000"/>
                            </p:stCondLst>
                            <p:childTnLst>
                              <p:par>
                                <p:cTn id="96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9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866880" y="1654200"/>
            <a:ext cx="47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她始终带着微笑的表情。我喜欢这条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0320" y="3416400"/>
            <a:ext cx="431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我拥有一条像狗一样忠心，像猫一样贴心，像爱人一样深情的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400"/>
                            </p:stCondLst>
                            <p:childTnLst>
                              <p:par>
                                <p:cTn id="109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10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6400"/>
                            </p:stCondLst>
                            <p:childTnLst>
                              <p:par>
                                <p:cTn id="11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9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20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829480" y="1654200"/>
            <a:ext cx="29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我轻轻的亲吻我的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64480" y="1855800"/>
            <a:ext cx="14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晚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546880" y="1990800"/>
            <a:ext cx="32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我以为，我以为，我和我的鱼都睡着了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3800"/>
                            </p:stCondLst>
                            <p:childTnLst>
                              <p:par>
                                <p:cTn id="132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3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4800"/>
                            </p:stCondLst>
                            <p:childTnLst>
                              <p:par>
                                <p:cTn id="1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7200"/>
                            </p:stCondLst>
                            <p:childTnLst>
                              <p:par>
                                <p:cTn id="142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4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8200"/>
                            </p:stCondLst>
                            <p:childTnLst>
                              <p:par>
                                <p:cTn id="14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3800"/>
                            </p:stCondLst>
                            <p:childTnLst>
                              <p:par>
                                <p:cTn id="152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5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9T17:32:47Z</dcterms:created>
  <dc:creator/>
  <dc:description/>
  <dc:language>en-US</dc:language>
  <cp:lastModifiedBy/>
  <dcterms:modified xsi:type="dcterms:W3CDTF">2015-01-11T09:21:43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