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5AD-F944-4AE2-91C3-261B1D0D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34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F93-8D84-4475-AB10-B5250DB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8F2-D34E-4878-A1F9-95E88D64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98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98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34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334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334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2DE-4E0E-4D01-82CC-DEEDC5BE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FF3-94EA-4DC0-ADFB-6D37454F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A753-3CC7-436C-938A-B8CA276D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AD9-687C-4E96-B283-8BBB6B15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3D65-EFF1-4FD9-8BBD-D2C0BEF2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126E-8740-497D-879F-BFCE5EFC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80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09A8-28F3-4999-A722-84DA907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6ACA-C1A8-41F2-8A53-177A2EB2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A3C-1A2E-4E93-9E15-0731B86E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1A03-20D3-4E35-A34D-46D3FE5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34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39F3-9AE0-4BB9-B50A-06DC82D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34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39C9-EEEA-4723-BE10-F5E51491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B16F-F0D2-4D85-BD91-862008F8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98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981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34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334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3345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E7D7-61A1-48A4-B54A-18F32CA8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538-2C1A-4D4D-B418-5B73301F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5AD-807C-4E5E-BA71-915C3B2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9C6-9087-4545-A47A-546BA1A9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259920"/>
            <a:ext cx="80154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BF8-6E0D-4CA3-A4A1-464B67C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699-ACB0-43E3-B675-7126ED82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3345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560-8693-4F8A-8B3D-9D8CAA4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981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345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460-F779-4667-92B3-C433046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15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C467-4E09-4ADA-BD53-BE22C9B16BD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8ACD-B80D-473E-9C3A-27607C782A7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571680" y="200016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42960" y="271476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547320" y="609300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150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0080" y="2500200"/>
            <a:ext cx="3500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10:24Z</dcterms:created>
  <dc:creator/>
  <dc:description/>
  <dc:language>en-US</dc:language>
  <cp:lastModifiedBy>dell</cp:lastModifiedBy>
  <dcterms:modified xsi:type="dcterms:W3CDTF">2015-01-11T12:30:34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