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83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4360" y="4149360"/>
            <a:ext cx="777240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80808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80808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8080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80808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4360" y="4149360"/>
            <a:ext cx="777240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403280" y="5445000"/>
            <a:ext cx="64008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08000" y="638172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83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908000" y="274680"/>
            <a:ext cx="6778800" cy="11383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908000" y="1600200"/>
            <a:ext cx="6778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84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4d4d4d"/>
                </a:solidFill>
                <a:latin typeface="Arial"/>
              </a:endParaRPr>
            </a:p>
          </p:txBody>
        </p:sp>
        <p:pic>
          <p:nvPicPr>
            <p:cNvPr id="85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ee6600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ee6600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ee6600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29T12:15:01Z</dcterms:created>
  <dc:creator>PoweredTemplates.com</dc:creator>
  <dc:description/>
  <dc:language>en-US</dc:language>
  <cp:lastModifiedBy>Inna</cp:lastModifiedBy>
  <dcterms:modified xsi:type="dcterms:W3CDTF">2015-01-11T08:51:20Z</dcterms:modified>
  <cp:revision>82</cp:revision>
  <dc:subject/>
  <dc:title>PowerPoint 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