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EBD-8BBE-4718-AD19-10B689CA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25E-0939-460D-B026-F13FCD45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9F8-C85A-49B3-B1A5-ABF5242F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AF5-5A14-4C29-9E24-7BB4360D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C389-6597-4902-AC55-A8118793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3FF2-A583-4DE2-8317-C4694CA4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15C9-50CE-47F2-8A46-5B9D9767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1D1B-9DE6-4C9D-90BA-33E685CE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7194-A24F-4CA6-A9E5-9043DF63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2A2B-9E5A-4487-AD0A-76CA8900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AA34-9FB7-4DF9-8DF1-AE4B5AA8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9F2-EBCB-4A0C-A654-36DB8296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85FB-1743-44FB-8204-105A59AA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7004-2194-430B-8FC5-E3B45473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26BD-21A5-4839-916A-3DFCC7FA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5B6E-C515-4A22-AEE6-B95E0551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3AD3-D9E6-4E5B-80B1-6F71269E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31F-BAC6-4B5D-A461-B47F5353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73A-8F4B-4A66-A0D4-CA2F3310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198-4411-4ACC-BE23-36A1852E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960-7D97-4DF2-BFED-5D7A104D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956-3895-4FC3-93CE-AE2B7AF1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202-4EE8-498E-A0EF-AE00065F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5C5-F87C-4538-9CB9-C41C61F5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4D2D-B15E-4C09-8E60-F90A37B48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" y="4869000"/>
            <a:ext cx="9142560" cy="200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112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15E2-6DEC-4657-9B4E-98429EFBE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112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5640" y="2637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12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</a:rPr>
              <a:t>The end,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6:34:19Z</dcterms:created>
  <dc:creator/>
  <dc:description/>
  <dc:language>en-US</dc:language>
  <cp:lastModifiedBy/>
  <dcterms:modified xsi:type="dcterms:W3CDTF">2015-01-10T12:24:5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