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388800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03680" y="152388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8880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703680" y="38880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521440" y="152388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814640" y="152388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38880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521440" y="38880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814640" y="38880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B6D36-3578-4635-94AB-9FC3FC02236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5FA46-CFA3-4EFA-B748-D0190425595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5BD1C-6E07-4E1A-9A0D-456A6EB3F55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03680" y="152388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090B7-7C6E-4C21-874A-8FB395B0883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D79D0-704B-40BD-BC7D-196414C9B6A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4AE98-E4C3-4FF9-B600-39F62E57277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703680" y="152388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28600" y="38880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24CCE-5C9E-4C96-8179-C3343B12D0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703680" y="152388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703680" y="38880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D9425-8FCC-457B-8905-4E2C5454840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703680" y="152388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388800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491A4-37BA-4FA1-B2B1-9824416B678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28600" y="388800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E6F9E-49D6-4FC1-90D0-6F8D06D5A0E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703680" y="152388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38880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3703680" y="38880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85F48-5F1C-4A8F-A04C-A769F3E9E9C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521440" y="152388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14640" y="152388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28600" y="38880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2521440" y="38880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4814640" y="38880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1DC30-9887-46C4-A43A-D98E105D4E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703680" y="152388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703680" y="152388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38880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703680" y="152388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703680" y="38880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703680" y="152388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388800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162920" y="0"/>
            <a:ext cx="19810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1920" y="304920"/>
            <a:ext cx="5257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AE9AD-A67E-46A5-83BB-CC4483D624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6324480" y="0"/>
            <a:ext cx="28195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58690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54080" y="1828800"/>
            <a:ext cx="5943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163280" y="64771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6781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EEPPT.COM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7T20:37:06Z</dcterms:created>
  <dc:creator>Nan Shastry</dc:creator>
  <dc:description/>
  <dc:language>en-US</dc:language>
  <cp:lastModifiedBy>Nan Shastry</cp:lastModifiedBy>
  <dcterms:modified xsi:type="dcterms:W3CDTF">2015-01-11T12:28:57Z</dcterms:modified>
  <cp:revision>2</cp:revision>
  <dc:subject/>
  <dc:title>The Road Not Take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