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D51-2C59-4D12-8721-CB08B622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2B5-EB08-4E3F-9855-E02BCD0B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C8B-E744-42F6-9BC3-F7926240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70B-5734-49F6-B4BB-91CBE0E4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77DB-F573-4187-AC3D-F0630ADB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1657-A3DF-434C-B46D-FB15B84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90A9-BE9E-4FB2-885D-E15E602B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292D-CA91-4BA2-9651-9B901A7B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EBF9-953F-4A8E-91BD-59534700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8C3F-FF75-442B-B036-D1F1C72D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9990-3467-423F-AC4F-51BF2E7F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B1D-E8EA-458A-A90B-52AC41AA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7E9E-7F3E-4FA3-87A4-1ECC149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932B-4F03-4957-8CC1-44882D1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7CEC-60E7-4081-96E9-5E6905C4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33DD-37A2-4314-B17E-1E83C2A8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0E99-84FE-4F45-8437-9392380B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7A7-DA09-48AF-9D73-DDEED716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0E1-781C-48AE-B028-E80850E3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5E6-F0F9-435E-AFF1-5EDB934E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5CE-EB63-4403-AD9F-FF7B3112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B60-5440-4AB4-B093-6A39391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82B-22AA-40EE-8D48-24CA6F93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191-4DB4-4617-8319-94220A2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设计素材\图片\通用纹理\1277274735214.jpg"/>
          <p:cNvPicPr/>
          <p:nvPr/>
        </p:nvPicPr>
        <p:blipFill>
          <a:blip r:embed="rId2"/>
          <a:srcRect l="40241" t="29300" r="0" b="0"/>
          <a:stretch/>
        </p:blipFill>
        <p:spPr>
          <a:xfrm>
            <a:off x="1440" y="9360"/>
            <a:ext cx="9142560" cy="684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1049-6FFC-432D-BCA7-9FA870522273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8760-52FC-48E8-BAC6-D0359F71C13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设计素材\图片\通用纹理\1277274735214.jpg"/>
          <p:cNvPicPr/>
          <p:nvPr/>
        </p:nvPicPr>
        <p:blipFill>
          <a:blip r:embed="rId2"/>
          <a:srcRect l="40241" t="29300" r="0" b="0"/>
          <a:stretch/>
        </p:blipFill>
        <p:spPr>
          <a:xfrm>
            <a:off x="1440" y="9360"/>
            <a:ext cx="9142560" cy="684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设计素材\图片\通用纹理\1277274735214.jpg"/>
          <p:cNvPicPr/>
          <p:nvPr/>
        </p:nvPicPr>
        <p:blipFill>
          <a:blip r:embed="rId3"/>
          <a:srcRect l="40241" t="29300" r="0" b="0"/>
          <a:stretch/>
        </p:blipFill>
        <p:spPr>
          <a:xfrm>
            <a:off x="1440" y="9360"/>
            <a:ext cx="9142560" cy="684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F292-E3C1-423F-90F6-7C494B574BAA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7EF8-996D-422B-8F30-19854271838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28096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3505320"/>
            <a:ext cx="835632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576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66560" y="63104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/>
  <dc:description/>
  <dc:language>en-US</dc:language>
  <cp:lastModifiedBy>ilovePPT.ORG</cp:lastModifiedBy>
  <dcterms:modified xsi:type="dcterms:W3CDTF">2015-01-11T12:15:58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