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E2B-0318-4696-AC1E-757CA2E2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D70-63CB-4DB0-8E12-D1BA72F8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8A0-F049-4768-863F-92FCF369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DCE-C4CC-472D-AE45-93FB589A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D52-DD66-4A6D-9450-37465A43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2E8-1128-4CF8-BF39-6C91D838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C13-82C1-4AAC-995C-D5D60DCE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0CE-2E4F-407E-B6EC-D3C5B26F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895-57BF-4683-9DBA-412AB05E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B53-B4A0-4C03-A893-EDF0A9C7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0FE-E671-4AF2-A9ED-71CE8614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5DD-E1FA-4F81-8DBF-9D30FF3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A111-7990-4C6D-BB29-FA065C8BEF7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9040" y="3028680"/>
            <a:ext cx="48578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305840" y="63086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0714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714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305840" y="63086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3:06:54Z</dcterms:created>
  <dc:creator/>
  <dc:description/>
  <dc:language>en-US</dc:language>
  <cp:lastModifiedBy>Admin</cp:lastModifiedBy>
  <dcterms:modified xsi:type="dcterms:W3CDTF">2015-01-11T12:28:1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