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9880-3C16-4141-95A7-865387554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D436-C04C-4F3C-9C0A-51866B2B6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DC9B-7BC4-4E8F-90A1-594449832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7D28-0194-41FF-B503-6CCA0581D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D66C4-A23B-4FD8-BB7C-E38B8C0E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D87D-DC7C-4D83-82FA-C2005D81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2F633-549B-483F-B4B7-891E0146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921C-5FFF-4768-BA1F-2F491FA1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8BFB1-7D5A-4A24-8A68-484F7B0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8ABDC-A02C-40B9-9E60-9C49A11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A032F-517D-40B2-8E5C-252243B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5C4D-D5E8-42C9-91E3-F5C5AA158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1DE93-6F45-4EBA-B877-69580E3A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B6CC7-5605-43C4-B6F6-8A75933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DE1D0-3FC3-4389-8DBF-190DB638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0CC52-BE74-41B1-85B8-7C7A7B22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2CCCF-5219-464D-868D-9651012E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0FFB-4AA0-480E-AA5E-271B4F63E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6CA1-F064-45AA-9ED0-7F4B3D647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94CC-B01B-4E4A-8529-44FB51F12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CC6D-D8AC-401C-9C54-DB31DB63E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ED93-F9BA-45A4-97EC-A33552FE2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4086-90D0-4ACA-A415-5C93B2408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E393-792D-4C48-ADC9-EB70831A6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7440" y="6244920"/>
            <a:ext cx="108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EBFE-F8C5-4134-B476-2315E5B29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3852-3BD7-4D31-8F90-9C747853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780000" y="2637000"/>
            <a:ext cx="4032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4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20:28Z</dcterms:created>
  <dc:creator/>
  <dc:description/>
  <dc:language>en-US</dc:language>
  <cp:lastModifiedBy/>
  <dcterms:modified xsi:type="dcterms:W3CDTF">2015-01-11T08:43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