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CC7-AE2C-47F9-B978-30492A62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7F18-0F7C-4C53-AF7E-168CAAA0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4A6B-B45D-441E-82A2-88D79CCB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A27-7512-4136-97EA-1818B56C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1784-3A6E-4700-BF2C-8D4796C2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B06E-CB56-447C-84F8-3E2D70C1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DD07-A713-45EE-AFED-48CB03FF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BFC3-5F81-4F75-96E4-7DC2116B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CBFB-0F60-486E-AF1C-FEC280AF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A1B9-601D-45DB-9EEA-7F3E6271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F80F-6FBD-4655-BDE7-54003E52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3972-2221-4FBC-9956-05CA060F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A9BE-C18F-47E4-A28D-E869462D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BC0B-E4FE-41C1-A9A2-8A58E899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B530-E659-489B-9AEE-4325B192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AAA3-59C0-4B36-87FD-5ED90747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04C1-EA58-4916-AC3D-F6B28016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7D18-9619-4A8E-824E-EBE47E1D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8DB-945D-4441-8921-DB726741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9CC0-31B2-4366-AC22-E72B9C3A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6186-AC43-4282-9ACE-1C464A84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018A-2FE6-4BFB-A5E1-602DFD7B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350-AD58-4628-9711-DEE80E32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9168-F3E6-415A-9052-F7163209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240" y="3240"/>
            <a:ext cx="9140400" cy="257040"/>
            <a:chOff x="3240" y="3240"/>
            <a:chExt cx="9140400" cy="257040"/>
          </a:xfrm>
        </p:grpSpPr>
        <p:sp>
          <p:nvSpPr>
            <p:cNvPr id="1" name=""/>
            <p:cNvSpPr/>
            <p:nvPr/>
          </p:nvSpPr>
          <p:spPr>
            <a:xfrm>
              <a:off x="3240" y="3240"/>
              <a:ext cx="9140400" cy="257040"/>
            </a:xfrm>
            <a:prstGeom prst="rect">
              <a:avLst/>
            </a:pr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625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05000" y="3240"/>
              <a:ext cx="343080" cy="2570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625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648440" y="3240"/>
              <a:ext cx="704520" cy="2570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625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346480" y="3240"/>
              <a:ext cx="228240" cy="257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625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a4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06ED-8EF4-4015-9F2B-E60D3385301C}" type="slidenum">
              <a:rPr b="0" lang="en-US" sz="1400" spc="-1" strike="noStrike">
                <a:solidFill>
                  <a:srgbClr val="0026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240" y="1677960"/>
            <a:ext cx="9140760" cy="382680"/>
            <a:chOff x="3240" y="1677960"/>
            <a:chExt cx="9140760" cy="382680"/>
          </a:xfrm>
        </p:grpSpPr>
        <p:sp>
          <p:nvSpPr>
            <p:cNvPr id="47" name=""/>
            <p:cNvSpPr/>
            <p:nvPr/>
          </p:nvSpPr>
          <p:spPr>
            <a:xfrm>
              <a:off x="3240" y="1793880"/>
              <a:ext cx="9140760" cy="266760"/>
            </a:xfrm>
            <a:prstGeom prst="rect">
              <a:avLst/>
            </a:pr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625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40" y="1677960"/>
              <a:ext cx="9140760" cy="87480"/>
            </a:xfrm>
            <a:prstGeom prst="rect">
              <a:avLst/>
            </a:pr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625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05000" y="1793880"/>
              <a:ext cx="342720" cy="2667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625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47720" y="1793880"/>
              <a:ext cx="704880" cy="2667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625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46480" y="1793880"/>
              <a:ext cx="228600" cy="26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625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F6BA-7CB8-4E13-8719-A1BDDB8DF5BB}" type="slidenum">
              <a:rPr b="0" lang="en-US" sz="1400" spc="-1" strike="noStrike">
                <a:solidFill>
                  <a:srgbClr val="0026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379440" y="2274840"/>
            <a:ext cx="842472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a4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25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2625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262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2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2625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2625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2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2625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2625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2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2625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262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2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2625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262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2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262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79440" y="2274840"/>
            <a:ext cx="842472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a48"/>
                </a:solidFill>
                <a:latin typeface="Arial"/>
              </a:rPr>
              <a:t>&lt;</a:t>
            </a:r>
            <a:r>
              <a:rPr b="1" lang="zh-CN" sz="4400" spc="-1" strike="noStrike">
                <a:solidFill>
                  <a:srgbClr val="004a48"/>
                </a:solidFill>
                <a:latin typeface="Arial"/>
              </a:rPr>
              <a:t>项目建设方案标题</a:t>
            </a:r>
            <a:r>
              <a:rPr b="1" lang="en-US" sz="4400" spc="-1" strike="noStrike">
                <a:solidFill>
                  <a:srgbClr val="004a48"/>
                </a:solidFill>
                <a:latin typeface="Arial"/>
              </a:rPr>
              <a:t>&gt;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3644640"/>
            <a:ext cx="56163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项目负责小组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6360" y="6526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75EF-5459-4BEB-8F8A-D0F953B20E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42472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a48"/>
                </a:solidFill>
                <a:latin typeface="Arial"/>
              </a:rPr>
              <a:t>Q &amp; A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59280" y="3500280"/>
            <a:ext cx="33843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8000"/>
                    </a:srgbClr>
                  </a:outerShdw>
                </a:effectLst>
                <a:latin typeface="隶书"/>
              </a:rPr>
              <a:t>谢谢！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4F31-D3DC-4CBE-A80E-5F34F378EB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a48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625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11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186F-22A2-4C5A-BDC7-5B580615F4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a48"/>
                </a:solidFill>
                <a:latin typeface="Arial"/>
              </a:rPr>
              <a:t>项目背景与工作进展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项目背景介绍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相关工作进展说明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9B73-4FF1-40FF-AC7A-4009EEF4FE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a48"/>
                </a:solidFill>
                <a:latin typeface="Arial"/>
              </a:rPr>
              <a:t>存在的问题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目前工作流程存在的问题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25"/>
                </a:solidFill>
                <a:latin typeface="Arial"/>
              </a:rPr>
              <a:t>问题</a:t>
            </a:r>
            <a:r>
              <a:rPr b="0" lang="en-US" sz="2800" spc="-1" strike="noStrike">
                <a:solidFill>
                  <a:srgbClr val="002625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25"/>
                </a:solidFill>
                <a:latin typeface="Arial"/>
              </a:rPr>
              <a:t>问题</a:t>
            </a:r>
            <a:r>
              <a:rPr b="0" lang="en-US" sz="2800" spc="-1" strike="noStrike">
                <a:solidFill>
                  <a:srgbClr val="002625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25"/>
                </a:solidFill>
                <a:latin typeface="Arial"/>
              </a:rPr>
              <a:t>问题</a:t>
            </a:r>
            <a:r>
              <a:rPr b="0" lang="en-US" sz="2800" spc="-1" strike="noStrike">
                <a:solidFill>
                  <a:srgbClr val="002625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262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通过存在的问题强调该项目建设的重要性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B5C2-E20C-4850-9370-3B6C77A73B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a48"/>
                </a:solidFill>
                <a:latin typeface="Arial"/>
              </a:rPr>
              <a:t>主要措施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针对上述问题采取的措施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目前措施的效果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进一步强调该项目建设的重要性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C67-1650-4593-8BC0-AC8EE6831B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a48"/>
                </a:solidFill>
                <a:latin typeface="Arial"/>
              </a:rPr>
              <a:t>项目方案设计目标与原则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总体目标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原则说明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25"/>
                </a:solidFill>
                <a:latin typeface="Arial"/>
              </a:rPr>
              <a:t>原则一</a:t>
            </a:r>
            <a:endParaRPr b="0" lang="en-US" sz="28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25"/>
                </a:solidFill>
                <a:latin typeface="Arial"/>
              </a:rPr>
              <a:t>原则二</a:t>
            </a:r>
            <a:endParaRPr b="0" lang="en-US" sz="28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25"/>
                </a:solidFill>
                <a:latin typeface="Arial"/>
              </a:rPr>
              <a:t>原则三</a:t>
            </a:r>
            <a:endParaRPr b="0" lang="en-US" sz="28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33E5-F561-4504-90F4-DDD852C2B9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a48"/>
                </a:solidFill>
                <a:latin typeface="Arial"/>
              </a:rPr>
              <a:t>主体构架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主体构架说明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可考虑配合图示说明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945B-BCD8-44CA-A7F5-C614CA6169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a48"/>
                </a:solidFill>
                <a:latin typeface="Arial"/>
              </a:rPr>
              <a:t>流程图说明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（项目方案流程图……）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A860-782E-4DCE-88B0-B485AF3A48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a48"/>
                </a:solidFill>
                <a:latin typeface="Arial"/>
              </a:rPr>
              <a:t>主要功能概述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概述该项目系统的几大突出功能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25"/>
                </a:solidFill>
                <a:latin typeface="Arial"/>
              </a:rPr>
              <a:t>功能</a:t>
            </a:r>
            <a:r>
              <a:rPr b="0" lang="en-US" sz="2800" spc="-1" strike="noStrike">
                <a:solidFill>
                  <a:srgbClr val="002625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25"/>
                </a:solidFill>
                <a:latin typeface="Arial"/>
              </a:rPr>
              <a:t>功能</a:t>
            </a:r>
            <a:r>
              <a:rPr b="0" lang="en-US" sz="2800" spc="-1" strike="noStrike">
                <a:solidFill>
                  <a:srgbClr val="002625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25"/>
                </a:solidFill>
                <a:latin typeface="Arial"/>
              </a:rPr>
              <a:t>功能</a:t>
            </a:r>
            <a:r>
              <a:rPr b="0" lang="en-US" sz="2800" spc="-1" strike="noStrike">
                <a:solidFill>
                  <a:srgbClr val="002625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338D-11EA-4B01-8CD4-CBF9575B3E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a48"/>
                </a:solidFill>
                <a:latin typeface="Arial"/>
              </a:rPr>
              <a:t>进度安排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25"/>
                </a:solidFill>
                <a:latin typeface="Arial"/>
              </a:rPr>
              <a:t>第一阶段</a:t>
            </a:r>
            <a:endParaRPr b="0" lang="en-US" sz="28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625"/>
                </a:solidFill>
                <a:latin typeface="Arial"/>
              </a:rPr>
              <a:t>时间期限</a:t>
            </a:r>
            <a:endParaRPr b="0" lang="en-US" sz="24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625"/>
                </a:solidFill>
                <a:latin typeface="Arial"/>
              </a:rPr>
              <a:t>主要任务</a:t>
            </a:r>
            <a:endParaRPr b="0" lang="en-US" sz="2400" spc="-1" strike="noStrike">
              <a:solidFill>
                <a:srgbClr val="00262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25"/>
                </a:solidFill>
                <a:latin typeface="Arial"/>
              </a:rPr>
              <a:t>第二阶段</a:t>
            </a:r>
            <a:endParaRPr b="0" lang="en-US" sz="28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625"/>
                </a:solidFill>
                <a:latin typeface="Arial"/>
              </a:rPr>
              <a:t>时间期限</a:t>
            </a:r>
            <a:endParaRPr b="0" lang="en-US" sz="24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625"/>
                </a:solidFill>
                <a:latin typeface="Arial"/>
              </a:rPr>
              <a:t>主要任务</a:t>
            </a:r>
            <a:endParaRPr b="0" lang="en-US" sz="2400" spc="-1" strike="noStrike">
              <a:solidFill>
                <a:srgbClr val="00262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25"/>
                </a:solidFill>
                <a:latin typeface="Arial"/>
              </a:rPr>
              <a:t>第三阶段</a:t>
            </a:r>
            <a:endParaRPr b="0" lang="en-US" sz="28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625"/>
                </a:solidFill>
                <a:latin typeface="Arial"/>
              </a:rPr>
              <a:t>时间期限</a:t>
            </a:r>
            <a:endParaRPr b="0" lang="en-US" sz="24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625"/>
                </a:solidFill>
                <a:latin typeface="Arial"/>
              </a:rPr>
              <a:t>主要任务</a:t>
            </a:r>
            <a:endParaRPr b="0" lang="en-US" sz="24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60B-2F58-4392-B2DF-1EC757D7EF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4:26:45Z</dcterms:created>
  <dc:creator/>
  <dc:description/>
  <dc:language>en-US</dc:language>
  <cp:lastModifiedBy/>
  <dcterms:modified xsi:type="dcterms:W3CDTF">2015-01-11T12:26:1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