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39C-9CA9-48F4-8185-E3E4116F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DFB-5771-4BCD-B30C-3BE18021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E45-32EC-43C3-BB75-D0969484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CFE-C5C5-4264-BD8D-59AD90DE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194-47DF-49D4-8945-4461628B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743-8185-41D8-A19C-A12AE614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D30-926D-451E-AE18-401F3382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893-4319-4540-9959-B9D0C085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133-FE3E-40E9-BF1B-38C66602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EDB-A25B-4A4C-873C-2FA767CB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E11-DBA1-40BE-9F38-DA57F52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98E-5074-4D0D-B0F4-9307343A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7129-3939-4364-A665-590F054B95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6C31-43F0-4926-8CC4-B36AF5A3A7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8120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7:01:59Z</dcterms:created>
  <dc:creator>Administrator</dc:creator>
  <dc:description/>
  <dc:language>en-US</dc:language>
  <cp:lastModifiedBy>微软用户</cp:lastModifiedBy>
  <dcterms:modified xsi:type="dcterms:W3CDTF">2015-01-11T08:42:55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