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F45-C0CC-403A-9D5C-98BD4DF1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34E-0723-4FAB-B49B-1D94A7B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6DF9-5D81-4557-B4A0-CD136B1D3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8520-7697-4E8F-B41F-3F7470F1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67B1-284B-4CC6-B587-789A65B9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A5DE-5C9C-433B-AD95-9ECACA36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4253-BA65-4E80-A762-DE7B67E3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CF0-61D7-472B-83E9-8C67EA4F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A1C-8FE1-46F8-BDAB-F49B73246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691-1B83-462C-95B6-90731466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8594-72DC-49A2-8E12-9CB63AF5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A6B-6D69-4316-A72E-AE2FFEE9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504B-9252-4DDF-8077-DA5B8A53F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428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428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3889080"/>
            <a:ext cx="64008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4280"/>
            <a:ext cx="64008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Thank You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TW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07:41:40Z</dcterms:created>
  <dc:creator/>
  <dc:description/>
  <dc:language>en-US</dc:language>
  <cp:lastModifiedBy>MC SYSTEM</cp:lastModifiedBy>
  <dcterms:modified xsi:type="dcterms:W3CDTF">2015-01-11T12:29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