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A344-F256-4345-8FC5-395520D39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3040" y="7790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4152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9296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EFAE-C3F3-40A1-9623-24A523E97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73040" y="7790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4152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4152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9296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9296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F57C-A324-4AE0-B139-D435612CF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73040" y="7790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4152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4152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4152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9296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9296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9296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5F04-9C54-41A0-8173-002D82BAC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427B4-53EC-4092-AFD0-00CD03FA7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3040" y="7790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4152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18519-DD7E-45B0-9345-F6785D1C0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3040" y="7790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4152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1CD29-06DA-4429-839C-E95831D23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73040" y="7790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4152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4152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6753C-0165-44FA-AEA3-EE24471C6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3040" y="7790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04FA6-33E2-4562-B1E6-E9767ECCC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73040" y="779040"/>
            <a:ext cx="82296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CC195-D024-4C4B-B11B-235BDC192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73040" y="7790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4152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4152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79296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D40FD-2219-4807-9231-3AE8B397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73040" y="7790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4152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8A7D-4D07-4094-83E4-7A46478D8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73040" y="7790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4152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4152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79296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D18C3-2107-4292-A849-2758FC22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3040" y="7790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4152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4152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9296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A0CB3-CC1E-4B10-9FE1-F459BB6F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73040" y="7790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4152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79296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7FEC8-3072-4478-B498-6B163819F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73040" y="7790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4152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4152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79296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79296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89209-9D8A-4009-B43D-F7EFD95CC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73040" y="7790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4152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4152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4152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79296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79296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79296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73333-307C-4B8F-8810-1D209B843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73040" y="7790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4152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ED61-5403-42D2-947B-BF61A0B8E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3040" y="7790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4152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4152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EC5C-036B-4763-BF07-62B092AA7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73040" y="7790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8255-35F7-4019-98FA-1D19168C2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73040" y="779040"/>
            <a:ext cx="82296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C333-3783-4989-87C1-AB2A98677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73040" y="7790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4152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4152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9296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9CBB-006B-45A9-BE4C-67875118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73040" y="7790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4152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4152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9296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E363-3592-47C2-B405-D6F74383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73040" y="7790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4152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4152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96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5326-B002-4F79-A286-F01A5646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b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4242F-84F6-40C5-95D2-BB814577EB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73040" y="7790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54152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b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57A65-7E57-4ED9-8C37-02FFD65647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736560" y="498240"/>
            <a:ext cx="77724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20202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b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36560" y="498240"/>
            <a:ext cx="77724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57280" y="1557000"/>
            <a:ext cx="640080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8280" y="64404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b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73040" y="7790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20202"/>
                </a:solidFill>
                <a:latin typeface="Arial"/>
              </a:rPr>
              <a:t>配色方案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352520" y="1285920"/>
            <a:ext cx="6645240" cy="2698200"/>
            <a:chOff x="1352520" y="1285920"/>
            <a:chExt cx="6645240" cy="2698200"/>
          </a:xfrm>
        </p:grpSpPr>
        <p:sp>
          <p:nvSpPr>
            <p:cNvPr id="89" name=""/>
            <p:cNvSpPr/>
            <p:nvPr/>
          </p:nvSpPr>
          <p:spPr>
            <a:xfrm>
              <a:off x="3105720" y="1974240"/>
              <a:ext cx="1356840" cy="551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71520" y="1974240"/>
              <a:ext cx="1357560" cy="551520"/>
            </a:xfrm>
            <a:prstGeom prst="rect">
              <a:avLst/>
            </a:prstGeom>
            <a:solidFill>
              <a:srgbClr val="bbc1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378440" y="3432240"/>
              <a:ext cx="1357560" cy="551880"/>
            </a:xfrm>
            <a:prstGeom prst="rect">
              <a:avLst/>
            </a:prstGeom>
            <a:solidFill>
              <a:srgbClr val="67c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32000" y="3432240"/>
              <a:ext cx="1356840" cy="551880"/>
            </a:xfrm>
            <a:prstGeom prst="rect">
              <a:avLst/>
            </a:prstGeom>
            <a:solidFill>
              <a:srgbClr val="f2e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885200" y="3432240"/>
              <a:ext cx="1356840" cy="551880"/>
            </a:xfrm>
            <a:prstGeom prst="rect">
              <a:avLst/>
            </a:prstGeom>
            <a:solidFill>
              <a:srgbClr val="f193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640920" y="3432240"/>
              <a:ext cx="1356840" cy="551880"/>
            </a:xfrm>
            <a:prstGeom prst="rect">
              <a:avLst/>
            </a:pr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612120" y="1974240"/>
              <a:ext cx="1357560" cy="551520"/>
            </a:xfrm>
            <a:prstGeom prst="rect">
              <a:avLst/>
            </a:prstGeom>
            <a:solidFill>
              <a:srgbClr val="0202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352520" y="1974240"/>
              <a:ext cx="1356840" cy="551520"/>
            </a:xfrm>
            <a:prstGeom prst="rect">
              <a:avLst/>
            </a:prstGeom>
            <a:solidFill>
              <a:srgbClr val="abcb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400400" y="1396440"/>
              <a:ext cx="1264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ackgrou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04520" y="1285920"/>
              <a:ext cx="76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 &amp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042520" y="1396440"/>
              <a:ext cx="1015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hadow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001640" y="1285920"/>
              <a:ext cx="57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tle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786320" y="2854440"/>
              <a:ext cx="54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l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424680" y="2854440"/>
              <a:ext cx="80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028480" y="2744280"/>
              <a:ext cx="1028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ent &amp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Hyperlin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04000" y="2742480"/>
              <a:ext cx="1028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llow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Hyperlin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b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73040" y="7790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Sample Graph (3 colours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74720" y="1442880"/>
            <a:ext cx="6732720" cy="37404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2560" y="64245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b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73040" y="7790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41520"/>
            <a:ext cx="402732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610240" y="2593800"/>
            <a:ext cx="3097080" cy="3853080"/>
          </a:xfrm>
          <a:prstGeom prst="rect">
            <a:avLst/>
          </a:prstGeom>
          <a:ln w="57240">
            <a:solidFill>
              <a:srgbClr val="fcdb36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b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73040" y="7790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31880" y="3087720"/>
            <a:ext cx="1376280" cy="2354400"/>
          </a:xfrm>
          <a:prstGeom prst="rect">
            <a:avLst/>
          </a:prstGeom>
          <a:solidFill>
            <a:srgbClr val="748ed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ulle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ulle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ulle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66920" y="3087720"/>
            <a:ext cx="1376280" cy="2354400"/>
          </a:xfrm>
          <a:prstGeom prst="rect">
            <a:avLst/>
          </a:prstGeom>
          <a:solidFill>
            <a:srgbClr val="00919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ulle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ulle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ulle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76760" y="3087720"/>
            <a:ext cx="1376280" cy="2354400"/>
          </a:xfrm>
          <a:prstGeom prst="rect">
            <a:avLst/>
          </a:prstGeom>
          <a:solidFill>
            <a:srgbClr val="99ccff"/>
          </a:solidFill>
          <a:ln w="1260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ulle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ulle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ulle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84800" y="3087720"/>
            <a:ext cx="1376280" cy="2354400"/>
          </a:xfrm>
          <a:prstGeom prst="rect">
            <a:avLst/>
          </a:prstGeom>
          <a:solidFill>
            <a:srgbClr val="ffab5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ulle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ulle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ulle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796080" y="3087720"/>
            <a:ext cx="1376280" cy="2354400"/>
          </a:xfrm>
          <a:prstGeom prst="rect">
            <a:avLst/>
          </a:prstGeom>
          <a:solidFill>
            <a:srgbClr val="ffc99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ulle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ulle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ulle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未知"/>
          <p:cNvSpPr/>
          <p:nvPr/>
        </p:nvSpPr>
        <p:spPr>
          <a:xfrm>
            <a:off x="2266920" y="1614600"/>
            <a:ext cx="1854360" cy="1269720"/>
          </a:xfrm>
          <a:custGeom>
            <a:avLst/>
            <a:gdLst/>
            <a:ahLst/>
            <a:rect l="l" t="t" r="r" b="b"/>
            <a:pathLst>
              <a:path w="1168" h="800">
                <a:moveTo>
                  <a:pt x="1018" y="204"/>
                </a:moveTo>
                <a:lnTo>
                  <a:pt x="864" y="0"/>
                </a:lnTo>
                <a:lnTo>
                  <a:pt x="0" y="0"/>
                </a:lnTo>
                <a:lnTo>
                  <a:pt x="154" y="204"/>
                </a:lnTo>
                <a:lnTo>
                  <a:pt x="304" y="400"/>
                </a:lnTo>
                <a:lnTo>
                  <a:pt x="154" y="596"/>
                </a:lnTo>
                <a:lnTo>
                  <a:pt x="0" y="800"/>
                </a:lnTo>
                <a:lnTo>
                  <a:pt x="864" y="800"/>
                </a:lnTo>
                <a:lnTo>
                  <a:pt x="1018" y="596"/>
                </a:lnTo>
                <a:lnTo>
                  <a:pt x="1168" y="400"/>
                </a:lnTo>
                <a:lnTo>
                  <a:pt x="1018" y="204"/>
                </a:lnTo>
                <a:close/>
              </a:path>
            </a:pathLst>
          </a:custGeom>
          <a:solidFill>
            <a:srgbClr val="00919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未知"/>
          <p:cNvSpPr/>
          <p:nvPr/>
        </p:nvSpPr>
        <p:spPr>
          <a:xfrm>
            <a:off x="731880" y="1614600"/>
            <a:ext cx="1898640" cy="1269720"/>
          </a:xfrm>
          <a:custGeom>
            <a:avLst/>
            <a:gdLst/>
            <a:ahLst/>
            <a:rect l="l" t="t" r="r" b="b"/>
            <a:pathLst>
              <a:path w="1196" h="800">
                <a:moveTo>
                  <a:pt x="1046" y="204"/>
                </a:moveTo>
                <a:lnTo>
                  <a:pt x="892" y="0"/>
                </a:lnTo>
                <a:lnTo>
                  <a:pt x="0" y="0"/>
                </a:lnTo>
                <a:lnTo>
                  <a:pt x="0" y="800"/>
                </a:lnTo>
                <a:lnTo>
                  <a:pt x="892" y="800"/>
                </a:lnTo>
                <a:lnTo>
                  <a:pt x="1046" y="596"/>
                </a:lnTo>
                <a:lnTo>
                  <a:pt x="1196" y="400"/>
                </a:lnTo>
                <a:lnTo>
                  <a:pt x="1046" y="204"/>
                </a:lnTo>
                <a:close/>
              </a:path>
            </a:pathLst>
          </a:custGeom>
          <a:solidFill>
            <a:srgbClr val="748ed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未知"/>
          <p:cNvSpPr/>
          <p:nvPr/>
        </p:nvSpPr>
        <p:spPr>
          <a:xfrm>
            <a:off x="3776760" y="1614600"/>
            <a:ext cx="1854000" cy="1269720"/>
          </a:xfrm>
          <a:custGeom>
            <a:avLst/>
            <a:gdLst/>
            <a:ahLst/>
            <a:rect l="l" t="t" r="r" b="b"/>
            <a:pathLst>
              <a:path w="1168" h="800">
                <a:moveTo>
                  <a:pt x="1018" y="204"/>
                </a:moveTo>
                <a:lnTo>
                  <a:pt x="864" y="0"/>
                </a:lnTo>
                <a:lnTo>
                  <a:pt x="0" y="0"/>
                </a:lnTo>
                <a:lnTo>
                  <a:pt x="154" y="204"/>
                </a:lnTo>
                <a:lnTo>
                  <a:pt x="304" y="400"/>
                </a:lnTo>
                <a:lnTo>
                  <a:pt x="154" y="596"/>
                </a:lnTo>
                <a:lnTo>
                  <a:pt x="0" y="800"/>
                </a:lnTo>
                <a:lnTo>
                  <a:pt x="864" y="800"/>
                </a:lnTo>
                <a:lnTo>
                  <a:pt x="1018" y="596"/>
                </a:lnTo>
                <a:lnTo>
                  <a:pt x="1168" y="400"/>
                </a:lnTo>
                <a:lnTo>
                  <a:pt x="1018" y="204"/>
                </a:lnTo>
                <a:close/>
              </a:path>
            </a:pathLst>
          </a:custGeom>
          <a:solidFill>
            <a:srgbClr val="99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未知"/>
          <p:cNvSpPr/>
          <p:nvPr/>
        </p:nvSpPr>
        <p:spPr>
          <a:xfrm>
            <a:off x="5284800" y="1614600"/>
            <a:ext cx="1857240" cy="1269720"/>
          </a:xfrm>
          <a:custGeom>
            <a:avLst/>
            <a:gdLst/>
            <a:ahLst/>
            <a:rect l="l" t="t" r="r" b="b"/>
            <a:pathLst>
              <a:path w="1170" h="800">
                <a:moveTo>
                  <a:pt x="1020" y="204"/>
                </a:moveTo>
                <a:lnTo>
                  <a:pt x="864" y="0"/>
                </a:lnTo>
                <a:lnTo>
                  <a:pt x="0" y="0"/>
                </a:lnTo>
                <a:lnTo>
                  <a:pt x="156" y="204"/>
                </a:lnTo>
                <a:lnTo>
                  <a:pt x="306" y="400"/>
                </a:lnTo>
                <a:lnTo>
                  <a:pt x="156" y="596"/>
                </a:lnTo>
                <a:lnTo>
                  <a:pt x="0" y="800"/>
                </a:lnTo>
                <a:lnTo>
                  <a:pt x="864" y="800"/>
                </a:lnTo>
                <a:lnTo>
                  <a:pt x="1020" y="596"/>
                </a:lnTo>
                <a:lnTo>
                  <a:pt x="1170" y="400"/>
                </a:lnTo>
                <a:lnTo>
                  <a:pt x="1020" y="204"/>
                </a:lnTo>
                <a:close/>
              </a:path>
            </a:pathLst>
          </a:custGeom>
          <a:solidFill>
            <a:srgbClr val="ffab57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未知"/>
          <p:cNvSpPr/>
          <p:nvPr/>
        </p:nvSpPr>
        <p:spPr>
          <a:xfrm>
            <a:off x="6796080" y="1614600"/>
            <a:ext cx="1854360" cy="1269720"/>
          </a:xfrm>
          <a:custGeom>
            <a:avLst/>
            <a:gdLst/>
            <a:ahLst/>
            <a:rect l="l" t="t" r="r" b="b"/>
            <a:pathLst>
              <a:path w="1168" h="800">
                <a:moveTo>
                  <a:pt x="1018" y="204"/>
                </a:moveTo>
                <a:lnTo>
                  <a:pt x="864" y="0"/>
                </a:lnTo>
                <a:lnTo>
                  <a:pt x="0" y="0"/>
                </a:lnTo>
                <a:lnTo>
                  <a:pt x="154" y="204"/>
                </a:lnTo>
                <a:lnTo>
                  <a:pt x="304" y="400"/>
                </a:lnTo>
                <a:lnTo>
                  <a:pt x="154" y="596"/>
                </a:lnTo>
                <a:lnTo>
                  <a:pt x="0" y="800"/>
                </a:lnTo>
                <a:lnTo>
                  <a:pt x="864" y="800"/>
                </a:lnTo>
                <a:lnTo>
                  <a:pt x="1018" y="596"/>
                </a:lnTo>
                <a:lnTo>
                  <a:pt x="1168" y="400"/>
                </a:lnTo>
                <a:lnTo>
                  <a:pt x="1018" y="204"/>
                </a:lnTo>
                <a:close/>
              </a:path>
            </a:pathLst>
          </a:custGeom>
          <a:solidFill>
            <a:srgbClr val="ffc99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18520" y="206676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34640" y="206532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49240" y="20667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60880" y="2065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368480" y="206676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b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82760" y="6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Example of a tab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901800" y="1273320"/>
          <a:ext cx="7296120" cy="3267000"/>
        </p:xfrm>
        <a:graphic>
          <a:graphicData uri="http://schemas.openxmlformats.org/drawingml/2006/table">
            <a:tbl>
              <a:tblPr/>
              <a:tblGrid>
                <a:gridCol w="3645000"/>
                <a:gridCol w="3651120"/>
              </a:tblGrid>
              <a:tr h="509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Ti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67c1e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Ti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67c1e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Da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Da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b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36560" y="498240"/>
            <a:ext cx="77724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20202"/>
                </a:solidFill>
                <a:latin typeface="Arial"/>
              </a:rPr>
              <a:t>感谢您的关注</a:t>
            </a:r>
            <a:endParaRPr b="0" lang="en-US" sz="4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457280" y="1557000"/>
            <a:ext cx="640080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unfl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f9bb36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f9bb36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f9bb36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13:35:13Z</dcterms:created>
  <dc:creator/>
  <dc:description/>
  <dc:language>en-US</dc:language>
  <cp:lastModifiedBy>Clearly Presented</cp:lastModifiedBy>
  <dcterms:modified xsi:type="dcterms:W3CDTF">2015-01-11T08:43:50Z</dcterms:modified>
  <cp:revision>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