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37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17337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373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173373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6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440" y="685800"/>
            <a:ext cx="914256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606600" y="571680"/>
            <a:ext cx="603216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477120"/>
            <a:ext cx="754380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79360" y="0"/>
            <a:ext cx="136440" cy="876240"/>
            <a:chOff x="279360" y="0"/>
            <a:chExt cx="136440" cy="876240"/>
          </a:xfrm>
        </p:grpSpPr>
        <p:sp>
          <p:nvSpPr>
            <p:cNvPr id="5" name=""/>
            <p:cNvSpPr/>
            <p:nvPr/>
          </p:nvSpPr>
          <p:spPr>
            <a:xfrm>
              <a:off x="279360" y="0"/>
              <a:ext cx="136440" cy="874080"/>
            </a:xfrm>
            <a:prstGeom prst="rect">
              <a:avLst/>
            </a:prstGeom>
            <a:gradFill rotWithShape="0">
              <a:gsLst>
                <a:gs pos="0">
                  <a:srgbClr val="a3b2c5"/>
                </a:gs>
                <a:gs pos="50000">
                  <a:srgbClr val="4b525a"/>
                </a:gs>
                <a:gs pos="100000">
                  <a:srgbClr val="a3b2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64680" y="0"/>
              <a:ext cx="46800" cy="8762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415800" y="0"/>
            <a:ext cx="136800" cy="1150920"/>
            <a:chOff x="415800" y="0"/>
            <a:chExt cx="136800" cy="1150920"/>
          </a:xfrm>
        </p:grpSpPr>
        <p:sp>
          <p:nvSpPr>
            <p:cNvPr id="8" name=""/>
            <p:cNvSpPr/>
            <p:nvPr/>
          </p:nvSpPr>
          <p:spPr>
            <a:xfrm>
              <a:off x="415800" y="0"/>
              <a:ext cx="136800" cy="1148040"/>
            </a:xfrm>
            <a:prstGeom prst="rect">
              <a:avLst/>
            </a:prstGeom>
            <a:gradFill rotWithShape="0">
              <a:gsLst>
                <a:gs pos="0">
                  <a:srgbClr val="776dc1"/>
                </a:gs>
                <a:gs pos="50000">
                  <a:srgbClr val="595291"/>
                </a:gs>
                <a:gs pos="100000">
                  <a:srgbClr val="776d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68000" y="0"/>
              <a:ext cx="80280" cy="115092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549360" y="0"/>
            <a:ext cx="136440" cy="1523880"/>
            <a:chOff x="549360" y="0"/>
            <a:chExt cx="136440" cy="1523880"/>
          </a:xfrm>
        </p:grpSpPr>
        <p:sp>
          <p:nvSpPr>
            <p:cNvPr id="11" name=""/>
            <p:cNvSpPr/>
            <p:nvPr/>
          </p:nvSpPr>
          <p:spPr>
            <a:xfrm>
              <a:off x="549360" y="0"/>
              <a:ext cx="136440" cy="1519920"/>
            </a:xfrm>
            <a:prstGeom prst="rect">
              <a:avLst/>
            </a:prstGeom>
            <a:gradFill rotWithShape="0">
              <a:gsLst>
                <a:gs pos="0">
                  <a:srgbClr val="e4671a"/>
                </a:gs>
                <a:gs pos="50000">
                  <a:srgbClr val="692f0b"/>
                </a:gs>
                <a:gs pos="100000">
                  <a:srgbClr val="e4671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4680" y="0"/>
              <a:ext cx="46800" cy="15238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1733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49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49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00200"/>
            <a:ext cx="91425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3520" y="0"/>
            <a:ext cx="215640" cy="1860480"/>
            <a:chOff x="533520" y="0"/>
            <a:chExt cx="215640" cy="1860480"/>
          </a:xfrm>
        </p:grpSpPr>
        <p:sp>
          <p:nvSpPr>
            <p:cNvPr id="53" name=""/>
            <p:cNvSpPr/>
            <p:nvPr/>
          </p:nvSpPr>
          <p:spPr>
            <a:xfrm>
              <a:off x="533520" y="0"/>
              <a:ext cx="215640" cy="1855440"/>
            </a:xfrm>
            <a:prstGeom prst="rect">
              <a:avLst/>
            </a:prstGeom>
            <a:gradFill rotWithShape="0">
              <a:gsLst>
                <a:gs pos="0">
                  <a:srgbClr val="a3b2c5"/>
                </a:gs>
                <a:gs pos="50000">
                  <a:srgbClr val="4b525a"/>
                </a:gs>
                <a:gs pos="100000">
                  <a:srgbClr val="a3b2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8160" y="0"/>
              <a:ext cx="74160" cy="18604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49160" y="0"/>
            <a:ext cx="216000" cy="2444760"/>
            <a:chOff x="749160" y="0"/>
            <a:chExt cx="216000" cy="2444760"/>
          </a:xfrm>
        </p:grpSpPr>
        <p:sp>
          <p:nvSpPr>
            <p:cNvPr id="56" name=""/>
            <p:cNvSpPr/>
            <p:nvPr/>
          </p:nvSpPr>
          <p:spPr>
            <a:xfrm>
              <a:off x="749160" y="0"/>
              <a:ext cx="216000" cy="2438280"/>
            </a:xfrm>
            <a:prstGeom prst="rect">
              <a:avLst/>
            </a:prstGeom>
            <a:gradFill rotWithShape="0">
              <a:gsLst>
                <a:gs pos="0">
                  <a:srgbClr val="776dc1"/>
                </a:gs>
                <a:gs pos="50000">
                  <a:srgbClr val="595291"/>
                </a:gs>
                <a:gs pos="100000">
                  <a:srgbClr val="776d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1600" y="0"/>
              <a:ext cx="127080" cy="244476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958680" y="0"/>
            <a:ext cx="216000" cy="3238200"/>
            <a:chOff x="958680" y="0"/>
            <a:chExt cx="216000" cy="3238200"/>
          </a:xfrm>
        </p:grpSpPr>
        <p:sp>
          <p:nvSpPr>
            <p:cNvPr id="59" name=""/>
            <p:cNvSpPr/>
            <p:nvPr/>
          </p:nvSpPr>
          <p:spPr>
            <a:xfrm>
              <a:off x="958680" y="0"/>
              <a:ext cx="216000" cy="3229560"/>
            </a:xfrm>
            <a:prstGeom prst="rect">
              <a:avLst/>
            </a:prstGeom>
            <a:gradFill rotWithShape="0">
              <a:gsLst>
                <a:gs pos="0">
                  <a:srgbClr val="e4671a"/>
                </a:gs>
                <a:gs pos="50000">
                  <a:srgbClr val="692f0b"/>
                </a:gs>
                <a:gs pos="100000">
                  <a:srgbClr val="e4671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93680" y="0"/>
              <a:ext cx="74520" cy="323820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9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251460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373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73373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37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3373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73373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2514600"/>
            <a:ext cx="77724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73373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0040" y="3537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373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9840" y="64101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*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展望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一）销售目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927000" y="2616120"/>
            <a:ext cx="4940280" cy="3733920"/>
            <a:chOff x="927000" y="2616120"/>
            <a:chExt cx="4940280" cy="3733920"/>
          </a:xfrm>
        </p:grpSpPr>
        <p:sp>
          <p:nvSpPr>
            <p:cNvPr id="494" name="圆角矩形 51"/>
            <p:cNvSpPr/>
            <p:nvPr/>
          </p:nvSpPr>
          <p:spPr>
            <a:xfrm rot="16200000">
              <a:off x="1530000" y="2012760"/>
              <a:ext cx="3733920" cy="4940280"/>
            </a:xfrm>
            <a:custGeom>
              <a:avLst/>
              <a:gdLst>
                <a:gd name="textAreaLeft" fmla="*/ 29160 w 3733920"/>
                <a:gd name="textAreaRight" fmla="*/ 3704760 w 3733920"/>
                <a:gd name="textAreaTop" fmla="*/ 29160 h 4940280"/>
                <a:gd name="textAreaBottom" fmla="*/ 4911120 h 4940280"/>
              </a:gdLst>
              <a:ahLst/>
              <a:rect l="textAreaLeft" t="textAreaTop" r="textAreaRight" b="textAreaBottom"/>
              <a:pathLst>
                <a:path w="21600" h="28578">
                  <a:moveTo>
                    <a:pt x="578" y="0"/>
                  </a:moveTo>
                  <a:arcTo wR="578" hR="578" stAng="16200000" swAng="-5400000"/>
                  <a:lnTo>
                    <a:pt x="0" y="28000"/>
                  </a:lnTo>
                  <a:arcTo wR="578" hR="578" stAng="10800000" swAng="-5400000"/>
                  <a:lnTo>
                    <a:pt x="21022" y="28578"/>
                  </a:lnTo>
                  <a:arcTo wR="578" hR="578" stAng="5400000" swAng="-5400000"/>
                  <a:lnTo>
                    <a:pt x="21600" y="578"/>
                  </a:lnTo>
                  <a:arcTo wR="578" hR="578" stAng="0" swAng="-5400000"/>
                  <a:close/>
                </a:path>
              </a:pathLst>
            </a:custGeom>
            <a:solidFill>
              <a:srgbClr val="357da1">
                <a:alpha val="30000"/>
              </a:srgbClr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1632600" y="3301920"/>
              <a:ext cx="3528360" cy="2285640"/>
              <a:chOff x="1632600" y="3301920"/>
              <a:chExt cx="3528360" cy="228564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1639080" y="3301920"/>
                <a:ext cx="3512520" cy="2285640"/>
                <a:chOff x="1639080" y="3301920"/>
                <a:chExt cx="3512520" cy="2285640"/>
              </a:xfrm>
            </p:grpSpPr>
            <p:sp>
              <p:nvSpPr>
                <p:cNvPr id="497" name="矩形 20"/>
                <p:cNvSpPr/>
                <p:nvPr/>
              </p:nvSpPr>
              <p:spPr>
                <a:xfrm>
                  <a:off x="1639080" y="3301920"/>
                  <a:ext cx="3512520" cy="2202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1987920" y="5504760"/>
                  <a:ext cx="2637000" cy="82800"/>
                  <a:chOff x="1987920" y="5504760"/>
                  <a:chExt cx="2637000" cy="82800"/>
                </a:xfrm>
              </p:grpSpPr>
              <p:sp>
                <p:nvSpPr>
                  <p:cNvPr id="499" name="直接连接符 23"/>
                  <p:cNvSpPr/>
                  <p:nvPr/>
                </p:nvSpPr>
                <p:spPr>
                  <a:xfrm flipH="1" flipV="1">
                    <a:off x="2419920" y="5504760"/>
                    <a:ext cx="180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直接连接符 24"/>
                  <p:cNvSpPr/>
                  <p:nvPr/>
                </p:nvSpPr>
                <p:spPr>
                  <a:xfrm flipH="1" flipV="1">
                    <a:off x="2851920" y="5504760"/>
                    <a:ext cx="180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直接连接符 25"/>
                  <p:cNvSpPr/>
                  <p:nvPr/>
                </p:nvSpPr>
                <p:spPr>
                  <a:xfrm flipV="1">
                    <a:off x="3289320" y="55047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直接连接符 26"/>
                  <p:cNvSpPr/>
                  <p:nvPr/>
                </p:nvSpPr>
                <p:spPr>
                  <a:xfrm flipV="1">
                    <a:off x="3721320" y="55047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直接连接符 27"/>
                  <p:cNvSpPr/>
                  <p:nvPr/>
                </p:nvSpPr>
                <p:spPr>
                  <a:xfrm flipH="1" flipV="1">
                    <a:off x="1987920" y="5504760"/>
                    <a:ext cx="180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直接连接符 28"/>
                  <p:cNvSpPr/>
                  <p:nvPr/>
                </p:nvSpPr>
                <p:spPr>
                  <a:xfrm flipH="1" flipV="1">
                    <a:off x="4183920" y="5504760"/>
                    <a:ext cx="180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直接连接符 29"/>
                  <p:cNvSpPr/>
                  <p:nvPr/>
                </p:nvSpPr>
                <p:spPr>
                  <a:xfrm flipH="1" flipV="1">
                    <a:off x="4623120" y="5504760"/>
                    <a:ext cx="180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6" name="直接连接符 96"/>
              <p:cNvSpPr/>
              <p:nvPr/>
            </p:nvSpPr>
            <p:spPr>
              <a:xfrm>
                <a:off x="1633680" y="3708720"/>
                <a:ext cx="351792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07" name="直接连接符 96"/>
              <p:cNvSpPr/>
              <p:nvPr/>
            </p:nvSpPr>
            <p:spPr>
              <a:xfrm>
                <a:off x="1632600" y="4145400"/>
                <a:ext cx="351792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08" name="直接连接符 96"/>
              <p:cNvSpPr/>
              <p:nvPr/>
            </p:nvSpPr>
            <p:spPr>
              <a:xfrm>
                <a:off x="1643040" y="4572360"/>
                <a:ext cx="3517920" cy="1476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09" name="直接连接符 96"/>
              <p:cNvSpPr/>
              <p:nvPr/>
            </p:nvSpPr>
            <p:spPr>
              <a:xfrm>
                <a:off x="1643040" y="5016240"/>
                <a:ext cx="351792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TextBox 108"/>
          <p:cNvSpPr/>
          <p:nvPr/>
        </p:nvSpPr>
        <p:spPr>
          <a:xfrm>
            <a:off x="1739880" y="56134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际销量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11" name="TextBox 108"/>
          <p:cNvSpPr/>
          <p:nvPr/>
        </p:nvSpPr>
        <p:spPr>
          <a:xfrm>
            <a:off x="927000" y="2666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量</a:t>
            </a:r>
            <a:r>
              <a:rPr b="1" lang="en-US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(m³)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25480" y="3568680"/>
            <a:ext cx="1066680" cy="1663560"/>
            <a:chOff x="825480" y="3568680"/>
            <a:chExt cx="1066680" cy="1663560"/>
          </a:xfrm>
        </p:grpSpPr>
        <p:sp>
          <p:nvSpPr>
            <p:cNvPr id="513" name="TextBox 108"/>
            <p:cNvSpPr/>
            <p:nvPr/>
          </p:nvSpPr>
          <p:spPr>
            <a:xfrm>
              <a:off x="825480" y="35686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14" name="TextBox 108"/>
            <p:cNvSpPr/>
            <p:nvPr/>
          </p:nvSpPr>
          <p:spPr>
            <a:xfrm>
              <a:off x="825480" y="3963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15" name="TextBox 108"/>
            <p:cNvSpPr/>
            <p:nvPr/>
          </p:nvSpPr>
          <p:spPr>
            <a:xfrm>
              <a:off x="825480" y="44067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16" name="TextBox 108"/>
            <p:cNvSpPr/>
            <p:nvPr/>
          </p:nvSpPr>
          <p:spPr>
            <a:xfrm>
              <a:off x="977760" y="4863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565600" y="1803240"/>
            <a:ext cx="35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比今年增长 </a:t>
            </a:r>
            <a:r>
              <a:rPr b="1" lang="en-US" sz="40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XX %</a:t>
            </a:r>
            <a:endParaRPr b="0" lang="en-US" sz="4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18" name="TextBox 108"/>
          <p:cNvSpPr/>
          <p:nvPr/>
        </p:nvSpPr>
        <p:spPr>
          <a:xfrm>
            <a:off x="3594240" y="56260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计划销量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19" name="圆角矩形 47"/>
          <p:cNvSpPr/>
          <p:nvPr/>
        </p:nvSpPr>
        <p:spPr>
          <a:xfrm flipV="1" rot="16200000">
            <a:off x="2759400" y="461808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0" name="圆角矩形 47"/>
          <p:cNvSpPr/>
          <p:nvPr/>
        </p:nvSpPr>
        <p:spPr>
          <a:xfrm flipV="1" rot="16200000">
            <a:off x="1425960" y="468144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955880" y="3467160"/>
            <a:ext cx="927000" cy="2006640"/>
            <a:chOff x="1955880" y="3467160"/>
            <a:chExt cx="927000" cy="2006640"/>
          </a:xfrm>
        </p:grpSpPr>
        <p:sp>
          <p:nvSpPr>
            <p:cNvPr id="522" name="Rectangle 48"/>
            <p:cNvSpPr/>
            <p:nvPr/>
          </p:nvSpPr>
          <p:spPr>
            <a:xfrm>
              <a:off x="2089080" y="3997440"/>
              <a:ext cx="476280" cy="14763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99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23" name="TextBox 108"/>
            <p:cNvSpPr/>
            <p:nvPr/>
          </p:nvSpPr>
          <p:spPr>
            <a:xfrm>
              <a:off x="1955880" y="346716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632040" y="3238560"/>
            <a:ext cx="927000" cy="2271240"/>
            <a:chOff x="3632040" y="3238560"/>
            <a:chExt cx="927000" cy="2271240"/>
          </a:xfrm>
        </p:grpSpPr>
        <p:grpSp>
          <p:nvGrpSpPr>
            <p:cNvPr id="525" name=""/>
            <p:cNvGrpSpPr/>
            <p:nvPr/>
          </p:nvGrpSpPr>
          <p:grpSpPr>
            <a:xfrm>
              <a:off x="3767040" y="3648240"/>
              <a:ext cx="492120" cy="1861560"/>
              <a:chOff x="3767040" y="3648240"/>
              <a:chExt cx="492120" cy="1861560"/>
            </a:xfrm>
          </p:grpSpPr>
          <p:sp>
            <p:nvSpPr>
              <p:cNvPr id="526" name="Rectangle 45"/>
              <p:cNvSpPr/>
              <p:nvPr/>
            </p:nvSpPr>
            <p:spPr>
              <a:xfrm>
                <a:off x="3767040" y="3648240"/>
                <a:ext cx="492120" cy="1861560"/>
              </a:xfrm>
              <a:prstGeom prst="rect">
                <a:avLst/>
              </a:prstGeom>
              <a:solidFill>
                <a:srgbClr val="776d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27" name="圆角矩形 48"/>
              <p:cNvSpPr/>
              <p:nvPr/>
            </p:nvSpPr>
            <p:spPr>
              <a:xfrm flipV="1" rot="16200000">
                <a:off x="2892240" y="4539600"/>
                <a:ext cx="1832400" cy="49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28" name="TextBox 108"/>
            <p:cNvSpPr/>
            <p:nvPr/>
          </p:nvSpPr>
          <p:spPr>
            <a:xfrm>
              <a:off x="3632040" y="323856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529" name="" descr=""/>
          <p:cNvPicPr/>
          <p:nvPr/>
        </p:nvPicPr>
        <p:blipFill>
          <a:blip r:embed="rId2"/>
          <a:srcRect l="24670" t="5778" r="32891" b="5112"/>
          <a:stretch/>
        </p:blipFill>
        <p:spPr>
          <a:xfrm>
            <a:off x="6188040" y="2755800"/>
            <a:ext cx="1596960" cy="33530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76400" y="65008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316160" y="1933560"/>
            <a:ext cx="7457760" cy="4105080"/>
            <a:chOff x="1316160" y="1933560"/>
            <a:chExt cx="7457760" cy="4105080"/>
          </a:xfrm>
        </p:grpSpPr>
        <p:pic>
          <p:nvPicPr>
            <p:cNvPr id="536" name="圆角矩形 13" descr=""/>
            <p:cNvPicPr/>
            <p:nvPr/>
          </p:nvPicPr>
          <p:blipFill>
            <a:blip r:embed="rId2">
              <a:alphaModFix amt="30000"/>
            </a:blip>
            <a:stretch/>
          </p:blipFill>
          <p:spPr>
            <a:xfrm>
              <a:off x="1316160" y="1933560"/>
              <a:ext cx="74577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355040" y="1973520"/>
              <a:ext cx="7371360" cy="402120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3517920" y="3081240"/>
            <a:ext cx="2698560" cy="26733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 flipH="1" flipV="1" rot="5400000">
            <a:off x="3578040" y="3078720"/>
            <a:ext cx="2612880" cy="268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72" y="18824"/>
                </a:moveTo>
                <a:arcTo wR="10800" hR="10800" stAng="7920740" swAng="13709721"/>
                <a:lnTo>
                  <a:pt x="10800" y="10800"/>
                </a:lnTo>
                <a:close/>
              </a:path>
              <a:path fill="none" w="21600" h="21600">
                <a:moveTo>
                  <a:pt x="3572" y="18824"/>
                </a:moveTo>
                <a:arcTo wR="10800" hR="10800" stAng="7920740" swAng="13709721"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 rot="14400000">
            <a:off x="3540960" y="3067920"/>
            <a:ext cx="2604960" cy="272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51" y="1597"/>
                </a:moveTo>
                <a:arcTo wR="10800" hR="10800" stAng="-3506866" swAng="2342498"/>
                <a:lnTo>
                  <a:pt x="10800" y="10800"/>
                </a:lnTo>
                <a:close/>
              </a:path>
              <a:path fill="none" w="21600" h="21600">
                <a:moveTo>
                  <a:pt x="16451" y="1597"/>
                </a:moveTo>
                <a:arcTo wR="10800" hR="10800" stAng="-3506866" swAng="2342498"/>
              </a:path>
            </a:pathLst>
          </a:cu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 rot="13924200">
            <a:off x="3544200" y="3095280"/>
            <a:ext cx="2663280" cy="267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78" y="625"/>
                </a:moveTo>
                <a:arcTo wR="10800" hR="10800" stAng="-6575597" swAng="3436304"/>
                <a:lnTo>
                  <a:pt x="10800" y="10800"/>
                </a:lnTo>
                <a:close/>
              </a:path>
              <a:path fill="none" w="21600" h="21600">
                <a:moveTo>
                  <a:pt x="7178" y="625"/>
                </a:moveTo>
                <a:arcTo wR="10800" hR="10800" stAng="-6575597" swAng="3436304"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flipV="1" rot="9746400">
            <a:off x="3547080" y="3079080"/>
            <a:ext cx="2669400" cy="266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16" y="522"/>
                </a:moveTo>
                <a:arcTo wR="10800" hR="10800" stAng="-4327303" swAng="1901484"/>
                <a:lnTo>
                  <a:pt x="10800" y="10800"/>
                </a:lnTo>
                <a:close/>
              </a:path>
              <a:path fill="none" w="21600" h="21600">
                <a:moveTo>
                  <a:pt x="14116" y="522"/>
                </a:moveTo>
                <a:arcTo wR="10800" hR="10800" stAng="-4327303" swAng="1901484"/>
              </a:path>
            </a:pathLst>
          </a:custGeom>
          <a:solidFill>
            <a:srgbClr val="776dc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73240" y="313056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376160" y="4047840"/>
            <a:ext cx="1896480" cy="1729440"/>
            <a:chOff x="4376160" y="4047840"/>
            <a:chExt cx="1896480" cy="1729440"/>
          </a:xfrm>
        </p:grpSpPr>
        <p:grpSp>
          <p:nvGrpSpPr>
            <p:cNvPr id="545" name=""/>
            <p:cNvGrpSpPr/>
            <p:nvPr/>
          </p:nvGrpSpPr>
          <p:grpSpPr>
            <a:xfrm>
              <a:off x="4812840" y="4047840"/>
              <a:ext cx="1459800" cy="1712520"/>
              <a:chOff x="4812840" y="4047840"/>
              <a:chExt cx="1459800" cy="1712520"/>
            </a:xfrm>
          </p:grpSpPr>
          <p:sp>
            <p:nvSpPr>
              <p:cNvPr id="546" name=""/>
              <p:cNvSpPr/>
              <p:nvPr/>
            </p:nvSpPr>
            <p:spPr>
              <a:xfrm flipH="1" flipV="1" rot="1528800">
                <a:off x="5625720" y="4053240"/>
                <a:ext cx="34776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flipV="1" rot="2344200">
                <a:off x="5515200" y="4262760"/>
                <a:ext cx="34776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 rot="2640000">
                <a:off x="5423400" y="4364280"/>
                <a:ext cx="347760" cy="142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 flipV="1" rot="3172200">
                <a:off x="5310000" y="4481640"/>
                <a:ext cx="347760" cy="142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4376160" y="4518360"/>
              <a:ext cx="1832400" cy="1258920"/>
              <a:chOff x="4376160" y="4518360"/>
              <a:chExt cx="1832400" cy="1258920"/>
            </a:xfrm>
          </p:grpSpPr>
          <p:sp>
            <p:nvSpPr>
              <p:cNvPr id="551" name=""/>
              <p:cNvSpPr/>
              <p:nvPr/>
            </p:nvSpPr>
            <p:spPr>
              <a:xfrm flipH="1" flipV="1" rot="2881800">
                <a:off x="5388480" y="4412160"/>
                <a:ext cx="34920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 rot="3697200">
                <a:off x="5206320" y="4564440"/>
                <a:ext cx="349200" cy="14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 rot="3993000">
                <a:off x="5082840" y="4623120"/>
                <a:ext cx="34920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flipV="1" rot="4525200">
                <a:off x="4933440" y="4687920"/>
                <a:ext cx="34920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3366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"/>
          <p:cNvSpPr/>
          <p:nvPr/>
        </p:nvSpPr>
        <p:spPr>
          <a:xfrm>
            <a:off x="3946680" y="3851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373"/>
                </a:solidFill>
                <a:latin typeface="Arial"/>
                <a:ea typeface="Gulim"/>
              </a:rPr>
              <a:t> </a:t>
            </a:r>
            <a:r>
              <a:rPr b="1" lang="en-US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71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4975200" y="2590920"/>
            <a:ext cx="1561680" cy="485280"/>
            <a:chOff x="4975200" y="2590920"/>
            <a:chExt cx="1561680" cy="485280"/>
          </a:xfrm>
        </p:grpSpPr>
        <p:sp>
          <p:nvSpPr>
            <p:cNvPr id="557" name=""/>
            <p:cNvSpPr/>
            <p:nvPr/>
          </p:nvSpPr>
          <p:spPr>
            <a:xfrm flipV="1">
              <a:off x="4975200" y="2599920"/>
              <a:ext cx="377640" cy="476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65440" y="2590920"/>
              <a:ext cx="117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365800" y="45086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08560" y="385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11680" y="3362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7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00280" y="73152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*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各区域计划销售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3" name="图片 61" descr="www.laoluo.org_教3师介绍_AboutUs.png"/>
          <p:cNvPicPr/>
          <p:nvPr/>
        </p:nvPicPr>
        <p:blipFill>
          <a:blip r:embed="rId4"/>
          <a:srcRect l="0" t="0" r="62131" b="15560"/>
          <a:stretch/>
        </p:blipFill>
        <p:spPr>
          <a:xfrm>
            <a:off x="-236520" y="4205160"/>
            <a:ext cx="1806480" cy="21751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1676520" y="5486400"/>
            <a:ext cx="2666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微软雅黑"/>
                <a:ea typeface="微软雅黑"/>
              </a:rPr>
              <a:t>另销</a:t>
            </a:r>
            <a:r>
              <a:rPr b="1" lang="en-US" sz="2000" spc="-1" strike="noStrike">
                <a:solidFill>
                  <a:srgbClr val="333399"/>
                </a:solidFill>
                <a:latin typeface="微软雅黑"/>
                <a:ea typeface="微软雅黑"/>
              </a:rPr>
              <a:t>XXXX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微软雅黑"/>
                <a:ea typeface="微软雅黑"/>
              </a:rPr>
              <a:t>销售毛利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元</a:t>
            </a:r>
            <a:r>
              <a:rPr b="0" lang="zh-CN" sz="2600" spc="-1" strike="noStrike">
                <a:solidFill>
                  <a:srgbClr val="173373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91160" y="231948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59680" y="365760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080040" y="474012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*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展望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二）工作重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圆角矩形 47"/>
          <p:cNvSpPr/>
          <p:nvPr/>
        </p:nvSpPr>
        <p:spPr>
          <a:xfrm flipV="1" rot="16200000">
            <a:off x="2759400" y="461808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rcRect l="21137" t="6976" r="28822" b="6976"/>
          <a:stretch/>
        </p:blipFill>
        <p:spPr>
          <a:xfrm>
            <a:off x="244440" y="4572000"/>
            <a:ext cx="1182600" cy="2009880"/>
          </a:xfrm>
          <a:prstGeom prst="rect">
            <a:avLst/>
          </a:prstGeom>
          <a:ln w="0">
            <a:noFill/>
          </a:ln>
        </p:spPr>
      </p:pic>
      <p:pic>
        <p:nvPicPr>
          <p:cNvPr id="572" name="组合 142" descr=""/>
          <p:cNvPicPr/>
          <p:nvPr/>
        </p:nvPicPr>
        <p:blipFill>
          <a:blip r:embed="rId3"/>
          <a:stretch/>
        </p:blipFill>
        <p:spPr>
          <a:xfrm>
            <a:off x="1204920" y="2025720"/>
            <a:ext cx="8259840" cy="383688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3400560" y="4624560"/>
            <a:ext cx="501624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en-US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1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维系现有客户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en-US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2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与其他两位同事并肩发展新客户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en-US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3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做好</a:t>
            </a:r>
            <a:r>
              <a:rPr b="1" lang="en-US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xxxx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的调研和尝试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2452680"/>
            <a:ext cx="5079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en-US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1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区别对待大客户，保证持久发货量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en-US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2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价格灵活争取一般客户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en-US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3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努力扩大客户渠道和市场份额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28640" y="2289240"/>
            <a:ext cx="12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微软雅黑"/>
                <a:ea typeface="微软雅黑"/>
              </a:rPr>
              <a:t>外  区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362320" y="525780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微软雅黑"/>
                <a:ea typeface="微软雅黑"/>
              </a:rPr>
              <a:t>本  区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00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图片 5" descr="www.zcool.com.cn__029_1600x1200_zcool.com.cn.png"/>
          <p:cNvPicPr/>
          <p:nvPr/>
        </p:nvPicPr>
        <p:blipFill>
          <a:blip r:embed="rId2"/>
          <a:srcRect l="15617" t="822" r="17246" b="7581"/>
          <a:stretch/>
        </p:blipFill>
        <p:spPr>
          <a:xfrm>
            <a:off x="5913360" y="2109960"/>
            <a:ext cx="3371760" cy="34495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*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展望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822240" y="156204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三）具体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圆角矩形 47"/>
          <p:cNvSpPr/>
          <p:nvPr/>
        </p:nvSpPr>
        <p:spPr>
          <a:xfrm flipV="1" rot="16200000">
            <a:off x="2759400" y="461808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65120" y="2314440"/>
            <a:ext cx="5934240" cy="3778560"/>
            <a:chOff x="465120" y="2314440"/>
            <a:chExt cx="5934240" cy="3778560"/>
          </a:xfrm>
        </p:grpSpPr>
        <p:sp>
          <p:nvSpPr>
            <p:cNvPr id="583" name="圆角矩形 50"/>
            <p:cNvSpPr/>
            <p:nvPr/>
          </p:nvSpPr>
          <p:spPr>
            <a:xfrm>
              <a:off x="465120" y="2324160"/>
              <a:ext cx="5934240" cy="3768840"/>
            </a:xfrm>
            <a:prstGeom prst="roundRect">
              <a:avLst>
                <a:gd name="adj" fmla="val 2912"/>
              </a:avLst>
            </a:prstGeom>
            <a:solidFill>
              <a:srgbClr val="ffffff"/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pic>
          <p:nvPicPr>
            <p:cNvPr id="584" name="图片 51" descr="图片1.png"/>
            <p:cNvPicPr/>
            <p:nvPr/>
          </p:nvPicPr>
          <p:blipFill>
            <a:blip r:embed="rId3"/>
            <a:srcRect l="0" t="0" r="0" b="24372"/>
            <a:stretch/>
          </p:blipFill>
          <p:spPr>
            <a:xfrm>
              <a:off x="470520" y="2314440"/>
              <a:ext cx="59277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直接连接符 68"/>
            <p:cNvSpPr/>
            <p:nvPr/>
          </p:nvSpPr>
          <p:spPr>
            <a:xfrm flipV="1">
              <a:off x="855720" y="2349000"/>
              <a:ext cx="1440" cy="52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6" name="直接连接符 69"/>
            <p:cNvSpPr/>
            <p:nvPr/>
          </p:nvSpPr>
          <p:spPr>
            <a:xfrm flipV="1">
              <a:off x="1744920" y="2411640"/>
              <a:ext cx="1440" cy="52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7" name="直接连接符 70"/>
            <p:cNvSpPr/>
            <p:nvPr/>
          </p:nvSpPr>
          <p:spPr>
            <a:xfrm flipV="1">
              <a:off x="4484160" y="2364840"/>
              <a:ext cx="1440" cy="52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8" name="圆角矩形 71"/>
            <p:cNvSpPr/>
            <p:nvPr/>
          </p:nvSpPr>
          <p:spPr>
            <a:xfrm flipV="1">
              <a:off x="554400" y="2365920"/>
              <a:ext cx="5758560" cy="9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9" name="直接连接符 72"/>
            <p:cNvSpPr/>
            <p:nvPr/>
          </p:nvSpPr>
          <p:spPr>
            <a:xfrm flipV="1">
              <a:off x="2735640" y="2380320"/>
              <a:ext cx="1440" cy="52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90" name="直接连接符 73"/>
            <p:cNvSpPr/>
            <p:nvPr/>
          </p:nvSpPr>
          <p:spPr>
            <a:xfrm flipV="1">
              <a:off x="5024160" y="2363040"/>
              <a:ext cx="1440" cy="52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91" name="直接连接符 74"/>
            <p:cNvSpPr/>
            <p:nvPr/>
          </p:nvSpPr>
          <p:spPr>
            <a:xfrm flipV="1">
              <a:off x="5622120" y="2357280"/>
              <a:ext cx="1440" cy="52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aphicFrame>
        <p:nvGraphicFramePr>
          <p:cNvPr id="592" name=""/>
          <p:cNvGraphicFramePr/>
          <p:nvPr/>
        </p:nvGraphicFramePr>
        <p:xfrm>
          <a:off x="492120" y="2819520"/>
          <a:ext cx="5896080" cy="3208320"/>
        </p:xfrm>
        <a:graphic>
          <a:graphicData uri="http://schemas.openxmlformats.org/drawingml/2006/table">
            <a:tbl>
              <a:tblPr/>
              <a:tblGrid>
                <a:gridCol w="384120"/>
                <a:gridCol w="5511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>
                      <a:noFill/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积极搜集工程信息，做好基础工作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克服偏见，与客户建立良好关系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增强风险意识，加强对客户的跟进监控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规范完善个人工作习惯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减小应收账款，保证良好资金周转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加强学习，拓展个人工作能力和视野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70" descr="www.laoluo.org_春季班常见问题及上课地点_tbyhfa.png"/>
          <p:cNvPicPr/>
          <p:nvPr/>
        </p:nvPicPr>
        <p:blipFill>
          <a:blip r:embed="rId2"/>
          <a:stretch/>
        </p:blipFill>
        <p:spPr>
          <a:xfrm>
            <a:off x="6356520" y="741240"/>
            <a:ext cx="2435040" cy="3140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7000"/>
              </a:srgbClr>
            </a:outerShdw>
          </a:effectLst>
        </p:spPr>
      </p:pic>
      <p:sp>
        <p:nvSpPr>
          <p:cNvPr id="594" name="圆角矩形 69"/>
          <p:cNvSpPr/>
          <p:nvPr/>
        </p:nvSpPr>
        <p:spPr>
          <a:xfrm>
            <a:off x="533520" y="2030400"/>
            <a:ext cx="7899120" cy="3660840"/>
          </a:xfrm>
          <a:prstGeom prst="roundRect">
            <a:avLst>
              <a:gd name="adj" fmla="val 7560"/>
            </a:avLst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lin ang="5400000"/>
          </a:gra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6440" y="2572560"/>
            <a:ext cx="746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市场是最坏的裁判，还没有等我们热身就已经开始竞赛，竞赛结果的好坏相当一部分因素在于我们的悟性和主观能动性。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同时，市场也是最好的教练，不需要训练就能教   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会我们技能和发展的契机，关键的是                       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我们的眼光是否长远、品格是否经得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起考验。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96" name="" descr="团队3D小人开会"/>
          <p:cNvPicPr/>
          <p:nvPr/>
        </p:nvPicPr>
        <p:blipFill>
          <a:blip r:embed="rId3"/>
          <a:srcRect l="12363" t="2816" r="18985" b="7982"/>
          <a:stretch/>
        </p:blipFill>
        <p:spPr>
          <a:xfrm>
            <a:off x="-152280" y="4038480"/>
            <a:ext cx="3093840" cy="24130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8880" y="2338200"/>
            <a:ext cx="72658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在如此高速发展的商业时代里，一名销售人员要迅速成长成熟，除了靠领导和同事们“输血”之外，个人坚持信念、不断学习和实践的“造血”过程才是重要而且持续的，只有这样的造血，才能保证我们高 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效率、高品质地自动自发做好工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作，保证我们手里永远有碗端、有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饭吃。</a:t>
            </a:r>
            <a:r>
              <a:rPr b="0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51280" y="747720"/>
            <a:ext cx="2520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个人感悟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1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03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10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03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10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1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03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10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1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03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10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4" descr="www.zcool.com.cn__084_1600x1200_zcool.com.cn.png"/>
          <p:cNvPicPr/>
          <p:nvPr/>
        </p:nvPicPr>
        <p:blipFill>
          <a:blip r:embed="rId2"/>
          <a:srcRect l="1661" t="16797" r="0" b="24612"/>
          <a:stretch/>
        </p:blipFill>
        <p:spPr>
          <a:xfrm>
            <a:off x="1727280" y="4513320"/>
            <a:ext cx="6500880" cy="16430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5" descr="www.ooosu.com__027_1600x1200_ooosu.com.png"/>
          <p:cNvPicPr/>
          <p:nvPr/>
        </p:nvPicPr>
        <p:blipFill>
          <a:blip r:embed="rId3"/>
          <a:srcRect l="4285" t="2857" r="0" b="7142"/>
          <a:stretch/>
        </p:blipFill>
        <p:spPr>
          <a:xfrm>
            <a:off x="655560" y="3156120"/>
            <a:ext cx="2786040" cy="261936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2070000" y="2197080"/>
            <a:ext cx="58802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感谢各位领导和同事的聆听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敬请批评指正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63920" y="6486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76dc1"/>
                </a:solidFill>
                <a:uFillTx/>
                <a:latin typeface="华文新魏"/>
                <a:ea typeface="华文新魏"/>
                <a:hlinkClick r:id="rId4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60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pic>
          <p:nvPicPr>
            <p:cNvPr id="605" name="Picture 4" descr="http://www.elixirinteractive.com/LookFeel/elixirinteractive.com/images/headers/brand-awareness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776dc1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0" lang="zh-CN" sz="3200" spc="-1" strike="noStrike" u="sng">
                  <a:solidFill>
                    <a:srgbClr val="776dc1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0" lang="en-US" sz="3200" spc="-1" strike="noStrike" u="sng">
                  <a:solidFill>
                    <a:srgbClr val="776dc1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*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一）销售任务完成情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3840" y="2603520"/>
            <a:ext cx="5867280" cy="3733920"/>
            <a:chOff x="393840" y="2603520"/>
            <a:chExt cx="5867280" cy="3733920"/>
          </a:xfrm>
        </p:grpSpPr>
        <p:sp>
          <p:nvSpPr>
            <p:cNvPr id="105" name="圆角矩形 51"/>
            <p:cNvSpPr/>
            <p:nvPr/>
          </p:nvSpPr>
          <p:spPr>
            <a:xfrm rot="16200000">
              <a:off x="1460520" y="1536840"/>
              <a:ext cx="3733920" cy="5867280"/>
            </a:xfrm>
            <a:custGeom>
              <a:avLst/>
              <a:gdLst>
                <a:gd name="textAreaLeft" fmla="*/ 29160 w 3733920"/>
                <a:gd name="textAreaRight" fmla="*/ 3704760 w 3733920"/>
                <a:gd name="textAreaTop" fmla="*/ 29160 h 5867280"/>
                <a:gd name="textAreaBottom" fmla="*/ 5838120 h 5867280"/>
              </a:gdLst>
              <a:ahLst/>
              <a:rect l="textAreaLeft" t="textAreaTop" r="textAreaRight" b="textAreaBottom"/>
              <a:pathLst>
                <a:path w="21600" h="33940">
                  <a:moveTo>
                    <a:pt x="578" y="0"/>
                  </a:moveTo>
                  <a:arcTo wR="578" hR="578" stAng="16200000" swAng="-5400000"/>
                  <a:lnTo>
                    <a:pt x="0" y="33362"/>
                  </a:lnTo>
                  <a:arcTo wR="578" hR="578" stAng="10800000" swAng="-5400000"/>
                  <a:lnTo>
                    <a:pt x="21022" y="33940"/>
                  </a:lnTo>
                  <a:arcTo wR="578" hR="578" stAng="5400000" swAng="-5400000"/>
                  <a:lnTo>
                    <a:pt x="21600" y="578"/>
                  </a:lnTo>
                  <a:arcTo wR="578" hR="578" stAng="0" swAng="-5400000"/>
                  <a:close/>
                </a:path>
              </a:pathLst>
            </a:custGeom>
            <a:solidFill>
              <a:srgbClr val="357da1">
                <a:alpha val="30000"/>
              </a:srgbClr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231920" y="3289320"/>
              <a:ext cx="4190760" cy="2285640"/>
              <a:chOff x="1231920" y="3289320"/>
              <a:chExt cx="4190760" cy="228564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1239840" y="3289320"/>
                <a:ext cx="4171680" cy="2285640"/>
                <a:chOff x="1239840" y="3289320"/>
                <a:chExt cx="4171680" cy="2285640"/>
              </a:xfrm>
            </p:grpSpPr>
            <p:sp>
              <p:nvSpPr>
                <p:cNvPr id="108" name="矩形 20"/>
                <p:cNvSpPr/>
                <p:nvPr/>
              </p:nvSpPr>
              <p:spPr>
                <a:xfrm>
                  <a:off x="1239840" y="3289320"/>
                  <a:ext cx="4171680" cy="2202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1654560" y="5492160"/>
                  <a:ext cx="3132000" cy="82800"/>
                  <a:chOff x="1654560" y="5492160"/>
                  <a:chExt cx="3132000" cy="82800"/>
                </a:xfrm>
              </p:grpSpPr>
              <p:sp>
                <p:nvSpPr>
                  <p:cNvPr id="110" name="直接连接符 23"/>
                  <p:cNvSpPr/>
                  <p:nvPr/>
                </p:nvSpPr>
                <p:spPr>
                  <a:xfrm flipH="1" flipV="1">
                    <a:off x="2167920" y="5492160"/>
                    <a:ext cx="180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直接连接符 24"/>
                  <p:cNvSpPr/>
                  <p:nvPr/>
                </p:nvSpPr>
                <p:spPr>
                  <a:xfrm flipH="1" flipV="1">
                    <a:off x="2680920" y="5492160"/>
                    <a:ext cx="180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直接连接符 25"/>
                  <p:cNvSpPr/>
                  <p:nvPr/>
                </p:nvSpPr>
                <p:spPr>
                  <a:xfrm flipV="1">
                    <a:off x="3200040" y="54921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直接连接符 26"/>
                  <p:cNvSpPr/>
                  <p:nvPr/>
                </p:nvSpPr>
                <p:spPr>
                  <a:xfrm flipV="1">
                    <a:off x="3713040" y="54921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直接连接符 27"/>
                  <p:cNvSpPr/>
                  <p:nvPr/>
                </p:nvSpPr>
                <p:spPr>
                  <a:xfrm flipH="1" flipV="1">
                    <a:off x="1654560" y="5492160"/>
                    <a:ext cx="180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直接连接符 28"/>
                  <p:cNvSpPr/>
                  <p:nvPr/>
                </p:nvSpPr>
                <p:spPr>
                  <a:xfrm flipH="1" flipV="1">
                    <a:off x="4263120" y="5492160"/>
                    <a:ext cx="180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直接连接符 29"/>
                  <p:cNvSpPr/>
                  <p:nvPr/>
                </p:nvSpPr>
                <p:spPr>
                  <a:xfrm flipH="1" flipV="1">
                    <a:off x="4784760" y="5492160"/>
                    <a:ext cx="1800" cy="82800"/>
                  </a:xfrm>
                  <a:prstGeom prst="line">
                    <a:avLst/>
                  </a:prstGeom>
                  <a:ln w="9360">
                    <a:solidFill>
                      <a:srgbClr val="26262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" name="直接连接符 96"/>
              <p:cNvSpPr/>
              <p:nvPr/>
            </p:nvSpPr>
            <p:spPr>
              <a:xfrm>
                <a:off x="1233360" y="3696120"/>
                <a:ext cx="417816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18" name="直接连接符 96"/>
              <p:cNvSpPr/>
              <p:nvPr/>
            </p:nvSpPr>
            <p:spPr>
              <a:xfrm>
                <a:off x="1231920" y="4132800"/>
                <a:ext cx="417816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19" name="直接连接符 96"/>
              <p:cNvSpPr/>
              <p:nvPr/>
            </p:nvSpPr>
            <p:spPr>
              <a:xfrm>
                <a:off x="1244520" y="4559760"/>
                <a:ext cx="4178160" cy="1476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20" name="直接连接符 96"/>
              <p:cNvSpPr/>
              <p:nvPr/>
            </p:nvSpPr>
            <p:spPr>
              <a:xfrm>
                <a:off x="1244520" y="5003640"/>
                <a:ext cx="417816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1359000" y="5613480"/>
            <a:ext cx="3809880" cy="642600"/>
            <a:chOff x="1359000" y="5613480"/>
            <a:chExt cx="3809880" cy="642600"/>
          </a:xfrm>
        </p:grpSpPr>
        <p:sp>
          <p:nvSpPr>
            <p:cNvPr id="122" name="TextBox 108"/>
            <p:cNvSpPr/>
            <p:nvPr/>
          </p:nvSpPr>
          <p:spPr>
            <a:xfrm>
              <a:off x="1359000" y="56134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计划销量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23" name="TextBox 108"/>
            <p:cNvSpPr/>
            <p:nvPr/>
          </p:nvSpPr>
          <p:spPr>
            <a:xfrm>
              <a:off x="2273400" y="56134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实际销量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24" name="TextBox 108"/>
            <p:cNvSpPr/>
            <p:nvPr/>
          </p:nvSpPr>
          <p:spPr>
            <a:xfrm>
              <a:off x="3340080" y="56134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计划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额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25" name="TextBox 108"/>
            <p:cNvSpPr/>
            <p:nvPr/>
          </p:nvSpPr>
          <p:spPr>
            <a:xfrm>
              <a:off x="4254480" y="56134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实际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销售额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447920" y="3825720"/>
            <a:ext cx="3504600" cy="1647720"/>
            <a:chOff x="1447920" y="3825720"/>
            <a:chExt cx="3504600" cy="1647720"/>
          </a:xfrm>
        </p:grpSpPr>
        <p:grpSp>
          <p:nvGrpSpPr>
            <p:cNvPr id="127" name=""/>
            <p:cNvGrpSpPr/>
            <p:nvPr/>
          </p:nvGrpSpPr>
          <p:grpSpPr>
            <a:xfrm>
              <a:off x="2342880" y="3992040"/>
              <a:ext cx="475920" cy="1481400"/>
              <a:chOff x="2342880" y="3992040"/>
              <a:chExt cx="475920" cy="1481400"/>
            </a:xfrm>
          </p:grpSpPr>
          <p:sp>
            <p:nvSpPr>
              <p:cNvPr id="128" name="Rectangle 48"/>
              <p:cNvSpPr/>
              <p:nvPr/>
            </p:nvSpPr>
            <p:spPr>
              <a:xfrm>
                <a:off x="2342880" y="3996360"/>
                <a:ext cx="475920" cy="14770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99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29" name="圆角矩形 47"/>
              <p:cNvSpPr/>
              <p:nvPr/>
            </p:nvSpPr>
            <p:spPr>
              <a:xfrm flipV="1" rot="16200000">
                <a:off x="1679400" y="4681800"/>
                <a:ext cx="1451160" cy="70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447920" y="4177800"/>
              <a:ext cx="495000" cy="1271880"/>
              <a:chOff x="1447920" y="4177800"/>
              <a:chExt cx="495000" cy="1271880"/>
            </a:xfrm>
          </p:grpSpPr>
          <p:sp>
            <p:nvSpPr>
              <p:cNvPr id="131" name="Rectangle 45"/>
              <p:cNvSpPr/>
              <p:nvPr/>
            </p:nvSpPr>
            <p:spPr>
              <a:xfrm>
                <a:off x="1447920" y="4179600"/>
                <a:ext cx="495000" cy="1270080"/>
              </a:xfrm>
              <a:prstGeom prst="rect">
                <a:avLst/>
              </a:prstGeom>
              <a:gradFill rotWithShape="0">
                <a:gsLst>
                  <a:gs pos="0">
                    <a:srgbClr val="f79646"/>
                  </a:gs>
                  <a:gs pos="100000">
                    <a:srgbClr val="98480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32" name="圆角矩形 48"/>
              <p:cNvSpPr/>
              <p:nvPr/>
            </p:nvSpPr>
            <p:spPr>
              <a:xfrm flipV="1" rot="16200000">
                <a:off x="879480" y="4765680"/>
                <a:ext cx="1242360" cy="65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581280" y="4025880"/>
              <a:ext cx="495000" cy="1423800"/>
              <a:chOff x="3581280" y="4025880"/>
              <a:chExt cx="495000" cy="1423800"/>
            </a:xfrm>
          </p:grpSpPr>
          <p:sp>
            <p:nvSpPr>
              <p:cNvPr id="134" name="Rectangle 45"/>
              <p:cNvSpPr/>
              <p:nvPr/>
            </p:nvSpPr>
            <p:spPr>
              <a:xfrm>
                <a:off x="3581280" y="4027320"/>
                <a:ext cx="495000" cy="1422360"/>
              </a:xfrm>
              <a:prstGeom prst="rect">
                <a:avLst/>
              </a:prstGeom>
              <a:gradFill rotWithShape="0">
                <a:gsLst>
                  <a:gs pos="0">
                    <a:srgbClr val="f79646"/>
                  </a:gs>
                  <a:gs pos="100000">
                    <a:srgbClr val="98480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35" name="圆角矩形 48"/>
              <p:cNvSpPr/>
              <p:nvPr/>
            </p:nvSpPr>
            <p:spPr>
              <a:xfrm flipV="1" rot="16200000">
                <a:off x="2938320" y="4688280"/>
                <a:ext cx="1391040" cy="65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476600" y="3825720"/>
              <a:ext cx="475920" cy="1647720"/>
              <a:chOff x="4476600" y="3825720"/>
              <a:chExt cx="475920" cy="1647720"/>
            </a:xfrm>
          </p:grpSpPr>
          <p:sp>
            <p:nvSpPr>
              <p:cNvPr id="137" name="Rectangle 48"/>
              <p:cNvSpPr/>
              <p:nvPr/>
            </p:nvSpPr>
            <p:spPr>
              <a:xfrm>
                <a:off x="4476600" y="3830400"/>
                <a:ext cx="475920" cy="16430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99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38" name="圆角矩形 47"/>
              <p:cNvSpPr/>
              <p:nvPr/>
            </p:nvSpPr>
            <p:spPr>
              <a:xfrm flipV="1" rot="16200000">
                <a:off x="3731400" y="4597200"/>
                <a:ext cx="1614240" cy="70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571680" y="2743200"/>
            <a:ext cx="5715000" cy="642600"/>
            <a:chOff x="571680" y="2743200"/>
            <a:chExt cx="5715000" cy="642600"/>
          </a:xfrm>
        </p:grpSpPr>
        <p:sp>
          <p:nvSpPr>
            <p:cNvPr id="140" name="TextBox 108"/>
            <p:cNvSpPr/>
            <p:nvPr/>
          </p:nvSpPr>
          <p:spPr>
            <a:xfrm>
              <a:off x="571680" y="2743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量</a:t>
              </a: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(m³)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1" name="TextBox 108"/>
            <p:cNvSpPr/>
            <p:nvPr/>
          </p:nvSpPr>
          <p:spPr>
            <a:xfrm>
              <a:off x="5295960" y="274320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额（万元）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6440" y="3530520"/>
            <a:ext cx="1066680" cy="1663560"/>
            <a:chOff x="406440" y="3530520"/>
            <a:chExt cx="1066680" cy="1663560"/>
          </a:xfrm>
        </p:grpSpPr>
        <p:sp>
          <p:nvSpPr>
            <p:cNvPr id="143" name="TextBox 108"/>
            <p:cNvSpPr/>
            <p:nvPr/>
          </p:nvSpPr>
          <p:spPr>
            <a:xfrm>
              <a:off x="406440" y="35305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4" name="TextBox 108"/>
            <p:cNvSpPr/>
            <p:nvPr/>
          </p:nvSpPr>
          <p:spPr>
            <a:xfrm>
              <a:off x="406440" y="3925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5" name="TextBox 108"/>
            <p:cNvSpPr/>
            <p:nvPr/>
          </p:nvSpPr>
          <p:spPr>
            <a:xfrm>
              <a:off x="406440" y="4368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6" name="TextBox 108"/>
            <p:cNvSpPr/>
            <p:nvPr/>
          </p:nvSpPr>
          <p:spPr>
            <a:xfrm>
              <a:off x="558720" y="4825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372280" y="3594240"/>
            <a:ext cx="914400" cy="1601640"/>
            <a:chOff x="5372280" y="3594240"/>
            <a:chExt cx="914400" cy="1601640"/>
          </a:xfrm>
        </p:grpSpPr>
        <p:sp>
          <p:nvSpPr>
            <p:cNvPr id="148" name="TextBox 108"/>
            <p:cNvSpPr/>
            <p:nvPr/>
          </p:nvSpPr>
          <p:spPr>
            <a:xfrm>
              <a:off x="5372280" y="482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9" name="TextBox 108"/>
            <p:cNvSpPr/>
            <p:nvPr/>
          </p:nvSpPr>
          <p:spPr>
            <a:xfrm>
              <a:off x="5372280" y="4432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0" name="TextBox 108"/>
            <p:cNvSpPr/>
            <p:nvPr/>
          </p:nvSpPr>
          <p:spPr>
            <a:xfrm>
              <a:off x="5372280" y="397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3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1" name="TextBox 108"/>
            <p:cNvSpPr/>
            <p:nvPr/>
          </p:nvSpPr>
          <p:spPr>
            <a:xfrm>
              <a:off x="5372280" y="3594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4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032520" y="1650960"/>
            <a:ext cx="32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销售量超 </a:t>
            </a:r>
            <a:r>
              <a:rPr b="1" lang="en-US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XX %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销售额超 </a:t>
            </a:r>
            <a:r>
              <a:rPr b="1" lang="en-US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XXXX </a:t>
            </a:r>
            <a:r>
              <a:rPr b="1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万元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153" name="图片 16" descr="www.3lian.com__008.png"/>
          <p:cNvPicPr/>
          <p:nvPr/>
        </p:nvPicPr>
        <p:blipFill>
          <a:blip r:embed="rId2"/>
          <a:srcRect l="22403" t="1890" r="20999" b="-32"/>
          <a:stretch/>
        </p:blipFill>
        <p:spPr>
          <a:xfrm>
            <a:off x="5969160" y="3289320"/>
            <a:ext cx="2241360" cy="24289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295280" y="3352680"/>
            <a:ext cx="4000680" cy="749160"/>
            <a:chOff x="1295280" y="3352680"/>
            <a:chExt cx="4000680" cy="749160"/>
          </a:xfrm>
        </p:grpSpPr>
        <p:sp>
          <p:nvSpPr>
            <p:cNvPr id="155" name="TextBox 108"/>
            <p:cNvSpPr/>
            <p:nvPr/>
          </p:nvSpPr>
          <p:spPr>
            <a:xfrm>
              <a:off x="1295280" y="3733560"/>
              <a:ext cx="96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6" name="TextBox 108"/>
            <p:cNvSpPr/>
            <p:nvPr/>
          </p:nvSpPr>
          <p:spPr>
            <a:xfrm>
              <a:off x="2209680" y="347976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7" name="TextBox 108"/>
            <p:cNvSpPr/>
            <p:nvPr/>
          </p:nvSpPr>
          <p:spPr>
            <a:xfrm>
              <a:off x="3555720" y="360684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8" name="TextBox 108"/>
            <p:cNvSpPr/>
            <p:nvPr/>
          </p:nvSpPr>
          <p:spPr>
            <a:xfrm>
              <a:off x="4368600" y="33526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980400" y="6248520"/>
            <a:ext cx="17078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30280" y="2044800"/>
            <a:ext cx="6962760" cy="3889440"/>
            <a:chOff x="1430280" y="2044800"/>
            <a:chExt cx="6962760" cy="3889440"/>
          </a:xfrm>
        </p:grpSpPr>
        <p:pic>
          <p:nvPicPr>
            <p:cNvPr id="165" name="圆角矩形 13" descr=""/>
            <p:cNvPicPr/>
            <p:nvPr/>
          </p:nvPicPr>
          <p:blipFill>
            <a:blip r:embed="rId2">
              <a:alphaModFix amt="30000"/>
            </a:blip>
            <a:stretch/>
          </p:blipFill>
          <p:spPr>
            <a:xfrm>
              <a:off x="1430280" y="2044800"/>
              <a:ext cx="6962760" cy="38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466640" y="2082960"/>
              <a:ext cx="6882120" cy="380988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517920" y="3081240"/>
            <a:ext cx="2698560" cy="2673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 flipV="1" rot="14400000">
            <a:off x="3578760" y="3056040"/>
            <a:ext cx="2602800" cy="271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51" y="1597"/>
                </a:moveTo>
                <a:arcTo wR="10800" hR="10800" stAng="-3506866" swAng="4137989"/>
                <a:lnTo>
                  <a:pt x="10800" y="10800"/>
                </a:lnTo>
                <a:close/>
              </a:path>
              <a:path fill="none" w="21600" h="21600">
                <a:moveTo>
                  <a:pt x="16451" y="1597"/>
                </a:moveTo>
                <a:arcTo wR="10800" hR="10800" stAng="-3506866" swAng="4137989"/>
              </a:path>
            </a:pathLst>
          </a:cu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 rot="13924200">
            <a:off x="3542400" y="3093840"/>
            <a:ext cx="2664360" cy="266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81" y="172"/>
                </a:moveTo>
                <a:arcTo wR="10800" hR="10800" stAng="-6013970" swAng="2874677"/>
                <a:lnTo>
                  <a:pt x="10800" y="10800"/>
                </a:lnTo>
                <a:close/>
              </a:path>
              <a:path fill="none" w="21600" h="21600">
                <a:moveTo>
                  <a:pt x="8881" y="172"/>
                </a:moveTo>
                <a:arcTo wR="10800" hR="10800" stAng="-6013970" swAng="2874677"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 rot="9746400">
            <a:off x="3549240" y="3078720"/>
            <a:ext cx="2665080" cy="266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16" y="522"/>
                </a:moveTo>
                <a:arcTo wR="10800" hR="10800" stAng="-4327303" swAng="999462"/>
                <a:lnTo>
                  <a:pt x="10800" y="10800"/>
                </a:lnTo>
                <a:close/>
              </a:path>
              <a:path fill="none" w="21600" h="21600">
                <a:moveTo>
                  <a:pt x="14116" y="522"/>
                </a:moveTo>
                <a:arcTo wR="10800" hR="10800" stAng="-4327303" swAng="999462"/>
              </a:path>
            </a:pathLst>
          </a:custGeom>
          <a:solidFill>
            <a:srgbClr val="776dc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73240" y="313056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629320" y="3143160"/>
            <a:ext cx="894960" cy="133560"/>
            <a:chOff x="5629320" y="3143160"/>
            <a:chExt cx="894960" cy="133560"/>
          </a:xfrm>
        </p:grpSpPr>
        <p:sp>
          <p:nvSpPr>
            <p:cNvPr id="173" name=""/>
            <p:cNvSpPr/>
            <p:nvPr/>
          </p:nvSpPr>
          <p:spPr>
            <a:xfrm flipV="1">
              <a:off x="5629320" y="3145680"/>
              <a:ext cx="216360" cy="131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52880" y="3143160"/>
              <a:ext cx="671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38560" y="2590920"/>
            <a:ext cx="1562040" cy="485280"/>
            <a:chOff x="5038560" y="2590920"/>
            <a:chExt cx="1562040" cy="485280"/>
          </a:xfrm>
        </p:grpSpPr>
        <p:sp>
          <p:nvSpPr>
            <p:cNvPr id="176" name=""/>
            <p:cNvSpPr/>
            <p:nvPr/>
          </p:nvSpPr>
          <p:spPr>
            <a:xfrm flipV="1">
              <a:off x="5038560" y="2599920"/>
              <a:ext cx="378000" cy="476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8800" y="2590920"/>
              <a:ext cx="1171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438720" y="2984760"/>
            <a:ext cx="2879280" cy="2881800"/>
            <a:chOff x="3438720" y="2984760"/>
            <a:chExt cx="2879280" cy="2881800"/>
          </a:xfrm>
        </p:grpSpPr>
        <p:sp>
          <p:nvSpPr>
            <p:cNvPr id="179" name=""/>
            <p:cNvSpPr/>
            <p:nvPr/>
          </p:nvSpPr>
          <p:spPr>
            <a:xfrm flipH="1" flipV="1" rot="5400000">
              <a:off x="3550680" y="3060360"/>
              <a:ext cx="266328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7" y="14192"/>
                  </a:moveTo>
                  <a:arcTo wR="10800" hR="10800" stAng="9701559" swAng="11928901"/>
                  <a:lnTo>
                    <a:pt x="10800" y="10800"/>
                  </a:lnTo>
                  <a:close/>
                </a:path>
                <a:path fill="none" w="21600" h="21600">
                  <a:moveTo>
                    <a:pt x="547" y="14192"/>
                  </a:moveTo>
                  <a:arcTo wR="10800" hR="10800" stAng="9701559" swAng="11928901"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 rot="11090400">
              <a:off x="3546360" y="3092040"/>
              <a:ext cx="2663640" cy="26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82" y="244"/>
                  </a:moveTo>
                  <a:arcTo wR="10800" hR="10800" stAng="-4667986" swAng="14880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82" y="244"/>
                  </a:moveTo>
                  <a:arcTo wR="10800" hR="10800" stAng="-4667986" swAng="1488023"/>
                </a:path>
              </a:pathLst>
            </a:custGeom>
            <a:solidFill>
              <a:srgbClr val="e467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397400" y="4035600"/>
              <a:ext cx="1896120" cy="1728720"/>
              <a:chOff x="4397400" y="4035600"/>
              <a:chExt cx="1896120" cy="172872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834440" y="4035600"/>
                <a:ext cx="1459080" cy="1712160"/>
                <a:chOff x="4834440" y="4035600"/>
                <a:chExt cx="1459080" cy="1712160"/>
              </a:xfrm>
            </p:grpSpPr>
            <p:sp>
              <p:nvSpPr>
                <p:cNvPr id="183" name=""/>
                <p:cNvSpPr/>
                <p:nvPr/>
              </p:nvSpPr>
              <p:spPr>
                <a:xfrm flipH="1" flipV="1" rot="1528800">
                  <a:off x="5646240" y="4040640"/>
                  <a:ext cx="347400" cy="142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 rot="2344200">
                  <a:off x="5536800" y="4250160"/>
                  <a:ext cx="34740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 rot="2640000">
                  <a:off x="5445000" y="4352400"/>
                  <a:ext cx="347400" cy="142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 rot="3172200">
                  <a:off x="5331600" y="4469400"/>
                  <a:ext cx="347040" cy="142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397400" y="4506120"/>
                <a:ext cx="1831680" cy="1258200"/>
                <a:chOff x="4397400" y="4506120"/>
                <a:chExt cx="1831680" cy="1258200"/>
              </a:xfrm>
            </p:grpSpPr>
            <p:sp>
              <p:nvSpPr>
                <p:cNvPr id="188" name=""/>
                <p:cNvSpPr/>
                <p:nvPr/>
              </p:nvSpPr>
              <p:spPr>
                <a:xfrm flipH="1" flipV="1" rot="2881800">
                  <a:off x="5409000" y="4400640"/>
                  <a:ext cx="349200" cy="142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 rot="3697200">
                  <a:off x="5226840" y="455148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 rot="3993000">
                  <a:off x="5103720" y="4610160"/>
                  <a:ext cx="349200" cy="142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 rot="4525200">
                  <a:off x="4953960" y="4675320"/>
                  <a:ext cx="349200" cy="142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993366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2" name=""/>
            <p:cNvSpPr/>
            <p:nvPr/>
          </p:nvSpPr>
          <p:spPr>
            <a:xfrm>
              <a:off x="3934080" y="4147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Arial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68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24600" y="46530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5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95960" y="3957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34160" y="3471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6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10160" y="3214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3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00280" y="73152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*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各区域销售情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图片 61" descr="www.laoluo.org_教3师介绍_AboutUs.png"/>
          <p:cNvPicPr/>
          <p:nvPr/>
        </p:nvPicPr>
        <p:blipFill>
          <a:blip r:embed="rId4"/>
          <a:stretch/>
        </p:blipFill>
        <p:spPr>
          <a:xfrm>
            <a:off x="-173160" y="4713120"/>
            <a:ext cx="3633840" cy="1959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558120" y="236700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8120" y="289728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00920" y="371484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52960" y="490068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457200" y="1752480"/>
            <a:ext cx="7696080" cy="3733920"/>
            <a:chOff x="457200" y="1752480"/>
            <a:chExt cx="7696080" cy="3733920"/>
          </a:xfrm>
        </p:grpSpPr>
        <p:sp>
          <p:nvSpPr>
            <p:cNvPr id="204" name="矩形 97"/>
            <p:cNvSpPr/>
            <p:nvPr/>
          </p:nvSpPr>
          <p:spPr>
            <a:xfrm>
              <a:off x="1143000" y="1752480"/>
              <a:ext cx="7010280" cy="3733920"/>
            </a:xfrm>
            <a:prstGeom prst="rect">
              <a:avLst/>
            </a:prstGeom>
            <a:solidFill>
              <a:srgbClr val="ffffff">
                <a:alpha val="13000"/>
              </a:srgbClr>
            </a:solidFill>
            <a:ln w="25560">
              <a:solidFill>
                <a:srgbClr val="17337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143000" y="2394000"/>
              <a:ext cx="76320" cy="2863800"/>
              <a:chOff x="1143000" y="2394000"/>
              <a:chExt cx="76320" cy="2863800"/>
            </a:xfrm>
          </p:grpSpPr>
          <p:sp>
            <p:nvSpPr>
              <p:cNvPr id="206" name="直接连接符 121"/>
              <p:cNvSpPr/>
              <p:nvPr/>
            </p:nvSpPr>
            <p:spPr>
              <a:xfrm>
                <a:off x="1143000" y="4539600"/>
                <a:ext cx="76320" cy="216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7" name="直接连接符 122"/>
              <p:cNvSpPr/>
              <p:nvPr/>
            </p:nvSpPr>
            <p:spPr>
              <a:xfrm>
                <a:off x="1143000" y="3826080"/>
                <a:ext cx="76320" cy="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8" name="直接连接符 123"/>
              <p:cNvSpPr/>
              <p:nvPr/>
            </p:nvSpPr>
            <p:spPr>
              <a:xfrm>
                <a:off x="1143000" y="3109680"/>
                <a:ext cx="76320" cy="216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9" name="直接连接符 124"/>
              <p:cNvSpPr/>
              <p:nvPr/>
            </p:nvSpPr>
            <p:spPr>
              <a:xfrm>
                <a:off x="1143000" y="2394000"/>
                <a:ext cx="76320" cy="216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0" name="直接连接符 125"/>
              <p:cNvSpPr/>
              <p:nvPr/>
            </p:nvSpPr>
            <p:spPr>
              <a:xfrm>
                <a:off x="1143000" y="5255640"/>
                <a:ext cx="76320" cy="216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57200" y="2286000"/>
              <a:ext cx="914400" cy="2502000"/>
              <a:chOff x="457200" y="2286000"/>
              <a:chExt cx="914400" cy="2502000"/>
            </a:xfrm>
          </p:grpSpPr>
          <p:sp>
            <p:nvSpPr>
              <p:cNvPr id="212" name="TextBox 108"/>
              <p:cNvSpPr/>
              <p:nvPr/>
            </p:nvSpPr>
            <p:spPr>
              <a:xfrm>
                <a:off x="457200" y="44197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1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3" name="TextBox 108"/>
              <p:cNvSpPr/>
              <p:nvPr/>
            </p:nvSpPr>
            <p:spPr>
              <a:xfrm>
                <a:off x="457200" y="36576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2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4" name="TextBox 108"/>
              <p:cNvSpPr/>
              <p:nvPr/>
            </p:nvSpPr>
            <p:spPr>
              <a:xfrm>
                <a:off x="457200" y="29718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3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5" name="TextBox 108"/>
              <p:cNvSpPr/>
              <p:nvPr/>
            </p:nvSpPr>
            <p:spPr>
              <a:xfrm>
                <a:off x="457200" y="22860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4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*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外区月度销售情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圆角矩形 51"/>
          <p:cNvSpPr/>
          <p:nvPr/>
        </p:nvSpPr>
        <p:spPr>
          <a:xfrm rot="16200000">
            <a:off x="2330280" y="44280"/>
            <a:ext cx="4572000" cy="7683480"/>
          </a:xfrm>
          <a:custGeom>
            <a:avLst/>
            <a:gdLst>
              <a:gd name="textAreaLeft" fmla="*/ 35640 w 4572000"/>
              <a:gd name="textAreaRight" fmla="*/ 4536360 w 4572000"/>
              <a:gd name="textAreaTop" fmla="*/ 35640 h 7683480"/>
              <a:gd name="textAreaBottom" fmla="*/ 7647840 h 7683480"/>
            </a:gdLst>
            <a:ahLst/>
            <a:rect l="textAreaLeft" t="textAreaTop" r="textAreaRight" b="textAreaBottom"/>
            <a:pathLst>
              <a:path w="21600" h="36299">
                <a:moveTo>
                  <a:pt x="578" y="0"/>
                </a:moveTo>
                <a:arcTo wR="578" hR="578" stAng="16200000" swAng="-5400000"/>
                <a:lnTo>
                  <a:pt x="0" y="35721"/>
                </a:lnTo>
                <a:arcTo wR="578" hR="578" stAng="10800000" swAng="-5400000"/>
                <a:lnTo>
                  <a:pt x="21022" y="36299"/>
                </a:lnTo>
                <a:arcTo wR="578" hR="578" stAng="5400000" swAng="-5400000"/>
                <a:lnTo>
                  <a:pt x="21600" y="578"/>
                </a:lnTo>
                <a:arcTo wR="578" hR="578" stAng="0" swAng="-5400000"/>
                <a:close/>
              </a:path>
            </a:pathLst>
          </a:custGeom>
          <a:solidFill>
            <a:srgbClr val="357da1">
              <a:alpha val="30000"/>
            </a:srgbClr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231920" y="5359320"/>
          <a:ext cx="6912000" cy="635040"/>
        </p:xfrm>
        <a:graphic>
          <a:graphicData uri="http://schemas.openxmlformats.org/drawingml/2006/table">
            <a:tbl>
              <a:tblPr/>
              <a:tblGrid>
                <a:gridCol w="682560"/>
                <a:gridCol w="741600"/>
                <a:gridCol w="688680"/>
                <a:gridCol w="692280"/>
                <a:gridCol w="744480"/>
                <a:gridCol w="660600"/>
                <a:gridCol w="669600"/>
                <a:gridCol w="675000"/>
                <a:gridCol w="720720"/>
                <a:gridCol w="636480"/>
              </a:tblGrid>
              <a:tr h="35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-3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27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1371600" y="2590920"/>
            <a:ext cx="6638400" cy="2763000"/>
            <a:chOff x="1371600" y="2590920"/>
            <a:chExt cx="6638400" cy="2763000"/>
          </a:xfrm>
        </p:grpSpPr>
        <p:grpSp>
          <p:nvGrpSpPr>
            <p:cNvPr id="220" name=""/>
            <p:cNvGrpSpPr/>
            <p:nvPr/>
          </p:nvGrpSpPr>
          <p:grpSpPr>
            <a:xfrm>
              <a:off x="1371600" y="4567320"/>
              <a:ext cx="533160" cy="706320"/>
              <a:chOff x="1371600" y="4567320"/>
              <a:chExt cx="533160" cy="706320"/>
            </a:xfrm>
          </p:grpSpPr>
          <p:pic>
            <p:nvPicPr>
              <p:cNvPr id="221" name="圆角矩形 13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1600" y="4567320"/>
                <a:ext cx="533160" cy="70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1437480" y="4615560"/>
                <a:ext cx="32616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066760" y="2590920"/>
              <a:ext cx="533160" cy="2763000"/>
              <a:chOff x="2066760" y="2590920"/>
              <a:chExt cx="533160" cy="2763000"/>
            </a:xfrm>
          </p:grpSpPr>
          <p:pic>
            <p:nvPicPr>
              <p:cNvPr id="224" name="圆角矩形 13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6760" y="2590920"/>
                <a:ext cx="533160" cy="276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2132640" y="2780280"/>
                <a:ext cx="326160" cy="24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743200" y="3546720"/>
              <a:ext cx="533160" cy="1772640"/>
              <a:chOff x="2743200" y="3546720"/>
              <a:chExt cx="533160" cy="1772640"/>
            </a:xfrm>
          </p:grpSpPr>
          <p:pic>
            <p:nvPicPr>
              <p:cNvPr id="227" name="圆角矩形 136" descr=""/>
              <p:cNvPicPr/>
              <p:nvPr/>
            </p:nvPicPr>
            <p:blipFill>
              <a:blip r:embed="rId4"/>
              <a:stretch/>
            </p:blipFill>
            <p:spPr>
              <a:xfrm>
                <a:off x="2743200" y="3546720"/>
                <a:ext cx="533160" cy="177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2809080" y="3668400"/>
                <a:ext cx="3261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438360" y="3403800"/>
              <a:ext cx="533160" cy="1925280"/>
              <a:chOff x="3438360" y="3403800"/>
              <a:chExt cx="533160" cy="1925280"/>
            </a:xfrm>
          </p:grpSpPr>
          <p:pic>
            <p:nvPicPr>
              <p:cNvPr id="230" name="圆角矩形 136" descr=""/>
              <p:cNvPicPr/>
              <p:nvPr/>
            </p:nvPicPr>
            <p:blipFill>
              <a:blip r:embed="rId5"/>
              <a:stretch/>
            </p:blipFill>
            <p:spPr>
              <a:xfrm>
                <a:off x="3438360" y="3403800"/>
                <a:ext cx="533160" cy="192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3504240" y="3535920"/>
                <a:ext cx="326160" cy="173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114800" y="3041640"/>
              <a:ext cx="564840" cy="2306520"/>
              <a:chOff x="4114800" y="3041640"/>
              <a:chExt cx="564840" cy="2306520"/>
            </a:xfrm>
          </p:grpSpPr>
          <p:pic>
            <p:nvPicPr>
              <p:cNvPr id="233" name="圆角矩形 136" descr=""/>
              <p:cNvPicPr/>
              <p:nvPr/>
            </p:nvPicPr>
            <p:blipFill>
              <a:blip r:embed="rId6"/>
              <a:stretch/>
            </p:blipFill>
            <p:spPr>
              <a:xfrm>
                <a:off x="4114800" y="3041640"/>
                <a:ext cx="564840" cy="23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4184640" y="3199680"/>
                <a:ext cx="345600" cy="207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800600" y="4146840"/>
              <a:ext cx="533160" cy="1163520"/>
              <a:chOff x="4800600" y="4146840"/>
              <a:chExt cx="533160" cy="1163520"/>
            </a:xfrm>
          </p:grpSpPr>
          <p:pic>
            <p:nvPicPr>
              <p:cNvPr id="236" name="圆角矩形 136" descr=""/>
              <p:cNvPicPr/>
              <p:nvPr/>
            </p:nvPicPr>
            <p:blipFill>
              <a:blip r:embed="rId7"/>
              <a:stretch/>
            </p:blipFill>
            <p:spPr>
              <a:xfrm>
                <a:off x="4800600" y="4146840"/>
                <a:ext cx="533160" cy="11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4866480" y="4226400"/>
                <a:ext cx="326160" cy="104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486400" y="4299120"/>
              <a:ext cx="533160" cy="1011240"/>
              <a:chOff x="5486400" y="4299120"/>
              <a:chExt cx="533160" cy="1011240"/>
            </a:xfrm>
          </p:grpSpPr>
          <p:pic>
            <p:nvPicPr>
              <p:cNvPr id="239" name="圆角矩形 136" descr=""/>
              <p:cNvPicPr/>
              <p:nvPr/>
            </p:nvPicPr>
            <p:blipFill>
              <a:blip r:embed="rId8"/>
              <a:stretch/>
            </p:blipFill>
            <p:spPr>
              <a:xfrm>
                <a:off x="5486400" y="4299120"/>
                <a:ext cx="533160" cy="10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5552280" y="4368240"/>
                <a:ext cx="326160" cy="91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172200" y="4375440"/>
              <a:ext cx="533160" cy="934920"/>
              <a:chOff x="6172200" y="4375440"/>
              <a:chExt cx="533160" cy="934920"/>
            </a:xfrm>
          </p:grpSpPr>
          <p:pic>
            <p:nvPicPr>
              <p:cNvPr id="242" name="圆角矩形 136" descr=""/>
              <p:cNvPicPr/>
              <p:nvPr/>
            </p:nvPicPr>
            <p:blipFill>
              <a:blip r:embed="rId9"/>
              <a:stretch/>
            </p:blipFill>
            <p:spPr>
              <a:xfrm>
                <a:off x="6172200" y="4375440"/>
                <a:ext cx="533160" cy="93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6238080" y="4439520"/>
                <a:ext cx="326160" cy="8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858000" y="4880160"/>
              <a:ext cx="533160" cy="382680"/>
              <a:chOff x="6858000" y="4880160"/>
              <a:chExt cx="533160" cy="382680"/>
            </a:xfrm>
          </p:grpSpPr>
          <p:pic>
            <p:nvPicPr>
              <p:cNvPr id="245" name="圆角矩形 1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58000" y="4880160"/>
                <a:ext cx="5331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6923880" y="4906440"/>
                <a:ext cx="326160" cy="34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543800" y="5175360"/>
              <a:ext cx="466200" cy="85680"/>
              <a:chOff x="7543800" y="5175360"/>
              <a:chExt cx="466200" cy="85680"/>
            </a:xfrm>
          </p:grpSpPr>
          <p:pic>
            <p:nvPicPr>
              <p:cNvPr id="248" name="圆角矩形 1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43800" y="5175360"/>
                <a:ext cx="466200" cy="8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7601400" y="5181120"/>
                <a:ext cx="285120" cy="7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TextBox 108"/>
          <p:cNvSpPr/>
          <p:nvPr/>
        </p:nvSpPr>
        <p:spPr>
          <a:xfrm>
            <a:off x="34308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量</a:t>
            </a:r>
            <a:r>
              <a:rPr b="1" lang="en-US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(m³)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1" name="TextBox 108"/>
          <p:cNvSpPr/>
          <p:nvPr/>
        </p:nvSpPr>
        <p:spPr>
          <a:xfrm>
            <a:off x="8077320" y="14349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售额（万元）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487692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01000" y="449568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01000" y="411480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373392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01000" y="335268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01000" y="297180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01000" y="257796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01000" y="213372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153280" y="1981080"/>
            <a:ext cx="914400" cy="1601640"/>
            <a:chOff x="8153280" y="1981080"/>
            <a:chExt cx="914400" cy="1601640"/>
          </a:xfrm>
        </p:grpSpPr>
        <p:sp>
          <p:nvSpPr>
            <p:cNvPr id="261" name="TextBox 108"/>
            <p:cNvSpPr/>
            <p:nvPr/>
          </p:nvSpPr>
          <p:spPr>
            <a:xfrm>
              <a:off x="8153280" y="32144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2" name="TextBox 108"/>
            <p:cNvSpPr/>
            <p:nvPr/>
          </p:nvSpPr>
          <p:spPr>
            <a:xfrm>
              <a:off x="8153280" y="2819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6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3" name="TextBox 108"/>
            <p:cNvSpPr/>
            <p:nvPr/>
          </p:nvSpPr>
          <p:spPr>
            <a:xfrm>
              <a:off x="8153280" y="2361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7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4" name="TextBox 108"/>
            <p:cNvSpPr/>
            <p:nvPr/>
          </p:nvSpPr>
          <p:spPr>
            <a:xfrm>
              <a:off x="815328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8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8153280" y="3581280"/>
            <a:ext cx="914400" cy="1601640"/>
            <a:chOff x="8153280" y="3581280"/>
            <a:chExt cx="914400" cy="1601640"/>
          </a:xfrm>
        </p:grpSpPr>
        <p:sp>
          <p:nvSpPr>
            <p:cNvPr id="266" name="TextBox 108"/>
            <p:cNvSpPr/>
            <p:nvPr/>
          </p:nvSpPr>
          <p:spPr>
            <a:xfrm>
              <a:off x="8153280" y="4814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7" name="TextBox 108"/>
            <p:cNvSpPr/>
            <p:nvPr/>
          </p:nvSpPr>
          <p:spPr>
            <a:xfrm>
              <a:off x="8153280" y="44193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8" name="TextBox 108"/>
            <p:cNvSpPr/>
            <p:nvPr/>
          </p:nvSpPr>
          <p:spPr>
            <a:xfrm>
              <a:off x="8153280" y="3962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3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9" name="TextBox 108"/>
            <p:cNvSpPr/>
            <p:nvPr/>
          </p:nvSpPr>
          <p:spPr>
            <a:xfrm>
              <a:off x="8153280" y="3581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4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523880" y="449568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1" name="未知"/>
          <p:cNvSpPr/>
          <p:nvPr/>
        </p:nvSpPr>
        <p:spPr>
          <a:xfrm>
            <a:off x="1574640" y="2249640"/>
            <a:ext cx="6172200" cy="2970000"/>
          </a:xfrm>
          <a:custGeom>
            <a:avLst/>
            <a:gdLst/>
            <a:ahLst/>
            <a:rect l="l" t="t" r="r" b="b"/>
            <a:pathLst>
              <a:path w="3888" h="1871">
                <a:moveTo>
                  <a:pt x="0" y="1479"/>
                </a:moveTo>
                <a:cubicBezTo>
                  <a:pt x="142" y="842"/>
                  <a:pt x="284" y="206"/>
                  <a:pt x="424" y="103"/>
                </a:cubicBezTo>
                <a:cubicBezTo>
                  <a:pt x="564" y="0"/>
                  <a:pt x="688" y="755"/>
                  <a:pt x="840" y="863"/>
                </a:cubicBezTo>
                <a:cubicBezTo>
                  <a:pt x="992" y="971"/>
                  <a:pt x="1185" y="836"/>
                  <a:pt x="1336" y="751"/>
                </a:cubicBezTo>
                <a:cubicBezTo>
                  <a:pt x="1487" y="666"/>
                  <a:pt x="1608" y="294"/>
                  <a:pt x="1744" y="351"/>
                </a:cubicBezTo>
                <a:cubicBezTo>
                  <a:pt x="1880" y="408"/>
                  <a:pt x="2007" y="937"/>
                  <a:pt x="2152" y="1095"/>
                </a:cubicBezTo>
                <a:cubicBezTo>
                  <a:pt x="2297" y="1253"/>
                  <a:pt x="2467" y="1254"/>
                  <a:pt x="2616" y="1303"/>
                </a:cubicBezTo>
                <a:cubicBezTo>
                  <a:pt x="2765" y="1352"/>
                  <a:pt x="2836" y="1296"/>
                  <a:pt x="3048" y="1391"/>
                </a:cubicBezTo>
                <a:cubicBezTo>
                  <a:pt x="3260" y="1486"/>
                  <a:pt x="3745" y="1791"/>
                  <a:pt x="3888" y="1871"/>
                </a:cubicBezTo>
              </a:path>
            </a:pathLst>
          </a:custGeom>
          <a:noFill/>
          <a:ln w="22320">
            <a:solidFill>
              <a:srgbClr val="1733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351792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339084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92640" y="275580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27680" y="3860640"/>
            <a:ext cx="164880" cy="1400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97080" y="234936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38680" y="422928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436896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85080" y="4749840"/>
            <a:ext cx="16488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58280" y="5130720"/>
            <a:ext cx="16488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1" name="TextBox 108"/>
          <p:cNvSpPr/>
          <p:nvPr/>
        </p:nvSpPr>
        <p:spPr>
          <a:xfrm>
            <a:off x="1168560" y="425304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373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2" name="TextBox 108"/>
          <p:cNvSpPr/>
          <p:nvPr/>
        </p:nvSpPr>
        <p:spPr>
          <a:xfrm>
            <a:off x="1803240" y="2106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3" name="TextBox 108"/>
          <p:cNvSpPr/>
          <p:nvPr/>
        </p:nvSpPr>
        <p:spPr>
          <a:xfrm>
            <a:off x="2743200" y="32749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4" name="TextBox 108"/>
          <p:cNvSpPr/>
          <p:nvPr/>
        </p:nvSpPr>
        <p:spPr>
          <a:xfrm>
            <a:off x="3416400" y="3071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5" name="TextBox 108"/>
          <p:cNvSpPr/>
          <p:nvPr/>
        </p:nvSpPr>
        <p:spPr>
          <a:xfrm>
            <a:off x="4343400" y="2627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6" name="TextBox 108"/>
          <p:cNvSpPr/>
          <p:nvPr/>
        </p:nvSpPr>
        <p:spPr>
          <a:xfrm>
            <a:off x="4889520" y="3643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7" name="TextBox 108"/>
          <p:cNvSpPr/>
          <p:nvPr/>
        </p:nvSpPr>
        <p:spPr>
          <a:xfrm>
            <a:off x="5448240" y="3960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8" name="TextBox 108"/>
          <p:cNvSpPr/>
          <p:nvPr/>
        </p:nvSpPr>
        <p:spPr>
          <a:xfrm>
            <a:off x="7480440" y="4888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9" name="TextBox 108"/>
          <p:cNvSpPr/>
          <p:nvPr/>
        </p:nvSpPr>
        <p:spPr>
          <a:xfrm>
            <a:off x="6134040" y="4151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0" name="TextBox 108"/>
          <p:cNvSpPr/>
          <p:nvPr/>
        </p:nvSpPr>
        <p:spPr>
          <a:xfrm>
            <a:off x="6807240" y="45450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291" name="图片 34" descr="www.3lian.com__002.png"/>
          <p:cNvPicPr/>
          <p:nvPr/>
        </p:nvPicPr>
        <p:blipFill>
          <a:blip r:embed="rId12">
            <a:grayscl/>
            <a:lum contrast="20000"/>
          </a:blip>
          <a:srcRect l="22470" t="35302" r="62277" b="5131"/>
          <a:stretch/>
        </p:blipFill>
        <p:spPr>
          <a:xfrm>
            <a:off x="-128520" y="4619520"/>
            <a:ext cx="1015920" cy="2492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963720" y="65008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圆角矩形 51"/>
          <p:cNvSpPr/>
          <p:nvPr/>
        </p:nvSpPr>
        <p:spPr>
          <a:xfrm rot="16200000">
            <a:off x="1765080" y="367920"/>
            <a:ext cx="4597560" cy="7061040"/>
          </a:xfrm>
          <a:custGeom>
            <a:avLst/>
            <a:gdLst>
              <a:gd name="textAreaLeft" fmla="*/ 36000 w 4597560"/>
              <a:gd name="textAreaRight" fmla="*/ 4561560 w 4597560"/>
              <a:gd name="textAreaTop" fmla="*/ 36000 h 7061040"/>
              <a:gd name="textAreaBottom" fmla="*/ 7025040 h 7061040"/>
            </a:gdLst>
            <a:ahLst/>
            <a:rect l="textAreaLeft" t="textAreaTop" r="textAreaRight" b="textAreaBottom"/>
            <a:pathLst>
              <a:path w="21600" h="33173">
                <a:moveTo>
                  <a:pt x="578" y="0"/>
                </a:moveTo>
                <a:arcTo wR="578" hR="578" stAng="16200000" swAng="-5400000"/>
                <a:lnTo>
                  <a:pt x="0" y="32595"/>
                </a:lnTo>
                <a:arcTo wR="578" hR="578" stAng="10800000" swAng="-5400000"/>
                <a:lnTo>
                  <a:pt x="21022" y="33173"/>
                </a:lnTo>
                <a:arcTo wR="578" hR="578" stAng="5400000" swAng="-5400000"/>
                <a:lnTo>
                  <a:pt x="21600" y="578"/>
                </a:lnTo>
                <a:arcTo wR="578" hR="578" stAng="0" swAng="-5400000"/>
                <a:close/>
              </a:path>
            </a:pathLst>
          </a:custGeom>
          <a:solidFill>
            <a:srgbClr val="357da1">
              <a:alpha val="30000"/>
            </a:srgbClr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4" name="未知"/>
          <p:cNvSpPr/>
          <p:nvPr/>
        </p:nvSpPr>
        <p:spPr>
          <a:xfrm>
            <a:off x="1460520" y="2287440"/>
            <a:ext cx="5219640" cy="2759400"/>
          </a:xfrm>
          <a:custGeom>
            <a:avLst/>
            <a:gdLst/>
            <a:ahLst/>
            <a:rect l="l" t="t" r="r" b="b"/>
            <a:pathLst>
              <a:path w="3288" h="1738">
                <a:moveTo>
                  <a:pt x="0" y="1311"/>
                </a:moveTo>
                <a:cubicBezTo>
                  <a:pt x="112" y="1524"/>
                  <a:pt x="224" y="1738"/>
                  <a:pt x="360" y="1711"/>
                </a:cubicBezTo>
                <a:cubicBezTo>
                  <a:pt x="496" y="1684"/>
                  <a:pt x="671" y="1386"/>
                  <a:pt x="816" y="1151"/>
                </a:cubicBezTo>
                <a:cubicBezTo>
                  <a:pt x="961" y="916"/>
                  <a:pt x="1100" y="304"/>
                  <a:pt x="1232" y="303"/>
                </a:cubicBezTo>
                <a:cubicBezTo>
                  <a:pt x="1364" y="302"/>
                  <a:pt x="1464" y="1110"/>
                  <a:pt x="1608" y="1143"/>
                </a:cubicBezTo>
                <a:cubicBezTo>
                  <a:pt x="1752" y="1176"/>
                  <a:pt x="1959" y="679"/>
                  <a:pt x="2096" y="503"/>
                </a:cubicBezTo>
                <a:cubicBezTo>
                  <a:pt x="2233" y="327"/>
                  <a:pt x="2309" y="0"/>
                  <a:pt x="2432" y="87"/>
                </a:cubicBezTo>
                <a:cubicBezTo>
                  <a:pt x="2555" y="174"/>
                  <a:pt x="2689" y="906"/>
                  <a:pt x="2832" y="1023"/>
                </a:cubicBezTo>
                <a:cubicBezTo>
                  <a:pt x="2975" y="1140"/>
                  <a:pt x="3212" y="830"/>
                  <a:pt x="3288" y="791"/>
                </a:cubicBezTo>
              </a:path>
            </a:pathLst>
          </a:custGeom>
          <a:noFill/>
          <a:ln w="22320">
            <a:solidFill>
              <a:srgbClr val="1733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5" name="矩形 97"/>
          <p:cNvSpPr/>
          <p:nvPr/>
        </p:nvSpPr>
        <p:spPr>
          <a:xfrm>
            <a:off x="1028880" y="1714680"/>
            <a:ext cx="6172200" cy="3733560"/>
          </a:xfrm>
          <a:prstGeom prst="rect">
            <a:avLst/>
          </a:prstGeom>
          <a:solidFill>
            <a:srgbClr val="ffffff">
              <a:alpha val="13000"/>
            </a:srgbClr>
          </a:solidFill>
          <a:ln w="25560">
            <a:solidFill>
              <a:srgbClr val="17337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280" y="76176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*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本区月度销售情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55600" y="5321160"/>
          <a:ext cx="5884920" cy="622440"/>
        </p:xfrm>
        <a:graphic>
          <a:graphicData uri="http://schemas.openxmlformats.org/drawingml/2006/table">
            <a:tbl>
              <a:tblPr/>
              <a:tblGrid>
                <a:gridCol w="657360"/>
                <a:gridCol w="655560"/>
                <a:gridCol w="658800"/>
                <a:gridCol w="658800"/>
                <a:gridCol w="681120"/>
                <a:gridCol w="637920"/>
                <a:gridCol w="641520"/>
                <a:gridCol w="687240"/>
                <a:gridCol w="606600"/>
              </a:tblGrid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28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8" name=""/>
          <p:cNvGrpSpPr/>
          <p:nvPr/>
        </p:nvGrpSpPr>
        <p:grpSpPr>
          <a:xfrm>
            <a:off x="1054080" y="2068560"/>
            <a:ext cx="5956200" cy="3317040"/>
            <a:chOff x="1054080" y="2068560"/>
            <a:chExt cx="5956200" cy="3317040"/>
          </a:xfrm>
        </p:grpSpPr>
        <p:grpSp>
          <p:nvGrpSpPr>
            <p:cNvPr id="299" name=""/>
            <p:cNvGrpSpPr/>
            <p:nvPr/>
          </p:nvGrpSpPr>
          <p:grpSpPr>
            <a:xfrm>
              <a:off x="1054080" y="4037040"/>
              <a:ext cx="748800" cy="1274760"/>
              <a:chOff x="1054080" y="4037040"/>
              <a:chExt cx="748800" cy="12747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1270080" y="4605480"/>
                <a:ext cx="532800" cy="706320"/>
                <a:chOff x="1270080" y="4605480"/>
                <a:chExt cx="532800" cy="706320"/>
              </a:xfrm>
            </p:grpSpPr>
            <p:pic>
              <p:nvPicPr>
                <p:cNvPr id="301" name="圆角矩形 13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70080" y="4605480"/>
                  <a:ext cx="532800" cy="70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>
                  <a:off x="1335960" y="4653720"/>
                  <a:ext cx="325800" cy="63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1409760" y="4292640"/>
                <a:ext cx="164880" cy="13968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1733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4" name="TextBox 108"/>
              <p:cNvSpPr/>
              <p:nvPr/>
            </p:nvSpPr>
            <p:spPr>
              <a:xfrm>
                <a:off x="1054080" y="4037040"/>
                <a:ext cx="5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xx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889280" y="4684680"/>
              <a:ext cx="752400" cy="699840"/>
              <a:chOff x="1889280" y="4684680"/>
              <a:chExt cx="752400" cy="69984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1889280" y="5092560"/>
                <a:ext cx="533160" cy="185760"/>
                <a:chOff x="1889280" y="5092560"/>
                <a:chExt cx="533160" cy="185760"/>
              </a:xfrm>
            </p:grpSpPr>
            <p:pic>
              <p:nvPicPr>
                <p:cNvPr id="307" name="圆角矩形 13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9280" y="5092560"/>
                  <a:ext cx="5331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>
                  <a:off x="1955160" y="5105160"/>
                  <a:ext cx="326160" cy="16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057400" y="4914720"/>
                <a:ext cx="165240" cy="13968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1733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10" name="TextBox 108"/>
              <p:cNvSpPr/>
              <p:nvPr/>
            </p:nvSpPr>
            <p:spPr>
              <a:xfrm>
                <a:off x="2070360" y="4684680"/>
                <a:ext cx="57132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xx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565360" y="2068560"/>
              <a:ext cx="4444920" cy="3317040"/>
              <a:chOff x="2565360" y="2068560"/>
              <a:chExt cx="4444920" cy="331704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2565360" y="3859200"/>
                <a:ext cx="749160" cy="1447920"/>
                <a:chOff x="2565360" y="3859200"/>
                <a:chExt cx="749160" cy="144792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2565360" y="4245120"/>
                  <a:ext cx="533160" cy="1062000"/>
                  <a:chOff x="2565360" y="4245120"/>
                  <a:chExt cx="533160" cy="1062000"/>
                </a:xfrm>
              </p:grpSpPr>
              <p:pic>
                <p:nvPicPr>
                  <p:cNvPr id="314" name="圆角矩形 1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4245120"/>
                    <a:ext cx="5331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5" name=""/>
                  <p:cNvSpPr/>
                  <p:nvPr/>
                </p:nvSpPr>
                <p:spPr>
                  <a:xfrm>
                    <a:off x="2631240" y="4317840"/>
                    <a:ext cx="326160" cy="9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"/>
                <p:cNvSpPr/>
                <p:nvPr/>
              </p:nvSpPr>
              <p:spPr>
                <a:xfrm>
                  <a:off x="2692440" y="4064040"/>
                  <a:ext cx="164880" cy="13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17" name="TextBox 108"/>
                <p:cNvSpPr/>
                <p:nvPr/>
              </p:nvSpPr>
              <p:spPr>
                <a:xfrm>
                  <a:off x="2743200" y="3859200"/>
                  <a:ext cx="57132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882880" y="2730600"/>
                <a:ext cx="898200" cy="2635920"/>
                <a:chOff x="2882880" y="2730600"/>
                <a:chExt cx="898200" cy="2635920"/>
              </a:xfrm>
            </p:grpSpPr>
            <p:grpSp>
              <p:nvGrpSpPr>
                <p:cNvPr id="319" name=""/>
                <p:cNvGrpSpPr/>
                <p:nvPr/>
              </p:nvGrpSpPr>
              <p:grpSpPr>
                <a:xfrm>
                  <a:off x="3247920" y="2895480"/>
                  <a:ext cx="533160" cy="2471040"/>
                  <a:chOff x="3247920" y="2895480"/>
                  <a:chExt cx="533160" cy="2471040"/>
                </a:xfrm>
              </p:grpSpPr>
              <p:pic>
                <p:nvPicPr>
                  <p:cNvPr id="320" name="圆角矩形 13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7920" y="2895480"/>
                    <a:ext cx="533160" cy="24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1" name=""/>
                  <p:cNvSpPr/>
                  <p:nvPr/>
                </p:nvSpPr>
                <p:spPr>
                  <a:xfrm>
                    <a:off x="3313800" y="3065040"/>
                    <a:ext cx="326160" cy="222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"/>
                <p:cNvSpPr/>
                <p:nvPr/>
              </p:nvSpPr>
              <p:spPr>
                <a:xfrm>
                  <a:off x="3378240" y="2730600"/>
                  <a:ext cx="164880" cy="139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23" name="TextBox 108"/>
                <p:cNvSpPr/>
                <p:nvPr/>
              </p:nvSpPr>
              <p:spPr>
                <a:xfrm>
                  <a:off x="2882880" y="2817720"/>
                  <a:ext cx="571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619440" y="3643200"/>
                <a:ext cx="806040" cy="1666800"/>
                <a:chOff x="3619440" y="3643200"/>
                <a:chExt cx="806040" cy="166680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3860640" y="4197240"/>
                  <a:ext cx="564840" cy="1112760"/>
                  <a:chOff x="3860640" y="4197240"/>
                  <a:chExt cx="564840" cy="1112760"/>
                </a:xfrm>
              </p:grpSpPr>
              <p:pic>
                <p:nvPicPr>
                  <p:cNvPr id="326" name="圆角矩形 1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0640" y="4197240"/>
                    <a:ext cx="56484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7" name=""/>
                  <p:cNvSpPr/>
                  <p:nvPr/>
                </p:nvSpPr>
                <p:spPr>
                  <a:xfrm>
                    <a:off x="3930480" y="4273560"/>
                    <a:ext cx="345600" cy="100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"/>
                <p:cNvSpPr/>
                <p:nvPr/>
              </p:nvSpPr>
              <p:spPr>
                <a:xfrm>
                  <a:off x="4013280" y="3949560"/>
                  <a:ext cx="164880" cy="13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29" name="TextBox 108"/>
                <p:cNvSpPr/>
                <p:nvPr/>
              </p:nvSpPr>
              <p:spPr>
                <a:xfrm>
                  <a:off x="3619440" y="3643200"/>
                  <a:ext cx="571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292640" y="2817720"/>
                <a:ext cx="799200" cy="2542680"/>
                <a:chOff x="4292640" y="2817720"/>
                <a:chExt cx="799200" cy="254268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4559040" y="3079800"/>
                  <a:ext cx="532800" cy="2280600"/>
                  <a:chOff x="4559040" y="3079800"/>
                  <a:chExt cx="532800" cy="2280600"/>
                </a:xfrm>
              </p:grpSpPr>
              <p:pic>
                <p:nvPicPr>
                  <p:cNvPr id="332" name="圆角矩形 13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59040" y="3079800"/>
                    <a:ext cx="532800" cy="228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3" name=""/>
                  <p:cNvSpPr/>
                  <p:nvPr/>
                </p:nvSpPr>
                <p:spPr>
                  <a:xfrm>
                    <a:off x="4624920" y="3236040"/>
                    <a:ext cx="325800" cy="2054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4711320" y="3035160"/>
                  <a:ext cx="164880" cy="13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35" name="TextBox 108"/>
                <p:cNvSpPr/>
                <p:nvPr/>
              </p:nvSpPr>
              <p:spPr>
                <a:xfrm>
                  <a:off x="4292640" y="2817720"/>
                  <a:ext cx="59652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105520" y="2068560"/>
                <a:ext cx="571320" cy="3317040"/>
                <a:chOff x="5105520" y="2068560"/>
                <a:chExt cx="571320" cy="331704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5143320" y="2292480"/>
                  <a:ext cx="532800" cy="3093120"/>
                  <a:chOff x="5143320" y="2292480"/>
                  <a:chExt cx="532800" cy="3093120"/>
                </a:xfrm>
              </p:grpSpPr>
              <p:pic>
                <p:nvPicPr>
                  <p:cNvPr id="338" name="圆角矩形 1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3320" y="2292480"/>
                    <a:ext cx="532800" cy="309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9" name=""/>
                  <p:cNvSpPr/>
                  <p:nvPr/>
                </p:nvSpPr>
                <p:spPr>
                  <a:xfrm>
                    <a:off x="5209200" y="2504520"/>
                    <a:ext cx="325800" cy="2786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308200" y="2400480"/>
                  <a:ext cx="164880" cy="13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41" name="TextBox 108"/>
                <p:cNvSpPr/>
                <p:nvPr/>
              </p:nvSpPr>
              <p:spPr>
                <a:xfrm>
                  <a:off x="5105520" y="2068560"/>
                  <a:ext cx="57132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816520" y="3478320"/>
                <a:ext cx="698400" cy="1844280"/>
                <a:chOff x="5816520" y="3478320"/>
                <a:chExt cx="698400" cy="18442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5816520" y="3854520"/>
                  <a:ext cx="533160" cy="1468080"/>
                  <a:chOff x="5816520" y="3854520"/>
                  <a:chExt cx="533160" cy="1468080"/>
                </a:xfrm>
              </p:grpSpPr>
              <p:pic>
                <p:nvPicPr>
                  <p:cNvPr id="344" name="圆角矩形 13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16520" y="3854520"/>
                    <a:ext cx="533160" cy="14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5" name=""/>
                  <p:cNvSpPr/>
                  <p:nvPr/>
                </p:nvSpPr>
                <p:spPr>
                  <a:xfrm>
                    <a:off x="5882400" y="3955320"/>
                    <a:ext cx="326160" cy="13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5981760" y="3797280"/>
                  <a:ext cx="164880" cy="13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47" name="TextBox 108"/>
                <p:cNvSpPr/>
                <p:nvPr/>
              </p:nvSpPr>
              <p:spPr>
                <a:xfrm>
                  <a:off x="5943600" y="3478320"/>
                  <a:ext cx="57132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438960" y="3148200"/>
                <a:ext cx="571320" cy="2190240"/>
                <a:chOff x="6438960" y="3148200"/>
                <a:chExt cx="571320" cy="219024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6464160" y="3546720"/>
                  <a:ext cx="532440" cy="1791720"/>
                  <a:chOff x="6464160" y="3546720"/>
                  <a:chExt cx="532440" cy="1791720"/>
                </a:xfrm>
              </p:grpSpPr>
              <p:pic>
                <p:nvPicPr>
                  <p:cNvPr id="350" name="圆角矩形 1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4160" y="3546720"/>
                    <a:ext cx="532440" cy="179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1" name=""/>
                  <p:cNvSpPr/>
                  <p:nvPr/>
                </p:nvSpPr>
                <p:spPr>
                  <a:xfrm>
                    <a:off x="6529680" y="3669480"/>
                    <a:ext cx="325800" cy="161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>
                  <a:off x="6603840" y="3480120"/>
                  <a:ext cx="164520" cy="13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53" name="TextBox 108"/>
                <p:cNvSpPr/>
                <p:nvPr/>
              </p:nvSpPr>
              <p:spPr>
                <a:xfrm>
                  <a:off x="6438960" y="3148200"/>
                  <a:ext cx="57132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4" name="TextBox 108"/>
          <p:cNvSpPr/>
          <p:nvPr/>
        </p:nvSpPr>
        <p:spPr>
          <a:xfrm>
            <a:off x="7112160" y="13842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售额（万元）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061040" y="1981080"/>
            <a:ext cx="1066680" cy="3201840"/>
            <a:chOff x="7061040" y="1981080"/>
            <a:chExt cx="1066680" cy="3201840"/>
          </a:xfrm>
        </p:grpSpPr>
        <p:sp>
          <p:nvSpPr>
            <p:cNvPr id="356" name=""/>
            <p:cNvSpPr/>
            <p:nvPr/>
          </p:nvSpPr>
          <p:spPr>
            <a:xfrm>
              <a:off x="7061040" y="48765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61040" y="449568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61040" y="411480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1040" y="37335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1040" y="335268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1040" y="297180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61040" y="25779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61040" y="21333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213320" y="1981080"/>
              <a:ext cx="914400" cy="3201840"/>
              <a:chOff x="7213320" y="1981080"/>
              <a:chExt cx="914400" cy="320184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7213320" y="1981080"/>
                <a:ext cx="914400" cy="1601640"/>
                <a:chOff x="7213320" y="1981080"/>
                <a:chExt cx="914400" cy="1601640"/>
              </a:xfrm>
            </p:grpSpPr>
            <p:sp>
              <p:nvSpPr>
                <p:cNvPr id="366" name="TextBox 108"/>
                <p:cNvSpPr/>
                <p:nvPr/>
              </p:nvSpPr>
              <p:spPr>
                <a:xfrm>
                  <a:off x="7213320" y="321444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5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67" name="TextBox 108"/>
                <p:cNvSpPr/>
                <p:nvPr/>
              </p:nvSpPr>
              <p:spPr>
                <a:xfrm>
                  <a:off x="7213320" y="28191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6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68" name="TextBox 108"/>
                <p:cNvSpPr/>
                <p:nvPr/>
              </p:nvSpPr>
              <p:spPr>
                <a:xfrm>
                  <a:off x="7213320" y="23619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7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69" name="TextBox 108"/>
                <p:cNvSpPr/>
                <p:nvPr/>
              </p:nvSpPr>
              <p:spPr>
                <a:xfrm>
                  <a:off x="7213320" y="19810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8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7213320" y="3581280"/>
                <a:ext cx="914400" cy="1601640"/>
                <a:chOff x="7213320" y="3581280"/>
                <a:chExt cx="914400" cy="1601640"/>
              </a:xfrm>
            </p:grpSpPr>
            <p:sp>
              <p:nvSpPr>
                <p:cNvPr id="371" name="TextBox 108"/>
                <p:cNvSpPr/>
                <p:nvPr/>
              </p:nvSpPr>
              <p:spPr>
                <a:xfrm>
                  <a:off x="7213320" y="481464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1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2" name="TextBox 108"/>
                <p:cNvSpPr/>
                <p:nvPr/>
              </p:nvSpPr>
              <p:spPr>
                <a:xfrm>
                  <a:off x="7213320" y="44193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2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3" name="TextBox 108"/>
                <p:cNvSpPr/>
                <p:nvPr/>
              </p:nvSpPr>
              <p:spPr>
                <a:xfrm>
                  <a:off x="7213320" y="39621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3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4" name="TextBox 108"/>
                <p:cNvSpPr/>
                <p:nvPr/>
              </p:nvSpPr>
              <p:spPr>
                <a:xfrm>
                  <a:off x="7213320" y="35812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4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5" name=""/>
          <p:cNvGrpSpPr/>
          <p:nvPr/>
        </p:nvGrpSpPr>
        <p:grpSpPr>
          <a:xfrm>
            <a:off x="1038240" y="1852560"/>
            <a:ext cx="129960" cy="3098880"/>
            <a:chOff x="1038240" y="1852560"/>
            <a:chExt cx="129960" cy="3098880"/>
          </a:xfrm>
        </p:grpSpPr>
        <p:grpSp>
          <p:nvGrpSpPr>
            <p:cNvPr id="376" name=""/>
            <p:cNvGrpSpPr/>
            <p:nvPr/>
          </p:nvGrpSpPr>
          <p:grpSpPr>
            <a:xfrm>
              <a:off x="1039680" y="2880360"/>
              <a:ext cx="128520" cy="2071080"/>
              <a:chOff x="1039680" y="2880360"/>
              <a:chExt cx="128520" cy="2071080"/>
            </a:xfrm>
          </p:grpSpPr>
          <p:sp>
            <p:nvSpPr>
              <p:cNvPr id="377" name="直接连接符 121"/>
              <p:cNvSpPr/>
              <p:nvPr/>
            </p:nvSpPr>
            <p:spPr>
              <a:xfrm>
                <a:off x="1039680" y="4432320"/>
                <a:ext cx="128520" cy="144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78" name="直接连接符 122"/>
              <p:cNvSpPr/>
              <p:nvPr/>
            </p:nvSpPr>
            <p:spPr>
              <a:xfrm>
                <a:off x="1039680" y="3916080"/>
                <a:ext cx="128520" cy="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79" name="直接连接符 123"/>
              <p:cNvSpPr/>
              <p:nvPr/>
            </p:nvSpPr>
            <p:spPr>
              <a:xfrm>
                <a:off x="1039680" y="3398040"/>
                <a:ext cx="128520" cy="144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0" name="直接连接符 124"/>
              <p:cNvSpPr/>
              <p:nvPr/>
            </p:nvSpPr>
            <p:spPr>
              <a:xfrm>
                <a:off x="1039680" y="2880360"/>
                <a:ext cx="128520" cy="144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1" name="直接连接符 125"/>
              <p:cNvSpPr/>
              <p:nvPr/>
            </p:nvSpPr>
            <p:spPr>
              <a:xfrm>
                <a:off x="1039680" y="4950000"/>
                <a:ext cx="128520" cy="144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038240" y="1852560"/>
              <a:ext cx="128520" cy="2071080"/>
              <a:chOff x="1038240" y="1852560"/>
              <a:chExt cx="128520" cy="2071080"/>
            </a:xfrm>
          </p:grpSpPr>
          <p:sp>
            <p:nvSpPr>
              <p:cNvPr id="383" name="直接连接符 121"/>
              <p:cNvSpPr/>
              <p:nvPr/>
            </p:nvSpPr>
            <p:spPr>
              <a:xfrm>
                <a:off x="1038240" y="3404520"/>
                <a:ext cx="128520" cy="144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4" name="直接连接符 122"/>
              <p:cNvSpPr/>
              <p:nvPr/>
            </p:nvSpPr>
            <p:spPr>
              <a:xfrm>
                <a:off x="1038240" y="2888280"/>
                <a:ext cx="128520" cy="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5" name="直接连接符 123"/>
              <p:cNvSpPr/>
              <p:nvPr/>
            </p:nvSpPr>
            <p:spPr>
              <a:xfrm>
                <a:off x="1038240" y="2370240"/>
                <a:ext cx="128520" cy="144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6" name="直接连接符 124"/>
              <p:cNvSpPr/>
              <p:nvPr/>
            </p:nvSpPr>
            <p:spPr>
              <a:xfrm>
                <a:off x="1038240" y="1852560"/>
                <a:ext cx="128520" cy="144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7" name="直接连接符 125"/>
              <p:cNvSpPr/>
              <p:nvPr/>
            </p:nvSpPr>
            <p:spPr>
              <a:xfrm>
                <a:off x="1038240" y="3922200"/>
                <a:ext cx="128520" cy="144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279360" y="1498680"/>
            <a:ext cx="1219320" cy="3621240"/>
            <a:chOff x="279360" y="1498680"/>
            <a:chExt cx="1219320" cy="3621240"/>
          </a:xfrm>
        </p:grpSpPr>
        <p:sp>
          <p:nvSpPr>
            <p:cNvPr id="389" name="TextBox 108"/>
            <p:cNvSpPr/>
            <p:nvPr/>
          </p:nvSpPr>
          <p:spPr>
            <a:xfrm>
              <a:off x="279360" y="14986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量</a:t>
              </a: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(m³)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457200" y="2198880"/>
              <a:ext cx="1041480" cy="2921040"/>
              <a:chOff x="457200" y="2198880"/>
              <a:chExt cx="1041480" cy="2921040"/>
            </a:xfrm>
          </p:grpSpPr>
          <p:sp>
            <p:nvSpPr>
              <p:cNvPr id="391" name="TextBox 108"/>
              <p:cNvSpPr/>
              <p:nvPr/>
            </p:nvSpPr>
            <p:spPr>
              <a:xfrm>
                <a:off x="584280" y="475164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5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2" name="TextBox 108"/>
              <p:cNvSpPr/>
              <p:nvPr/>
            </p:nvSpPr>
            <p:spPr>
              <a:xfrm>
                <a:off x="469800" y="42307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1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3" name="TextBox 108"/>
              <p:cNvSpPr/>
              <p:nvPr/>
            </p:nvSpPr>
            <p:spPr>
              <a:xfrm>
                <a:off x="457200" y="32148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2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4" name="TextBox 108"/>
              <p:cNvSpPr/>
              <p:nvPr/>
            </p:nvSpPr>
            <p:spPr>
              <a:xfrm>
                <a:off x="457200" y="37483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15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5" name="TextBox 108"/>
              <p:cNvSpPr/>
              <p:nvPr/>
            </p:nvSpPr>
            <p:spPr>
              <a:xfrm>
                <a:off x="482760" y="270684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25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6" name="TextBox 108"/>
              <p:cNvSpPr/>
              <p:nvPr/>
            </p:nvSpPr>
            <p:spPr>
              <a:xfrm>
                <a:off x="482760" y="219888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3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pic>
        <p:nvPicPr>
          <p:cNvPr id="397" name="Picture 2" descr="C:\Documents and Settings\guxiaolu\桌面\QC\149_1600_zscosol.com.cn副本.png"/>
          <p:cNvPicPr/>
          <p:nvPr/>
        </p:nvPicPr>
        <p:blipFill>
          <a:blip r:embed="rId11"/>
          <a:stretch/>
        </p:blipFill>
        <p:spPr>
          <a:xfrm>
            <a:off x="7548480" y="3608280"/>
            <a:ext cx="15699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838080" y="16254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二）销售工作存在的问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01720" y="2400480"/>
            <a:ext cx="7591320" cy="796680"/>
            <a:chOff x="1701720" y="2400480"/>
            <a:chExt cx="7591320" cy="796680"/>
          </a:xfrm>
        </p:grpSpPr>
        <p:sp>
          <p:nvSpPr>
            <p:cNvPr id="400" name=""/>
            <p:cNvSpPr/>
            <p:nvPr/>
          </p:nvSpPr>
          <p:spPr>
            <a:xfrm>
              <a:off x="1774800" y="2400480"/>
              <a:ext cx="7518240" cy="79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aedf1"/>
                </a:gs>
                <a:gs pos="100000">
                  <a:srgbClr val="a3b2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01720" y="2697120"/>
              <a:ext cx="822240" cy="245520"/>
            </a:xfrm>
            <a:prstGeom prst="rightArrow">
              <a:avLst>
                <a:gd name="adj1" fmla="val 50000"/>
                <a:gd name="adj2" fmla="val 1395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98400" y="5757840"/>
            <a:ext cx="822600" cy="246240"/>
          </a:xfrm>
          <a:prstGeom prst="rightArrow">
            <a:avLst>
              <a:gd name="adj1" fmla="val 50000"/>
              <a:gd name="adj2" fmla="val 1391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2489040" y="2565360"/>
            <a:ext cx="53978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373"/>
                </a:solidFill>
                <a:latin typeface="Verdana"/>
                <a:ea typeface="宋体"/>
              </a:rPr>
              <a:t>1.</a:t>
            </a: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工作不连续，懒散思想导致断点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701720" y="3394080"/>
            <a:ext cx="7590600" cy="797040"/>
            <a:chOff x="1701720" y="3394080"/>
            <a:chExt cx="7590600" cy="797040"/>
          </a:xfrm>
        </p:grpSpPr>
        <p:grpSp>
          <p:nvGrpSpPr>
            <p:cNvPr id="405" name=""/>
            <p:cNvGrpSpPr/>
            <p:nvPr/>
          </p:nvGrpSpPr>
          <p:grpSpPr>
            <a:xfrm>
              <a:off x="1701720" y="3394080"/>
              <a:ext cx="7590600" cy="797040"/>
              <a:chOff x="1701720" y="3394080"/>
              <a:chExt cx="7590600" cy="797040"/>
            </a:xfrm>
          </p:grpSpPr>
          <p:sp>
            <p:nvSpPr>
              <p:cNvPr id="406" name=""/>
              <p:cNvSpPr/>
              <p:nvPr/>
            </p:nvSpPr>
            <p:spPr>
              <a:xfrm>
                <a:off x="1774800" y="3394080"/>
                <a:ext cx="7517520" cy="7970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1dff0"/>
                  </a:gs>
                  <a:gs pos="100000">
                    <a:srgbClr val="776d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01720" y="3696480"/>
                <a:ext cx="822240" cy="247320"/>
              </a:xfrm>
              <a:prstGeom prst="rightArrow">
                <a:avLst>
                  <a:gd name="adj1" fmla="val 50000"/>
                  <a:gd name="adj2" fmla="val 13852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489040" y="3530520"/>
              <a:ext cx="58294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73373"/>
                  </a:solidFill>
                  <a:latin typeface="Verdana"/>
                  <a:ea typeface="宋体"/>
                </a:rPr>
                <a:t>2.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应收账款比率大，谈判技巧亟待提高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701720" y="4432320"/>
            <a:ext cx="7590600" cy="797040"/>
            <a:chOff x="1701720" y="4432320"/>
            <a:chExt cx="7590600" cy="797040"/>
          </a:xfrm>
        </p:grpSpPr>
        <p:grpSp>
          <p:nvGrpSpPr>
            <p:cNvPr id="410" name=""/>
            <p:cNvGrpSpPr/>
            <p:nvPr/>
          </p:nvGrpSpPr>
          <p:grpSpPr>
            <a:xfrm>
              <a:off x="1701720" y="4432320"/>
              <a:ext cx="7590600" cy="797040"/>
              <a:chOff x="1701720" y="4432320"/>
              <a:chExt cx="7590600" cy="797040"/>
            </a:xfrm>
          </p:grpSpPr>
          <p:sp>
            <p:nvSpPr>
              <p:cNvPr id="411" name=""/>
              <p:cNvSpPr/>
              <p:nvPr/>
            </p:nvSpPr>
            <p:spPr>
              <a:xfrm>
                <a:off x="1774800" y="4432320"/>
                <a:ext cx="7517520" cy="7970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8ddcd"/>
                  </a:gs>
                  <a:gs pos="100000">
                    <a:srgbClr val="e4671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701720" y="4728600"/>
                <a:ext cx="822240" cy="246960"/>
              </a:xfrm>
              <a:prstGeom prst="rightArrow">
                <a:avLst>
                  <a:gd name="adj1" fmla="val 50000"/>
                  <a:gd name="adj2" fmla="val 13872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2489040" y="4559400"/>
              <a:ext cx="56008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73373"/>
                  </a:solidFill>
                  <a:latin typeface="Verdana"/>
                  <a:ea typeface="宋体"/>
                </a:rPr>
                <a:t>3.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错误判断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地区市场，工作存在盲点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714680" y="5448240"/>
            <a:ext cx="7590600" cy="797040"/>
            <a:chOff x="1714680" y="5448240"/>
            <a:chExt cx="7590600" cy="797040"/>
          </a:xfrm>
        </p:grpSpPr>
        <p:grpSp>
          <p:nvGrpSpPr>
            <p:cNvPr id="415" name=""/>
            <p:cNvGrpSpPr/>
            <p:nvPr/>
          </p:nvGrpSpPr>
          <p:grpSpPr>
            <a:xfrm>
              <a:off x="1714680" y="5448240"/>
              <a:ext cx="7590600" cy="797040"/>
              <a:chOff x="1714680" y="5448240"/>
              <a:chExt cx="7590600" cy="797040"/>
            </a:xfrm>
          </p:grpSpPr>
          <p:sp>
            <p:nvSpPr>
              <p:cNvPr id="416" name=""/>
              <p:cNvSpPr/>
              <p:nvPr/>
            </p:nvSpPr>
            <p:spPr>
              <a:xfrm>
                <a:off x="1787760" y="5448240"/>
                <a:ext cx="7517520" cy="7970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8d2dd"/>
                  </a:gs>
                  <a:gs pos="100000">
                    <a:srgbClr val="9933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714680" y="5744520"/>
                <a:ext cx="822240" cy="246960"/>
              </a:xfrm>
              <a:prstGeom prst="rightArrow">
                <a:avLst>
                  <a:gd name="adj1" fmla="val 50000"/>
                  <a:gd name="adj2" fmla="val 13872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2476800" y="5575320"/>
              <a:ext cx="55245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73373"/>
                  </a:solidFill>
                  <a:latin typeface="Verdana"/>
                  <a:ea typeface="宋体"/>
                </a:rPr>
                <a:t>4.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和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情况不佳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825480" y="774720"/>
            <a:ext cx="7620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*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rcRect l="8590" t="2520" r="57732" b="6162"/>
          <a:stretch/>
        </p:blipFill>
        <p:spPr>
          <a:xfrm>
            <a:off x="0" y="2063880"/>
            <a:ext cx="17906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2653920" y="1676520"/>
            <a:ext cx="5588280" cy="4495680"/>
            <a:chOff x="2653920" y="1676520"/>
            <a:chExt cx="5588280" cy="4495680"/>
          </a:xfrm>
        </p:grpSpPr>
        <p:sp>
          <p:nvSpPr>
            <p:cNvPr id="422" name=""/>
            <p:cNvSpPr/>
            <p:nvPr/>
          </p:nvSpPr>
          <p:spPr>
            <a:xfrm rot="10800000">
              <a:off x="2653920" y="1676160"/>
              <a:ext cx="5499000" cy="4495680"/>
            </a:xfrm>
            <a:prstGeom prst="rightArrow">
              <a:avLst>
                <a:gd name="adj1" fmla="val 79306"/>
                <a:gd name="adj2" fmla="val 30296"/>
              </a:avLst>
            </a:prstGeom>
            <a:gradFill rotWithShape="0">
              <a:gsLst>
                <a:gs pos="0">
                  <a:srgbClr val="776dc1">
                    <a:alpha val="77254"/>
                  </a:srgbClr>
                </a:gs>
                <a:gs pos="100000">
                  <a:srgbClr val="fefefe">
                    <a:alpha val="24313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78160" y="2070360"/>
              <a:ext cx="4038840" cy="9903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357da1"/>
                </a:gs>
                <a:gs pos="100000">
                  <a:srgbClr val="71a3bc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货运车辆与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发货量不匹配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78160" y="3441960"/>
              <a:ext cx="4038840" cy="9903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b6943e"/>
                </a:gs>
                <a:gs pos="100000">
                  <a:srgbClr val="e8bd5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能对销售的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依然存在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03720" y="4864320"/>
              <a:ext cx="4038480" cy="9903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776dc1"/>
                </a:gs>
                <a:gs pos="100000">
                  <a:srgbClr val="9f98d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部门内勤工作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条件落后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20560" y="2075040"/>
            <a:ext cx="2145960" cy="3309840"/>
            <a:chOff x="520560" y="2075040"/>
            <a:chExt cx="2145960" cy="3309840"/>
          </a:xfrm>
        </p:grpSpPr>
        <p:grpSp>
          <p:nvGrpSpPr>
            <p:cNvPr id="427" name=""/>
            <p:cNvGrpSpPr/>
            <p:nvPr/>
          </p:nvGrpSpPr>
          <p:grpSpPr>
            <a:xfrm>
              <a:off x="520560" y="2075040"/>
              <a:ext cx="2145960" cy="3309840"/>
              <a:chOff x="520560" y="2075040"/>
              <a:chExt cx="2145960" cy="3309840"/>
            </a:xfrm>
          </p:grpSpPr>
          <p:sp>
            <p:nvSpPr>
              <p:cNvPr id="428" name=""/>
              <p:cNvSpPr/>
              <p:nvPr/>
            </p:nvSpPr>
            <p:spPr>
              <a:xfrm>
                <a:off x="520560" y="2075040"/>
                <a:ext cx="2145960" cy="3309840"/>
              </a:xfrm>
              <a:custGeom>
                <a:avLst/>
                <a:gdLst>
                  <a:gd name="textAreaLeft" fmla="*/ 104760 w 2145960"/>
                  <a:gd name="textAreaRight" fmla="*/ 2041200 w 2145960"/>
                  <a:gd name="textAreaTop" fmla="*/ 104760 h 3309840"/>
                  <a:gd name="textAreaBottom" fmla="*/ 3205080 h 3309840"/>
                </a:gdLst>
                <a:ahLst/>
                <a:rect l="textAreaLeft" t="textAreaTop" r="textAreaRight" b="textAreaBottom"/>
                <a:pathLst>
                  <a:path w="21600" h="33313">
                    <a:moveTo>
                      <a:pt x="3600" y="0"/>
                    </a:moveTo>
                    <a:arcTo wR="3600" hR="3600" stAng="16200000" swAng="-5400000"/>
                    <a:lnTo>
                      <a:pt x="0" y="29713"/>
                    </a:lnTo>
                    <a:arcTo wR="3600" hR="3600" stAng="10800000" swAng="-5400000"/>
                    <a:lnTo>
                      <a:pt x="18000" y="333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4671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9480" y="2113200"/>
                <a:ext cx="196992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4671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23600" y="2936880"/>
              <a:ext cx="18669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.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非个人原因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方面的问题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381560" y="2311560"/>
            <a:ext cx="547560" cy="512280"/>
            <a:chOff x="4381560" y="2311560"/>
            <a:chExt cx="547560" cy="512280"/>
          </a:xfrm>
        </p:grpSpPr>
        <p:sp>
          <p:nvSpPr>
            <p:cNvPr id="432" name=""/>
            <p:cNvSpPr/>
            <p:nvPr/>
          </p:nvSpPr>
          <p:spPr>
            <a:xfrm>
              <a:off x="4381560" y="23115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86760" y="23115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92320" y="23115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81560" y="25038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6760" y="25038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92320" y="25038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81560" y="26960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86760" y="26960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92320" y="26960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330800" y="3683160"/>
            <a:ext cx="547560" cy="512280"/>
            <a:chOff x="4330800" y="3683160"/>
            <a:chExt cx="547560" cy="512280"/>
          </a:xfrm>
        </p:grpSpPr>
        <p:sp>
          <p:nvSpPr>
            <p:cNvPr id="442" name=""/>
            <p:cNvSpPr/>
            <p:nvPr/>
          </p:nvSpPr>
          <p:spPr>
            <a:xfrm>
              <a:off x="4330800" y="36831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36000" y="36831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41560" y="36831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0800" y="38754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536000" y="38754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41560" y="38754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30800" y="40676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36000" y="40676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41560" y="40676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381560" y="5130720"/>
            <a:ext cx="547560" cy="513000"/>
            <a:chOff x="4381560" y="5130720"/>
            <a:chExt cx="547560" cy="513000"/>
          </a:xfrm>
        </p:grpSpPr>
        <p:sp>
          <p:nvSpPr>
            <p:cNvPr id="452" name=""/>
            <p:cNvSpPr/>
            <p:nvPr/>
          </p:nvSpPr>
          <p:spPr>
            <a:xfrm>
              <a:off x="4381560" y="51307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86760" y="51307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92320" y="51307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81560" y="53229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86760" y="53229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92320" y="53229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81560" y="55155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6760" y="55155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92320" y="55155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461" name="图片 61" descr="www.laoluo.org_教3师介绍_AboutUs.png"/>
          <p:cNvPicPr/>
          <p:nvPr/>
        </p:nvPicPr>
        <p:blipFill>
          <a:blip r:embed="rId2"/>
          <a:srcRect l="55401" t="10767" r="0" b="15324"/>
          <a:stretch/>
        </p:blipFill>
        <p:spPr>
          <a:xfrm>
            <a:off x="216000" y="4330800"/>
            <a:ext cx="2419200" cy="21589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3032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rcRect l="6134" t="11594" r="8399" b="18593"/>
          <a:stretch/>
        </p:blipFill>
        <p:spPr>
          <a:xfrm>
            <a:off x="5241960" y="3503520"/>
            <a:ext cx="3990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376200" y="2146320"/>
            <a:ext cx="5261040" cy="4308120"/>
            <a:chOff x="376200" y="2146320"/>
            <a:chExt cx="5261040" cy="4308120"/>
          </a:xfrm>
        </p:grpSpPr>
        <p:pic>
          <p:nvPicPr>
            <p:cNvPr id="465" name="圆角矩形 13" descr=""/>
            <p:cNvPicPr/>
            <p:nvPr/>
          </p:nvPicPr>
          <p:blipFill>
            <a:blip r:embed="rId3">
              <a:alphaModFix amt="30000"/>
            </a:blip>
            <a:stretch/>
          </p:blipFill>
          <p:spPr>
            <a:xfrm>
              <a:off x="376200" y="2146320"/>
              <a:ext cx="5261040" cy="43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03560" y="2188440"/>
              <a:ext cx="5199840" cy="422028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*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15494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三）学习情况</a:t>
            </a: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469" name="图片 5" descr="www.ooosu.com__027_1600x1200_ooosu.com.png"/>
          <p:cNvPicPr/>
          <p:nvPr/>
        </p:nvPicPr>
        <p:blipFill>
          <a:blip r:embed="rId4"/>
          <a:srcRect l="4285" t="2857" r="25007" b="7142"/>
          <a:stretch/>
        </p:blipFill>
        <p:spPr>
          <a:xfrm>
            <a:off x="2341440" y="3795840"/>
            <a:ext cx="1633680" cy="208116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2073240" y="2298240"/>
            <a:ext cx="1855800" cy="1871640"/>
            <a:chOff x="2073240" y="2298240"/>
            <a:chExt cx="1855800" cy="1871640"/>
          </a:xfrm>
        </p:grpSpPr>
        <p:sp>
          <p:nvSpPr>
            <p:cNvPr id="471" name=""/>
            <p:cNvSpPr/>
            <p:nvPr/>
          </p:nvSpPr>
          <p:spPr>
            <a:xfrm rot="16200000">
              <a:off x="2065320" y="230616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357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33720" y="2997000"/>
              <a:ext cx="177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学习</a:t>
              </a:r>
              <a:endParaRPr b="0" lang="en-US" sz="2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52520" y="4161240"/>
            <a:ext cx="2540160" cy="2534040"/>
            <a:chOff x="452520" y="4161240"/>
            <a:chExt cx="2540160" cy="2534040"/>
          </a:xfrm>
        </p:grpSpPr>
        <p:sp>
          <p:nvSpPr>
            <p:cNvPr id="474" name=""/>
            <p:cNvSpPr/>
            <p:nvPr/>
          </p:nvSpPr>
          <p:spPr>
            <a:xfrm rot="9043800">
              <a:off x="786600" y="450036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e467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87320" y="533412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学习</a:t>
              </a:r>
              <a:endParaRPr b="0" lang="en-US" sz="2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995920" y="4170960"/>
            <a:ext cx="2546640" cy="2540520"/>
            <a:chOff x="2995920" y="4170960"/>
            <a:chExt cx="2546640" cy="2540520"/>
          </a:xfrm>
        </p:grpSpPr>
        <p:sp>
          <p:nvSpPr>
            <p:cNvPr id="477" name=""/>
            <p:cNvSpPr/>
            <p:nvPr/>
          </p:nvSpPr>
          <p:spPr>
            <a:xfrm rot="1788000">
              <a:off x="3333240" y="451332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776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52680" y="538488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学习</a:t>
              </a:r>
              <a:endParaRPr b="0" lang="en-US" sz="2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*</a:t>
            </a:r>
            <a:r>
              <a:rPr b="1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0280" y="163836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四）其他工作</a:t>
            </a: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07960" y="1325520"/>
            <a:ext cx="8334360" cy="3139920"/>
            <a:chOff x="507960" y="1325520"/>
            <a:chExt cx="8334360" cy="3139920"/>
          </a:xfrm>
        </p:grpSpPr>
        <p:sp>
          <p:nvSpPr>
            <p:cNvPr id="482" name="圆角矩形 69"/>
            <p:cNvSpPr/>
            <p:nvPr/>
          </p:nvSpPr>
          <p:spPr>
            <a:xfrm>
              <a:off x="507960" y="2643120"/>
              <a:ext cx="7975440" cy="1222560"/>
            </a:xfrm>
            <a:prstGeom prst="roundRect">
              <a:avLst>
                <a:gd name="adj" fmla="val 75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5400000"/>
            </a:gra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      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.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积极探索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工作的方法和路径，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赚取利润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万元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  <p:pic>
          <p:nvPicPr>
            <p:cNvPr id="483" name="图片 70" descr="www.laoluo.org_春季班常见问题及上课地点_tbyhfa.png"/>
            <p:cNvPicPr/>
            <p:nvPr/>
          </p:nvPicPr>
          <p:blipFill>
            <a:blip r:embed="rId2"/>
            <a:stretch/>
          </p:blipFill>
          <p:spPr>
            <a:xfrm>
              <a:off x="6407280" y="1325520"/>
              <a:ext cx="2435040" cy="31399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17000"/>
                </a:srgbClr>
              </a:outerShdw>
            </a:effectLst>
          </p:spPr>
        </p:pic>
      </p:grpSp>
      <p:sp>
        <p:nvSpPr>
          <p:cNvPr id="484" name="圆角矩形 68"/>
          <p:cNvSpPr/>
          <p:nvPr/>
        </p:nvSpPr>
        <p:spPr>
          <a:xfrm>
            <a:off x="1176480" y="3768840"/>
            <a:ext cx="6715080" cy="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176480" y="3822840"/>
            <a:ext cx="6721200" cy="2327040"/>
            <a:chOff x="1176480" y="3822840"/>
            <a:chExt cx="6721200" cy="2327040"/>
          </a:xfrm>
        </p:grpSpPr>
        <p:pic>
          <p:nvPicPr>
            <p:cNvPr id="486" name="圆角矩形 13" descr=""/>
            <p:cNvPicPr/>
            <p:nvPr/>
          </p:nvPicPr>
          <p:blipFill>
            <a:blip r:embed="rId3">
              <a:alphaModFix amt="30000"/>
            </a:blip>
            <a:stretch/>
          </p:blipFill>
          <p:spPr>
            <a:xfrm>
              <a:off x="1176480" y="3822840"/>
              <a:ext cx="672120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1211400" y="3845520"/>
              <a:ext cx="6643080" cy="22795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006640" y="4127400"/>
            <a:ext cx="618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2.</a:t>
            </a: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参与部门的部分日常事务</a:t>
            </a: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031840" y="4952880"/>
            <a:ext cx="618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3.</a:t>
            </a: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完成了领导交办的其他事项</a:t>
            </a:r>
            <a:r>
              <a:rPr b="0" lang="zh-CN" sz="18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4"/>
          <a:srcRect l="17849" t="10667" r="14975" b="2874"/>
          <a:stretch/>
        </p:blipFill>
        <p:spPr>
          <a:xfrm>
            <a:off x="190440" y="4533840"/>
            <a:ext cx="16448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1:57:28Z</dcterms:created>
  <dc:creator>ThemeGallery</dc:creator>
  <dc:description/>
  <dc:language>en-US</dc:language>
  <cp:lastModifiedBy>微软用户</cp:lastModifiedBy>
  <dcterms:modified xsi:type="dcterms:W3CDTF">2015-01-11T09:31:15Z</dcterms:modified>
  <cp:revision>58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