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353-9B56-44B1-A51A-73D28DE9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3480" y="1600200"/>
            <a:ext cx="8832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480" y="3964320"/>
            <a:ext cx="8832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95D-988B-4535-AFD8-A9E65DE8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3480" y="160020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89760" y="160020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80" y="396432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89760" y="396432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DBF-208E-466A-9085-89203120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3480" y="1600200"/>
            <a:ext cx="284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84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6600" y="1600200"/>
            <a:ext cx="284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3480" y="3964320"/>
            <a:ext cx="284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84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6600" y="3964320"/>
            <a:ext cx="284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553-1145-4A15-802C-5ED74D3F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3480" y="1600200"/>
            <a:ext cx="8832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95F-5748-403F-8FF0-4FD74395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3480" y="1600200"/>
            <a:ext cx="8832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C55-BCC2-4D7E-9F67-669D5F6D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3480" y="1600200"/>
            <a:ext cx="43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9760" y="1600200"/>
            <a:ext cx="43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4190-FB08-47A0-8D63-D568386B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E6F-8167-4383-9CE2-55C8634A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60240" y="228600"/>
            <a:ext cx="8832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8D5-56B2-42BA-9E46-EC01745A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3480" y="160020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89760" y="1600200"/>
            <a:ext cx="43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3480" y="396432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231-B62A-4061-80A4-64EE09EA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3480" y="1600200"/>
            <a:ext cx="43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9760" y="160020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89760" y="396432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5FC-A42F-4FBE-99CB-D384A503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3480" y="160020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9760" y="160020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3480" y="3964320"/>
            <a:ext cx="8832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D516-CDF1-469A-92CB-598C0066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3480" y="1600200"/>
            <a:ext cx="8832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3840" y="6248520"/>
            <a:ext cx="288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f271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F2CB-B54E-4DBB-B15D-AD3A64D258E2}" type="datetime">
              <a:rPr b="0" lang="zh-CN" sz="1400" spc="-1" strike="noStrike">
                <a:solidFill>
                  <a:srgbClr val="4f271c"/>
                </a:solidFill>
                <a:latin typeface="Arial"/>
              </a:rPr>
              <a:t>26/7/29</a:t>
            </a:fld>
            <a:r>
              <a:rPr b="0" lang="zh-CN" sz="1400" spc="-1" strike="noStrike">
                <a:solidFill>
                  <a:srgbClr val="4f271c"/>
                </a:solidFill>
                <a:latin typeface="Arial"/>
              </a:rPr>
              <a:t> </a:t>
            </a:r>
            <a:fld id="{E18C978F-6D5B-4334-A847-DC1534712E07}" type="datetime10">
              <a:rPr b="0" lang="zh-CN" sz="1400" spc="-1" strike="noStrike">
                <a:solidFill>
                  <a:srgbClr val="4f271c"/>
                </a:solidFill>
                <a:latin typeface="Arial"/>
              </a:rPr>
              <a:t>09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60240" y="6248520"/>
            <a:ext cx="587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906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7780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639720" y="1279440"/>
            <a:ext cx="92664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-360" y="1271160"/>
            <a:ext cx="577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A3E8-ABF0-437B-9640-D81A353A2AEF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90612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3240" y="6053040"/>
            <a:ext cx="243036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556000" y="6043680"/>
            <a:ext cx="7350120" cy="712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080" y="4343400"/>
            <a:ext cx="701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296c7d"/>
                </a:solidFill>
                <a:latin typeface="Tw Cen MT"/>
                <a:ea typeface="宋体"/>
              </a:rPr>
              <a:t>演示文稿标题</a:t>
            </a:r>
            <a:br>
              <a:rPr sz="3600"/>
            </a:br>
            <a:r>
              <a:rPr b="0" lang="zh-CN" sz="3600" spc="-1" strike="noStrike">
                <a:solidFill>
                  <a:srgbClr val="296c7d"/>
                </a:solidFill>
                <a:latin typeface="Tw Cen MT"/>
                <a:ea typeface="宋体"/>
              </a:rPr>
              <a:t>演示文稿副标题</a:t>
            </a:r>
            <a:endParaRPr b="0" lang="en-US" sz="36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58520" y="6049440"/>
            <a:ext cx="7264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w Cen MT"/>
                <a:ea typeface="宋体"/>
              </a:rPr>
              <a:t>讲师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w Cen MT"/>
                <a:ea typeface="宋体"/>
              </a:rPr>
              <a:t>课程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"/>
          <p:cNvSpPr/>
          <p:nvPr/>
        </p:nvSpPr>
        <p:spPr>
          <a:xfrm>
            <a:off x="352080" y="6238800"/>
            <a:ext cx="14212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348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总结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3480" y="1600200"/>
            <a:ext cx="8832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在此处添加总结。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B04-A6D2-4B60-AE67-C2C4A2EC75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663480" y="1755720"/>
            <a:ext cx="1749600" cy="2146320"/>
          </a:xfrm>
          <a:prstGeom prst="rect">
            <a:avLst/>
          </a:prstGeom>
          <a:ln cap="sq" w="50760">
            <a:solidFill>
              <a:srgbClr val="feb80a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9880" y="272520"/>
            <a:ext cx="87505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问题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/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讨论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58880" y="1752120"/>
            <a:ext cx="6934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问题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宋体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讨论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讨论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问题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宋体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讨论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问题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宋体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讨论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311-6980-4521-B439-E42105DBF9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4f271c"/>
                </a:solidFill>
                <a:latin typeface="Tw Cen MT"/>
              </a:rPr>
              <a:t>使用规范说明</a:t>
            </a:r>
            <a:endParaRPr b="0" lang="en-US" sz="40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7960" y="1376280"/>
            <a:ext cx="9126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w Cen MT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w Cen MT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w Cen MT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w Cen MT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w Cen MT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Tw Cen MT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w Cen MT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w Cen MT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w Cen MT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587520" y="4222800"/>
            <a:ext cx="89708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信息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59880" y="1752480"/>
            <a:ext cx="4210200" cy="4572000"/>
          </a:xfrm>
          <a:prstGeom prst="rect">
            <a:avLst/>
          </a:prstGeom>
          <a:noFill/>
          <a:ln w="19080">
            <a:solidFill>
              <a:srgbClr val="c58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课目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地点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日程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周一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周三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周五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实验 周二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周四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办公室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电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电子邮件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48440" y="1752480"/>
            <a:ext cx="4209840" cy="4572000"/>
          </a:xfrm>
          <a:prstGeom prst="rect">
            <a:avLst/>
          </a:prstGeom>
          <a:noFill/>
          <a:ln w="12600">
            <a:solidFill>
              <a:srgbClr val="c58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书籍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必需的文字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其他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资料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项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项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项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2D7-5E42-4C78-AF0B-11EB942FAF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348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日程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63480" y="1600200"/>
          <a:ext cx="8832960" cy="333684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  <a:gridCol w="2208240"/>
              </a:tblGrid>
              <a:tr h="37152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Tw Cen MT"/>
                          <a:ea typeface="宋体"/>
                        </a:rPr>
                        <a:t>课目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Tw Cen MT"/>
                          <a:ea typeface="宋体"/>
                        </a:rPr>
                        <a:t>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Tw Cen MT"/>
                          <a:ea typeface="宋体"/>
                        </a:rPr>
                        <a:t>主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Tw Cen MT"/>
                          <a:ea typeface="宋体"/>
                        </a:rPr>
                        <a:t>阅读内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Tw Cen MT"/>
                          <a:ea typeface="宋体"/>
                        </a:rPr>
                        <a:t>作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主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章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任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主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章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任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主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章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任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1257-584E-4169-BD01-AD3E7E6E48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663480" y="1755720"/>
            <a:ext cx="1749600" cy="2146320"/>
          </a:xfrm>
          <a:prstGeom prst="rect">
            <a:avLst/>
          </a:prstGeom>
          <a:ln cap="sq" w="50760">
            <a:solidFill>
              <a:srgbClr val="feb80a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9880" y="272520"/>
            <a:ext cx="87505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简介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/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课程说明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58880" y="1752120"/>
            <a:ext cx="6934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简介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介绍性注释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介绍性注释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介绍性注释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"/>
          <p:cNvSpPr/>
          <p:nvPr/>
        </p:nvSpPr>
        <p:spPr>
          <a:xfrm>
            <a:off x="351360" y="6454800"/>
            <a:ext cx="14212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2B9-623D-4FF6-9DA6-29A3319CFF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348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目标和结果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60240" y="1600200"/>
            <a:ext cx="8832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目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课程目标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课程目标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课程目标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结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预期结果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培养的技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技能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技能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260-F294-4821-8D0F-93C3024D40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348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词汇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63480" y="1600200"/>
            <a:ext cx="8832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术语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宋体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定义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定义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术语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宋体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定义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术语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宋体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定义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08E-6066-4E25-B5F2-090147049F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过程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/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演讲幻灯片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59880" y="1589040"/>
            <a:ext cx="4210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在此处添加过程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步骤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步骤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4788000" cy="4572000"/>
          </a:xfrm>
          <a:prstGeom prst="rect">
            <a:avLst/>
          </a:prstGeom>
          <a:ln w="50760">
            <a:solidFill>
              <a:srgbClr val="feb80a"/>
            </a:solidFill>
            <a:miter/>
          </a:ln>
        </p:spPr>
      </p:pic>
      <p:pic>
        <p:nvPicPr>
          <p:cNvPr id="66" name="Content Placeholder 4" descr=""/>
          <p:cNvPicPr/>
          <p:nvPr/>
        </p:nvPicPr>
        <p:blipFill>
          <a:blip r:embed="rId3"/>
          <a:stretch/>
        </p:blipFill>
        <p:spPr>
          <a:xfrm>
            <a:off x="4952880" y="1600200"/>
            <a:ext cx="4788000" cy="4572000"/>
          </a:xfrm>
          <a:prstGeom prst="rect">
            <a:avLst/>
          </a:prstGeom>
          <a:ln w="50760">
            <a:solidFill>
              <a:srgbClr val="feb80a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296640" y="6454800"/>
            <a:ext cx="14212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A66-7AED-42FD-8DDF-10BFA1B165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348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图形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/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图表 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1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69" name="Content Placeholder 5"/>
          <p:cNvSpPr/>
          <p:nvPr/>
        </p:nvSpPr>
        <p:spPr>
          <a:xfrm>
            <a:off x="663480" y="1600200"/>
            <a:ext cx="883296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7A5-1FE8-47B7-9A4B-6CDE83736F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348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图形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/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图表 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2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63480" y="1600200"/>
            <a:ext cx="8832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Content Placeholder 3"/>
          <p:cNvSpPr/>
          <p:nvPr/>
        </p:nvSpPr>
        <p:spPr>
          <a:xfrm>
            <a:off x="663480" y="1600200"/>
            <a:ext cx="883296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1360" y="6454800"/>
            <a:ext cx="14212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65C-ECA4-48CC-B640-EF3865B272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19:18Z</dcterms:created>
  <dc:creator>Administrator</dc:creator>
  <dc:description/>
  <dc:language>en-US</dc:language>
  <cp:lastModifiedBy/>
  <dcterms:modified xsi:type="dcterms:W3CDTF">2015-01-11T08:30:0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101671252052</vt:lpwstr>
  </property>
</Properties>
</file>