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890-1159-4098-8340-7047B83D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7C7-563F-4BBA-90DD-CA767EE7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6E8-9101-4E9E-937B-FBCC47D9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B40-25C5-45D3-8871-B2A431FB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580E-0B4F-4846-94A3-49317E2D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04D5-EF2A-4B5C-A5C8-495000AB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CDDC-6880-48E0-BB80-8845A54E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E1E0-BD5F-42D8-8FE5-504EA89B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FDEC-56F2-4168-BB3B-A956C5EB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0A7F-3BD7-485C-A3AF-1716916E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9E8C-7763-453C-BDED-7E258BA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941-E3E7-4073-86C3-F135E03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B998-AD98-4A44-B7EC-ADE5D9FC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9F78-7332-44D7-AC66-DEB97D20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BD51-9221-457C-80CF-47767DD3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7868-CF69-4F28-9E12-3FBE21A0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93A5-D926-4545-B353-4FA96BAD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731-58D4-48D1-82DD-BFD0C1E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1FD-476E-4A2B-9C0F-00E93E17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221-4C0E-4CFF-B530-BEE1C1CA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7C2-5ABE-4755-A502-DF09B36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1E7-727A-4F32-8B63-2745CA50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6CE-7333-4D56-B6E5-607EB44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9FA-381C-4939-A6C7-2BB7CA34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76D2-9608-4411-AA35-4C0A3BFE243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7880-CC92-4515-9163-E09AE9F198E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  <a:ea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23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1002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33cc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33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33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33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11:08Z</dcterms:created>
  <dc:creator>echo</dc:creator>
  <dc:description/>
  <dc:language>en-US</dc:language>
  <cp:lastModifiedBy>echo</cp:lastModifiedBy>
  <dcterms:modified xsi:type="dcterms:W3CDTF">2014-05-25T06:32:0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010596802052</vt:lpwstr>
  </property>
</Properties>
</file>