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491-A4D8-4A51-ADF7-35492C16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2C2-2A5F-4D9E-946A-7F790B5A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770-3697-450E-B6C2-84273CB0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E98-AEF6-4C5F-9FBD-4ACC7E12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503-E137-4D92-80AB-04BDB0C6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834-9B4C-48A9-A620-D4F35094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DC2-EA60-48CF-8941-68B5F204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C3B-07CA-4022-B3BF-565C3B2D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FC9-D625-493E-9752-FA12D7A9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A1B-76F8-40F1-8C78-9F50BF3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BB3-57D4-4B8A-AEF5-5E96C58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D1D-0A83-4BF8-A221-D3D5319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467A-B78A-491E-A9E0-FFDF0EB672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0EF-4D33-48FC-AAF2-A5383DBABD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60000"/>
            <a:ext cx="640080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9600" y="6486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6:20:00Z</dcterms:created>
  <dc:creator>Moyea Software</dc:creator>
  <dc:description>Made by Moyea Software. To find more free PowerPoint templates, please visit http://www.dvd-ppt-slideshow.com/powerpoint-knowledge/powerpoint-templates.html</dc:description>
  <cp:keywords>Disney free cartoon PowerPoint templates</cp:keywords>
  <dc:language>en-US</dc:language>
  <cp:lastModifiedBy>User</cp:lastModifiedBy>
  <dcterms:modified xsi:type="dcterms:W3CDTF">2015-01-11T12:25:54Z</dcterms:modified>
  <cp:revision>2</cp:revision>
  <dc:subject>Disney</dc:subject>
  <dc:title>Free Disney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