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8833-D843-4F49-9612-3955502C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0D35-93CE-49D0-984F-2933518F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12E9-70D9-4D7C-9C1C-E533389D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3F11-2B5C-4A18-ADC5-E2A9EF86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3F86-C4B4-4F7D-990A-5D32312C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8A63-E479-471B-B485-27E385D6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C5DDC-32CE-4C8A-A8D2-3897ABDE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9B18-15AF-4CC4-A6B2-B2B18A6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7C26-A06F-40B9-BC77-45D7302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7FBB-4176-4150-8867-CB9C6284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5BA0-1F1A-4404-AE7C-EEB9912E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DA3B-9623-43CB-B162-D3EDA14D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19C6380-9CE7-4652-9220-F0EB0E9EAD5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D2B0-AF03-459A-B0C8-EBEC3B5D74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688E-44CD-4912-BE75-C2462974E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8360" y="292392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7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28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1479600" y="220500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D522-7F86-4890-B694-2453BEE415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9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A0E5-7DC6-40B6-BF08-8B5DDB89A6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ERICLAU</cp:lastModifiedBy>
  <dcterms:modified xsi:type="dcterms:W3CDTF">2015-01-11T08:39:04Z</dcterms:modified>
  <cp:revision>2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