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A0A-A487-43DC-9419-D209609E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C73-3CBF-4EF6-B9AF-87F81474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E04-9733-4CAB-AE71-C0277166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ED8-9BE4-427D-BD09-4A17FAC6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D2B-19D3-4DF2-B09B-68708557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6E9-F6F7-4A3A-B89E-9A7FB90E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116-194E-4B04-B673-5EE37D54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C9D-EC57-4391-A605-A4802153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9B3-98C6-47B8-8054-5A81A4AF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FB2-AEA2-4A99-A9C1-DAA59924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55E-D463-4762-81A7-AA62E325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573-E865-4F01-946C-227C3E22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FFAD-2C99-4B70-B166-65F421402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2709720"/>
            <a:ext cx="3525840" cy="38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21540000">
            <a:off x="5559840" y="1317240"/>
            <a:ext cx="66780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寻找走失的那“</a:t>
            </a: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一抺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春野 班得瑞" descr="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00360" y="3070080"/>
            <a:ext cx="294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Monotype Corsiva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1557360"/>
            <a:ext cx="4897440" cy="6426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珍惜环境，爱护地球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40000" y="2421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时候，我经常跟家人去郊处玩耍，那时候天很蓝，云朵很白，树木成林，草地成毯，常常 躺在草地上遥望蓝天，构想着美丽的未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160" y="47520"/>
            <a:ext cx="9001080" cy="223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360" y="4365720"/>
            <a:ext cx="9001440" cy="2465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64000" y="2781360"/>
            <a:ext cx="332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到高兴时会傻傻的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到难过时会忧郁的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到快乐时会快乐的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草为我舞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树为我歌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河流为我伴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5257800" cy="453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5029200" cy="2752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5437440" cy="6813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39440" y="711360"/>
            <a:ext cx="4852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快乐在身边扩散，幸福在心间蔓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076640" y="755640"/>
            <a:ext cx="395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81000"/>
            <a:ext cx="468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色的摇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盛着我少年时期的梦想与欢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陪我一起长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61080" y="44280"/>
            <a:ext cx="4165560" cy="325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920" y="2854440"/>
            <a:ext cx="6048360" cy="3976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01040" y="981000"/>
            <a:ext cx="454680" cy="25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是，当我长大时再回到我的摇篮时，我看到那一座座耸入云天的高楼大厦，数不清的工业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24360" y="117360"/>
            <a:ext cx="5029200" cy="626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24000" y="184464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绿色摇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生命中那一抹绿走失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360" y="3141720"/>
            <a:ext cx="9001440" cy="3689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6360" y="2997360"/>
            <a:ext cx="9001440" cy="2320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4920" y="5302080"/>
            <a:ext cx="9109080" cy="1511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87640" y="1773360"/>
            <a:ext cx="47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要去寻找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寻找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44720" y="2565360"/>
            <a:ext cx="69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寻找走失的那</a:t>
            </a:r>
            <a:r>
              <a:rPr b="1" lang="zh-CN" sz="4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"</a:t>
            </a:r>
            <a:r>
              <a:rPr b="1" lang="zh-CN" sz="4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一抹绿</a:t>
            </a:r>
            <a:r>
              <a:rPr b="1" lang="zh-CN" sz="4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73680" y="76320"/>
            <a:ext cx="5027400" cy="22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8000" y="3645000"/>
            <a:ext cx="5029200" cy="3257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22:33:10Z</dcterms:created>
  <dc:creator/>
  <dc:description/>
  <dc:language>en-US</dc:language>
  <cp:lastModifiedBy/>
  <dcterms:modified xsi:type="dcterms:W3CDTF">2015-01-11T08:29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