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D702-F493-47B2-8624-DCE08E41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1D71-402F-47EE-8B02-2D3240E8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90F22-CAF4-4977-83E0-EE5A55EA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42CA-0531-45E7-A0F6-36D3D8A3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F14C-E800-49D1-B5D8-3E16362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49B4-B1FB-4A8F-9D69-4BE7B5A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5C2F-64C6-4CB2-AA1B-84681EA8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82AE-6143-4568-83B5-5C501C02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BA88-4400-4824-9E6D-EAEB309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FB58-6AFA-489D-8525-6A2B78A6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5B7C-E52D-4453-A024-434681F3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E69B-10C7-4BD4-A238-791B1D42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82160" cy="8366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6640"/>
            <a:ext cx="9182160" cy="73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7F40AFE-4A07-49C1-B1A3-D8F035A1535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76640"/>
            <a:ext cx="9182160" cy="17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182160" cy="171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3386-EC34-4C86-87E2-AB4943E6B6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D56A-93CD-4A2D-AEDB-216C592A7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8360" y="525420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32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33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6156360" y="263700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85080" y="6308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5BED-8C6E-42E6-BEC8-24B9B2063E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5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84CC-78A0-47F9-8521-BDCC175F5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1T11:30:17Z</dcterms:modified>
  <cp:revision>2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