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039D-24FD-4D9D-8407-81EB7929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E2B0-8A09-4A71-9E3B-5B269F3B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B8FE-290C-4285-9DC4-96BE6F88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147F-3B74-4078-BE95-5FB238FE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92F59-3045-476A-A496-A0A10BB5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F10CA-8ED3-45B9-9B7A-2E55E4B1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A6B1B-6AC2-436E-9BC6-DA1E828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31B28-F686-4470-AC37-3177277B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14FB5-ABC4-4D21-9C1D-B12C02EA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B6276-EAE6-47A4-94F1-193C56BE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1E905-51B5-4A6A-8342-8C4AF87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4484-8A2B-45C8-8089-8A9EC99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11A8-EEFF-45CE-8DDC-FC3C3A8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A7108-D4A3-48DE-80ED-DBD12A4E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5023B-2F8F-4328-AB15-346C0FA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357B6-0419-4CDF-A659-10C71A4A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E3F98-C9A2-4EAF-A582-2D46823F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9F2B-9AB6-47CE-B24D-EB4FECF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CF0B-580C-4B4F-8EFC-B5E26035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A7A8-D6DC-4E89-9FC3-42903525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F71D-E290-4898-8FB2-82995B0A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426C-DB14-483E-A6E5-D09B4A0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3B17-F3E8-41BE-BA64-13B873E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2537-DF2D-4052-B7EE-BB72AF5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页副本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963A-F052-4BE0-8C65-9E8FBA83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封面" descr=""/>
          <p:cNvPicPr/>
          <p:nvPr/>
        </p:nvPicPr>
        <p:blipFill>
          <a:blip r:embed="rId2"/>
          <a:srcRect l="0" t="2314" r="0" b="0"/>
          <a:stretch/>
        </p:blipFill>
        <p:spPr>
          <a:xfrm>
            <a:off x="1440" y="120600"/>
            <a:ext cx="914580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2214720"/>
            <a:ext cx="576108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1D8E-6BA0-409E-8087-94925D440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71280" y="2214720"/>
            <a:ext cx="576108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71280" y="3024360"/>
            <a:ext cx="5761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2720" y="2034720"/>
            <a:ext cx="51753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感谢您的关注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6640" y="6324480"/>
            <a:ext cx="62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17:42Z</dcterms:created>
  <dc:creator/>
  <dc:description/>
  <dc:language>en-US</dc:language>
  <cp:lastModifiedBy>007</cp:lastModifiedBy>
  <dcterms:modified xsi:type="dcterms:W3CDTF">2015-01-11T11:48:5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