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gif" ContentType="image/gi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33A8-1E34-4BC7-9105-72D3F307F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948A-8753-410A-ABBC-185974F2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E549-850A-4BA2-A7DF-A97DB311B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01A5-B5C7-48B0-95B7-8A214CA30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0DEA-5F37-44A8-98AB-449ABB56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7586-9278-4C99-AA38-1E2126B0A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5D36-8AE0-4685-AF82-0C927B15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74E1-4DD8-44A4-8EFF-C1493618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625E-040E-445E-9F00-B647ED8E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4763-D663-40A8-9F72-D7158721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C22E-E66F-422E-8369-87B74CF9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1362-9EA4-42FE-97AD-928FE82C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C51B-96E3-46A6-945C-0BBDF935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C80A-07AC-42BD-A300-987BBF26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93EE-F241-42A2-AEE1-0DD8B9F8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AF01-D65D-4FEB-8CA4-0F3AF266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AD36-B389-4CBD-82F4-E63739DE2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4D3C-3CC3-46DB-9FD2-7BE7354AB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B70B-2AED-4A82-841A-505B8761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BE17-6B0A-4214-80A1-8B549027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A3C7-B8C7-4ECD-8F00-2E40515C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F857-76C4-424C-9A8B-F3CCEBE0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3630-6325-474B-8298-420824C2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7846-ACD0-4DC0-A475-954C03E4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9710-9F9F-4065-B23D-CA9316CCD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矩形 9"/>
          <p:cNvSpPr/>
          <p:nvPr/>
        </p:nvSpPr>
        <p:spPr>
          <a:xfrm>
            <a:off x="71280" y="6572160"/>
            <a:ext cx="9001440" cy="214560"/>
          </a:xfrm>
          <a:prstGeom prst="rect">
            <a:avLst/>
          </a:prstGeom>
          <a:gradFill rotWithShape="0">
            <a:gsLst>
              <a:gs pos="0">
                <a:srgbClr val="500000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图片 10" descr="13.png"/>
          <p:cNvPicPr/>
          <p:nvPr/>
        </p:nvPicPr>
        <p:blipFill>
          <a:blip r:embed="rId2"/>
          <a:stretch/>
        </p:blipFill>
        <p:spPr>
          <a:xfrm>
            <a:off x="6192720" y="5653080"/>
            <a:ext cx="2951280" cy="157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6201" t="0" r="4049" b="0"/>
          <a:stretch/>
        </p:blipFill>
        <p:spPr>
          <a:xfrm>
            <a:off x="-17640" y="1440"/>
            <a:ext cx="9171000" cy="6865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2720" y="220500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BEF2-CD96-4C7E-A7DF-909C1A9A2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7308720" y="189000"/>
            <a:ext cx="1725840" cy="1295280"/>
          </a:xfrm>
          <a:prstGeom prst="rect">
            <a:avLst/>
          </a:prstGeom>
          <a:ln w="0">
            <a:noFill/>
          </a:ln>
        </p:spPr>
      </p:pic>
      <p:sp>
        <p:nvSpPr>
          <p:cNvPr id="88" name="矩形 9"/>
          <p:cNvSpPr/>
          <p:nvPr/>
        </p:nvSpPr>
        <p:spPr>
          <a:xfrm>
            <a:off x="71280" y="6572160"/>
            <a:ext cx="9001440" cy="214560"/>
          </a:xfrm>
          <a:prstGeom prst="rect">
            <a:avLst/>
          </a:prstGeom>
          <a:gradFill rotWithShape="0">
            <a:gsLst>
              <a:gs pos="0">
                <a:srgbClr val="500000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2720" y="220500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12720" y="314172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79280" y="6238800"/>
            <a:ext cx="43214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18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cc66"/>
                    </a:gs>
                    <a:gs pos="100000">
                      <a:srgbClr val="ffff99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8000"/>
                    </a:srgbClr>
                  </a:outerShdw>
                </a:effectLst>
                <a:latin typeface="华文隶书"/>
              </a:rPr>
              <a:t>与国同庆，全民共欢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cc66"/>
                  </a:gs>
                  <a:gs pos="100000">
                    <a:srgbClr val="ffff99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8000"/>
                  </a:srgbClr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128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 rot="300000">
            <a:off x="1331640" y="1773000"/>
            <a:ext cx="543384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隶书"/>
              </a:rPr>
              <a:t>与国同庆</a:t>
            </a: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隶书"/>
              </a:rPr>
              <a:t>60</a:t>
            </a: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隶书"/>
              </a:rPr>
              <a:t>年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隶书"/>
              <a:ea typeface="华文隶书"/>
            </a:endParaRPr>
          </a:p>
        </p:txBody>
      </p:sp>
      <p:sp>
        <p:nvSpPr>
          <p:cNvPr id="134" name=""/>
          <p:cNvSpPr/>
          <p:nvPr/>
        </p:nvSpPr>
        <p:spPr>
          <a:xfrm>
            <a:off x="1044720" y="3141720"/>
            <a:ext cx="640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  <a:ea typeface="隶书"/>
              </a:rPr>
              <a:t>谢谢欣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61120" y="6524640"/>
            <a:ext cx="42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0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0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0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09:50:43Z</dcterms:created>
  <dc:creator/>
  <dc:description/>
  <dc:language>en-US</dc:language>
  <cp:lastModifiedBy/>
  <dcterms:modified xsi:type="dcterms:W3CDTF">2015-01-11T07:24:2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