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177-25D6-4F20-B1D9-D025C56C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A32-74E7-4761-964B-5D18F65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6C3-65A1-4014-9CFA-7435B782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8E6-0A67-4181-8E54-8E369874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D5C4-0D11-4D13-A1E4-1E861227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AADA-6F0A-40A1-989A-7A8C7B3F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CB7D-E4F0-4C14-817D-CB413BDB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533D-6264-4BA2-A42F-F9DA16AF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1C3C-0CC3-4A85-8DF6-8F2227DE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967F-DF38-42D7-8B52-725339BD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FCBF-F4E9-4C1F-848B-9C8B46AA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3CC-F5EF-47C1-A737-5E8206E8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84AD-74D6-4944-ABB6-338439B1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6003-E9BA-49AA-A6BF-D9ED930C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C230-4782-4244-A220-2F3E79A1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B2DE-9138-4152-9E85-EA9B7AB2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97FF-B517-4959-94B9-3B87D7B4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A6A-BE8B-4C0D-96E1-5B10E246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6DA-4E29-4A58-85F5-644BA6A7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D76-7797-4510-B261-EF8DD251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77D-4974-4B3E-8A5B-508C271D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68F-F276-4600-B805-73B7679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765-CEFE-416D-9D02-CCF3DE98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807-8CFA-468B-BA77-D2825EC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D97C-E0AD-48BB-8A19-8248ECB10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4768920"/>
            <a:ext cx="9142560" cy="2116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559D-CB78-437B-98E2-ADBC2ADC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000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24:38Z</dcterms:created>
  <dc:creator>Administrator</dc:creator>
  <dc:description/>
  <dc:language>en-US</dc:language>
  <cp:lastModifiedBy/>
  <dcterms:modified xsi:type="dcterms:W3CDTF">2015-01-11T12:04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