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3952B-8B48-4807-8656-429F58477A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10400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A2E72-B51A-4710-B45E-E4212BFB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9368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97724-A440-4290-B15D-9F297EA0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52600" y="16761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8000" y="16761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10400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52600" y="410400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8000" y="410400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774F5-946C-4751-87D0-B13430B1FE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7C58C-8898-4B1F-B915-2F9E5AA7A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746FD-A279-438B-B031-AEC63060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0B907-5F7F-48C6-AFA2-38313AA6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61C1D-8CFC-46C7-931A-DC895049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5D026-8327-4E65-BCA6-33DEE5BE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2057400" y="609480"/>
            <a:ext cx="60199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A8701-D351-49AB-863F-A0F6ADAD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4B384-D42A-4F88-AF26-5E4E0FD6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647CA-6FE8-4273-A4FA-CC894050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9368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CB949-AEF4-4DAE-A479-EDC7BBC8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49C8C-2675-4667-95DD-1609614C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10400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B3E60-FD6F-4E60-8064-92643A1B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9368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314AA-7505-494E-9010-852CEB6F6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52600" y="16761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48000" y="16761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10400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52600" y="410400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48000" y="410400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5A6B2-A909-4231-9E1E-05F0BC50C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30A28-F8E7-4BD9-81AF-27F856A3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FD422-883E-4DE7-A1F4-68783E85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6BC5B-3EF3-4CF7-9F95-BE459B61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057400" y="609480"/>
            <a:ext cx="60199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FCEC3-4217-47A6-B6D8-C990F3873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10465-ACE3-48EC-98FD-4E0BF26C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9368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A858B-6E67-4732-B452-1975C573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6E325-C842-477E-9C03-9A9DE06C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79280" y="0"/>
            <a:ext cx="6804000" cy="6858000"/>
          </a:xfrm>
          <a:prstGeom prst="ellipse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c0c0c0">
                  <a:alpha val="4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549360"/>
            <a:ext cx="9144000" cy="647640"/>
          </a:xfrm>
          <a:prstGeom prst="rect">
            <a:avLst/>
          </a:prstGeom>
          <a:solidFill>
            <a:srgbClr val="5e9c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16000" y="58680"/>
            <a:ext cx="865080" cy="892080"/>
          </a:xfrm>
          <a:prstGeom prst="ellipse">
            <a:avLst/>
          </a:prstGeom>
          <a:solidFill>
            <a:srgbClr val="93c052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01080" y="106200"/>
            <a:ext cx="790560" cy="830520"/>
          </a:xfrm>
          <a:prstGeom prst="ellipse">
            <a:avLst/>
          </a:prstGeom>
          <a:solidFill>
            <a:srgbClr val="003399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324000" y="630864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e9cda"/>
                </a:solidFill>
                <a:latin typeface="Bauhaus 9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2AA9-6D4E-456A-A359-6F645851437F}" type="slidenum">
              <a:rPr b="0" lang="zh-CN" sz="1400" spc="-1" strike="noStrike">
                <a:solidFill>
                  <a:srgbClr val="5e9cda"/>
                </a:solidFill>
                <a:latin typeface="Bauhaus 9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380880" y="653400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133640" y="76320"/>
            <a:ext cx="828360" cy="857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79280" y="333360"/>
            <a:ext cx="1152720" cy="1224000"/>
          </a:xfrm>
          <a:prstGeom prst="ellipse">
            <a:avLst/>
          </a:prstGeom>
          <a:solidFill>
            <a:srgbClr val="855ada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90440" y="352440"/>
            <a:ext cx="1128600" cy="1185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120160" y="123840"/>
            <a:ext cx="757080" cy="7952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4360" y="333360"/>
            <a:ext cx="5905440" cy="5761080"/>
          </a:xfrm>
          <a:prstGeom prst="ellipse">
            <a:avLst/>
          </a:prstGeom>
          <a:gradFill rotWithShape="0">
            <a:gsLst>
              <a:gs pos="0">
                <a:srgbClr val="fefefe">
                  <a:alpha val="80000"/>
                </a:srgbClr>
              </a:gs>
              <a:gs pos="100000">
                <a:srgbClr val="c0c0c0">
                  <a:alpha val="4823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437000"/>
            <a:ext cx="9144000" cy="1728720"/>
          </a:xfrm>
          <a:prstGeom prst="rect">
            <a:avLst/>
          </a:prstGeom>
          <a:solidFill>
            <a:srgbClr val="5e9c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1628640"/>
            <a:ext cx="3529080" cy="3672000"/>
          </a:xfrm>
          <a:prstGeom prst="ellipse">
            <a:avLst/>
          </a:prstGeom>
          <a:solidFill>
            <a:srgbClr val="93c052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58920" y="260280"/>
            <a:ext cx="934920" cy="936720"/>
          </a:xfrm>
          <a:prstGeom prst="ellipse">
            <a:avLst/>
          </a:prstGeom>
          <a:solidFill>
            <a:srgbClr val="003399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11640" y="2637000"/>
            <a:ext cx="1224000" cy="1223640"/>
          </a:xfrm>
          <a:prstGeom prst="ellipse">
            <a:avLst/>
          </a:prstGeom>
          <a:solidFill>
            <a:srgbClr val="1babe5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dt" idx="3"/>
          </p:nvPr>
        </p:nvSpPr>
        <p:spPr>
          <a:xfrm>
            <a:off x="3580920" y="6400440"/>
            <a:ext cx="22100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4"/>
          </p:nvPr>
        </p:nvSpPr>
        <p:spPr>
          <a:xfrm>
            <a:off x="5933880" y="6391080"/>
            <a:ext cx="19335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&lt;footer&gt;</a:t>
            </a: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www.dayeh.com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5"/>
          </p:nvPr>
        </p:nvSpPr>
        <p:spPr>
          <a:xfrm>
            <a:off x="380520" y="64004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4878-99EC-4D76-A83D-7AF7DFAEA8E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4266720" y="121932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3600" y="1650960"/>
            <a:ext cx="3490920" cy="3629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76200" y="277920"/>
            <a:ext cx="900360" cy="900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55960" y="3500280"/>
            <a:ext cx="1582920" cy="1582920"/>
          </a:xfrm>
          <a:prstGeom prst="ellipse">
            <a:avLst/>
          </a:prstGeom>
          <a:solidFill>
            <a:srgbClr val="855ada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81520" y="3521160"/>
            <a:ext cx="1533600" cy="15429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268280"/>
            <a:ext cx="1438200" cy="1511280"/>
          </a:xfrm>
          <a:prstGeom prst="ellipse">
            <a:avLst/>
          </a:prstGeom>
          <a:solidFill>
            <a:srgbClr val="855ada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0120" y="1287360"/>
            <a:ext cx="1419480" cy="14623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3399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66720" y="121932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440" y="5486040"/>
            <a:ext cx="7620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162560" y="645336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B9D5A-E4EC-4CBC-8FDD-4EB2AADA16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ff9933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ff9933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ff9933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6C529-5190-4F6A-919D-F5E0AE9DB2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06:15:04Z</dcterms:created>
  <dc:creator/>
  <dc:description/>
  <dc:language>en-US</dc:language>
  <cp:lastModifiedBy>大业管理</cp:lastModifiedBy>
  <dcterms:modified xsi:type="dcterms:W3CDTF">2015-01-10T12:52:16Z</dcterms:modified>
  <cp:revision>3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